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260760" y="5109480"/>
            <a:ext cx="1127880" cy="842760"/>
            <a:chOff x="6260760" y="5109480"/>
            <a:chExt cx="1127880" cy="842760"/>
          </a:xfrm>
        </p:grpSpPr>
        <p:grpSp>
          <p:nvGrpSpPr>
            <p:cNvPr id="56" name=""/>
            <p:cNvGrpSpPr/>
            <p:nvPr/>
          </p:nvGrpSpPr>
          <p:grpSpPr>
            <a:xfrm>
              <a:off x="6260760" y="5109480"/>
              <a:ext cx="1127880" cy="842760"/>
              <a:chOff x="6260760" y="5109480"/>
              <a:chExt cx="1127880" cy="842760"/>
            </a:xfrm>
          </p:grpSpPr>
          <p:sp>
            <p:nvSpPr>
              <p:cNvPr id="57" name=""/>
              <p:cNvSpPr/>
              <p:nvPr/>
            </p:nvSpPr>
            <p:spPr>
              <a:xfrm rot="20700000">
                <a:off x="6321600" y="5229000"/>
                <a:ext cx="1006200" cy="603000"/>
              </a:xfrm>
              <a:prstGeom prst="roundRect">
                <a:avLst>
                  <a:gd name="adj" fmla="val 5454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e8e8e8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6414120" y="5499000"/>
                <a:ext cx="180720" cy="165960"/>
                <a:chOff x="6414120" y="5499000"/>
                <a:chExt cx="180720" cy="165960"/>
              </a:xfrm>
            </p:grpSpPr>
            <p:sp>
              <p:nvSpPr>
                <p:cNvPr id="59" name=""/>
                <p:cNvSpPr/>
                <p:nvPr/>
              </p:nvSpPr>
              <p:spPr>
                <a:xfrm rot="20700000">
                  <a:off x="6428160" y="5516640"/>
                  <a:ext cx="151920" cy="130680"/>
                </a:xfrm>
                <a:prstGeom prst="roundRect">
                  <a:avLst>
                    <a:gd name="adj" fmla="val 17847"/>
                  </a:avLst>
                </a:prstGeom>
                <a:gradFill rotWithShape="0">
                  <a:gsLst>
                    <a:gs pos="0">
                      <a:srgbClr val="ffcc66"/>
                    </a:gs>
                    <a:gs pos="50000">
                      <a:srgbClr val="feecca"/>
                    </a:gs>
                    <a:gs pos="100000">
                      <a:srgbClr val="ffcc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20700000">
                  <a:off x="6475680" y="5510160"/>
                  <a:ext cx="101160" cy="110880"/>
                </a:xfrm>
                <a:custGeom>
                  <a:avLst/>
                  <a:gdLst/>
                  <a:ahLst/>
                  <a:rect l="l" t="t" r="r" b="b"/>
                  <a:pathLst>
                    <a:path w="1087" h="1271">
                      <a:moveTo>
                        <a:pt x="271" y="0"/>
                      </a:moveTo>
                      <a:lnTo>
                        <a:pt x="271" y="227"/>
                      </a:lnTo>
                      <a:lnTo>
                        <a:pt x="44" y="227"/>
                      </a:lnTo>
                      <a:lnTo>
                        <a:pt x="0" y="279"/>
                      </a:lnTo>
                      <a:lnTo>
                        <a:pt x="0" y="1219"/>
                      </a:lnTo>
                      <a:lnTo>
                        <a:pt x="56" y="1271"/>
                      </a:lnTo>
                      <a:lnTo>
                        <a:pt x="488" y="1271"/>
                      </a:lnTo>
                      <a:lnTo>
                        <a:pt x="544" y="1219"/>
                      </a:lnTo>
                      <a:lnTo>
                        <a:pt x="543" y="499"/>
                      </a:lnTo>
                      <a:lnTo>
                        <a:pt x="589" y="454"/>
                      </a:lnTo>
                      <a:lnTo>
                        <a:pt x="1087" y="454"/>
                      </a:lnTo>
                    </a:path>
                  </a:pathLst>
                </a:custGeom>
                <a:noFill/>
                <a:ln w="1260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6438600" y="5617440"/>
                  <a:ext cx="4860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6431400" y="5590440"/>
                  <a:ext cx="4860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>
                  <a:off x="6424200" y="5563800"/>
                  <a:ext cx="4896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>
                  <a:off x="6536520" y="5591160"/>
                  <a:ext cx="4860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>
                  <a:off x="6529320" y="5564520"/>
                  <a:ext cx="4860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516000" y="5626080"/>
                  <a:ext cx="5400" cy="1908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20700000">
                  <a:off x="6475680" y="5510160"/>
                  <a:ext cx="101160" cy="110880"/>
                </a:xfrm>
                <a:custGeom>
                  <a:avLst/>
                  <a:gdLst/>
                  <a:ahLst/>
                  <a:rect l="l" t="t" r="r" b="b"/>
                  <a:pathLst>
                    <a:path w="1087" h="1271">
                      <a:moveTo>
                        <a:pt x="271" y="0"/>
                      </a:moveTo>
                      <a:lnTo>
                        <a:pt x="271" y="227"/>
                      </a:lnTo>
                      <a:lnTo>
                        <a:pt x="44" y="227"/>
                      </a:lnTo>
                      <a:lnTo>
                        <a:pt x="0" y="279"/>
                      </a:lnTo>
                      <a:lnTo>
                        <a:pt x="0" y="1219"/>
                      </a:lnTo>
                      <a:lnTo>
                        <a:pt x="56" y="1271"/>
                      </a:lnTo>
                      <a:lnTo>
                        <a:pt x="488" y="1271"/>
                      </a:lnTo>
                      <a:lnTo>
                        <a:pt x="544" y="1219"/>
                      </a:lnTo>
                      <a:lnTo>
                        <a:pt x="543" y="499"/>
                      </a:lnTo>
                      <a:lnTo>
                        <a:pt x="589" y="454"/>
                      </a:lnTo>
                      <a:lnTo>
                        <a:pt x="1087" y="454"/>
                      </a:lnTo>
                    </a:path>
                  </a:pathLst>
                </a:custGeom>
                <a:noFill/>
                <a:ln w="32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>
                  <a:off x="6438600" y="5617440"/>
                  <a:ext cx="4860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>
                  <a:off x="6431400" y="5590440"/>
                  <a:ext cx="4860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6424200" y="5563800"/>
                  <a:ext cx="4896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>
                  <a:off x="6536520" y="5591160"/>
                  <a:ext cx="4860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>
                  <a:off x="6529320" y="5564520"/>
                  <a:ext cx="4860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6516000" y="5626080"/>
                  <a:ext cx="5400" cy="1908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"/>
            <p:cNvSpPr/>
            <p:nvPr/>
          </p:nvSpPr>
          <p:spPr>
            <a:xfrm rot="20700000">
              <a:off x="6679440" y="5320080"/>
              <a:ext cx="362520" cy="453240"/>
            </a:xfrm>
            <a:custGeom>
              <a:avLst/>
              <a:gdLst/>
              <a:ahLst/>
              <a:rect l="l" t="t" r="r" b="b"/>
              <a:pathLst>
                <a:path w="726" h="907">
                  <a:moveTo>
                    <a:pt x="363" y="318"/>
                  </a:moveTo>
                  <a:lnTo>
                    <a:pt x="182" y="0"/>
                  </a:lnTo>
                  <a:lnTo>
                    <a:pt x="0" y="0"/>
                  </a:lnTo>
                  <a:lnTo>
                    <a:pt x="273" y="454"/>
                  </a:lnTo>
                  <a:lnTo>
                    <a:pt x="46" y="454"/>
                  </a:lnTo>
                  <a:lnTo>
                    <a:pt x="46" y="590"/>
                  </a:lnTo>
                  <a:lnTo>
                    <a:pt x="273" y="590"/>
                  </a:lnTo>
                  <a:lnTo>
                    <a:pt x="273" y="635"/>
                  </a:lnTo>
                  <a:lnTo>
                    <a:pt x="46" y="635"/>
                  </a:lnTo>
                  <a:lnTo>
                    <a:pt x="46" y="771"/>
                  </a:lnTo>
                  <a:lnTo>
                    <a:pt x="273" y="771"/>
                  </a:lnTo>
                  <a:lnTo>
                    <a:pt x="273" y="907"/>
                  </a:lnTo>
                  <a:lnTo>
                    <a:pt x="454" y="907"/>
                  </a:lnTo>
                  <a:lnTo>
                    <a:pt x="454" y="771"/>
                  </a:lnTo>
                  <a:lnTo>
                    <a:pt x="681" y="771"/>
                  </a:lnTo>
                  <a:lnTo>
                    <a:pt x="681" y="635"/>
                  </a:lnTo>
                  <a:lnTo>
                    <a:pt x="454" y="635"/>
                  </a:lnTo>
                  <a:lnTo>
                    <a:pt x="454" y="590"/>
                  </a:lnTo>
                  <a:lnTo>
                    <a:pt x="681" y="590"/>
                  </a:lnTo>
                  <a:lnTo>
                    <a:pt x="681" y="454"/>
                  </a:lnTo>
                  <a:lnTo>
                    <a:pt x="454" y="454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363" y="3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289720" y="5084640"/>
            <a:ext cx="789480" cy="918360"/>
            <a:chOff x="8289720" y="5084640"/>
            <a:chExt cx="789480" cy="918360"/>
          </a:xfrm>
        </p:grpSpPr>
        <p:sp>
          <p:nvSpPr>
            <p:cNvPr id="76" name=""/>
            <p:cNvSpPr/>
            <p:nvPr/>
          </p:nvSpPr>
          <p:spPr>
            <a:xfrm>
              <a:off x="8502840" y="5084640"/>
              <a:ext cx="230760" cy="2307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0700000">
              <a:off x="8634960" y="5315040"/>
              <a:ext cx="165240" cy="3632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9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700000">
              <a:off x="8486640" y="5628960"/>
              <a:ext cx="99000" cy="396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900000">
              <a:off x="8799840" y="5612040"/>
              <a:ext cx="231480" cy="23148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0"/>
                  </a:moveTo>
                  <a:lnTo>
                    <a:pt x="136" y="0"/>
                  </a:lnTo>
                  <a:lnTo>
                    <a:pt x="136" y="182"/>
                  </a:lnTo>
                  <a:lnTo>
                    <a:pt x="318" y="182"/>
                  </a:lnTo>
                  <a:lnTo>
                    <a:pt x="318" y="318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900000">
              <a:off x="8337600" y="5315040"/>
              <a:ext cx="231480" cy="23148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0"/>
                  </a:moveTo>
                  <a:lnTo>
                    <a:pt x="91" y="0"/>
                  </a:lnTo>
                  <a:lnTo>
                    <a:pt x="91" y="227"/>
                  </a:lnTo>
                  <a:lnTo>
                    <a:pt x="318" y="227"/>
                  </a:lnTo>
                  <a:lnTo>
                    <a:pt x="318" y="318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8100000">
              <a:off x="8799120" y="5216040"/>
              <a:ext cx="231480" cy="23148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0"/>
                  </a:moveTo>
                  <a:lnTo>
                    <a:pt x="91" y="0"/>
                  </a:lnTo>
                  <a:lnTo>
                    <a:pt x="91" y="227"/>
                  </a:lnTo>
                  <a:lnTo>
                    <a:pt x="318" y="227"/>
                  </a:lnTo>
                  <a:lnTo>
                    <a:pt x="318" y="318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265960" y="3068640"/>
            <a:ext cx="827280" cy="1008000"/>
            <a:chOff x="8265960" y="3068640"/>
            <a:chExt cx="827280" cy="1008000"/>
          </a:xfrm>
        </p:grpSpPr>
        <p:grpSp>
          <p:nvGrpSpPr>
            <p:cNvPr id="83" name=""/>
            <p:cNvGrpSpPr/>
            <p:nvPr/>
          </p:nvGrpSpPr>
          <p:grpSpPr>
            <a:xfrm>
              <a:off x="8669160" y="3068640"/>
              <a:ext cx="424080" cy="1008000"/>
              <a:chOff x="8669160" y="3068640"/>
              <a:chExt cx="424080" cy="1008000"/>
            </a:xfrm>
          </p:grpSpPr>
          <p:sp>
            <p:nvSpPr>
              <p:cNvPr id="84" name=""/>
              <p:cNvSpPr/>
              <p:nvPr/>
            </p:nvSpPr>
            <p:spPr>
              <a:xfrm>
                <a:off x="8748000" y="3068640"/>
                <a:ext cx="264960" cy="264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0800000">
                <a:off x="8669160" y="3333960"/>
                <a:ext cx="424080" cy="450720"/>
              </a:xfrm>
              <a:custGeom>
                <a:avLst/>
                <a:gdLst>
                  <a:gd name="textAreaLeft" fmla="*/ 93240 w 424080"/>
                  <a:gd name="textAreaRight" fmla="*/ 330840 w 424080"/>
                  <a:gd name="textAreaTop" fmla="*/ 99360 h 450720"/>
                  <a:gd name="textAreaBottom" fmla="*/ 35136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178" y="21600"/>
                    </a:lnTo>
                    <a:lnTo>
                      <a:pt x="5422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e7474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75360" y="3785040"/>
                <a:ext cx="106560" cy="291600"/>
              </a:xfrm>
              <a:custGeom>
                <a:avLst/>
                <a:gdLst>
                  <a:gd name="textAreaLeft" fmla="*/ 29880 w 106560"/>
                  <a:gd name="textAreaRight" fmla="*/ 76680 w 106560"/>
                  <a:gd name="textAreaTop" fmla="*/ 82440 h 291600"/>
                  <a:gd name="textAreaBottom" fmla="*/ 209160 h 29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767" y="21600"/>
                    </a:lnTo>
                    <a:lnTo>
                      <a:pt x="783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e7474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881560" y="3785040"/>
                <a:ext cx="106200" cy="291600"/>
              </a:xfrm>
              <a:custGeom>
                <a:avLst/>
                <a:gdLst>
                  <a:gd name="textAreaLeft" fmla="*/ 29880 w 106200"/>
                  <a:gd name="textAreaRight" fmla="*/ 76320 w 106200"/>
                  <a:gd name="textAreaTop" fmla="*/ 82440 h 291600"/>
                  <a:gd name="textAreaBottom" fmla="*/ 209160 h 29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767" y="21600"/>
                    </a:lnTo>
                    <a:lnTo>
                      <a:pt x="783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e7474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8265960" y="3068640"/>
              <a:ext cx="424080" cy="1008000"/>
              <a:chOff x="8265960" y="3068640"/>
              <a:chExt cx="424080" cy="1008000"/>
            </a:xfrm>
          </p:grpSpPr>
          <p:sp>
            <p:nvSpPr>
              <p:cNvPr id="89" name=""/>
              <p:cNvSpPr/>
              <p:nvPr/>
            </p:nvSpPr>
            <p:spPr>
              <a:xfrm>
                <a:off x="8345880" y="3068640"/>
                <a:ext cx="264960" cy="2646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acacd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65960" y="3333960"/>
                <a:ext cx="424080" cy="450720"/>
              </a:xfrm>
              <a:custGeom>
                <a:avLst/>
                <a:gdLst>
                  <a:gd name="textAreaLeft" fmla="*/ 82440 w 424080"/>
                  <a:gd name="textAreaRight" fmla="*/ 341640 w 424080"/>
                  <a:gd name="textAreaTop" fmla="*/ 87480 h 450720"/>
                  <a:gd name="textAreaBottom" fmla="*/ 36324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191" y="21600"/>
                    </a:lnTo>
                    <a:lnTo>
                      <a:pt x="440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acacd5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8385120" y="3785040"/>
                <a:ext cx="185400" cy="291600"/>
                <a:chOff x="8385120" y="3785040"/>
                <a:chExt cx="185400" cy="2916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385120" y="3785040"/>
                  <a:ext cx="79200" cy="29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99"/>
                    </a:gs>
                    <a:gs pos="50000">
                      <a:srgbClr val="acacd5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490960" y="3785040"/>
                  <a:ext cx="79560" cy="29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99"/>
                    </a:gs>
                    <a:gs pos="50000">
                      <a:srgbClr val="acacd5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" name=""/>
          <p:cNvGrpSpPr/>
          <p:nvPr/>
        </p:nvGrpSpPr>
        <p:grpSpPr>
          <a:xfrm>
            <a:off x="6392880" y="3213000"/>
            <a:ext cx="936360" cy="677520"/>
            <a:chOff x="6392880" y="3213000"/>
            <a:chExt cx="936360" cy="677520"/>
          </a:xfrm>
        </p:grpSpPr>
        <p:grpSp>
          <p:nvGrpSpPr>
            <p:cNvPr id="95" name=""/>
            <p:cNvGrpSpPr/>
            <p:nvPr/>
          </p:nvGrpSpPr>
          <p:grpSpPr>
            <a:xfrm>
              <a:off x="6746040" y="3290040"/>
              <a:ext cx="583200" cy="600480"/>
              <a:chOff x="6746040" y="3290040"/>
              <a:chExt cx="583200" cy="600480"/>
            </a:xfrm>
          </p:grpSpPr>
          <p:sp>
            <p:nvSpPr>
              <p:cNvPr id="96" name=""/>
              <p:cNvSpPr/>
              <p:nvPr/>
            </p:nvSpPr>
            <p:spPr>
              <a:xfrm>
                <a:off x="6747840" y="3290040"/>
                <a:ext cx="573480" cy="600480"/>
              </a:xfrm>
              <a:custGeom>
                <a:avLst/>
                <a:gdLst/>
                <a:ahLst/>
                <a:rect l="l" t="t" r="r" b="b"/>
                <a:pathLst>
                  <a:path w="960" h="747">
                    <a:moveTo>
                      <a:pt x="53" y="97"/>
                    </a:moveTo>
                    <a:cubicBezTo>
                      <a:pt x="106" y="22"/>
                      <a:pt x="257" y="14"/>
                      <a:pt x="370" y="7"/>
                    </a:cubicBezTo>
                    <a:cubicBezTo>
                      <a:pt x="483" y="0"/>
                      <a:pt x="673" y="22"/>
                      <a:pt x="733" y="52"/>
                    </a:cubicBezTo>
                    <a:cubicBezTo>
                      <a:pt x="793" y="82"/>
                      <a:pt x="725" y="128"/>
                      <a:pt x="733" y="188"/>
                    </a:cubicBezTo>
                    <a:cubicBezTo>
                      <a:pt x="741" y="248"/>
                      <a:pt x="748" y="347"/>
                      <a:pt x="778" y="415"/>
                    </a:cubicBezTo>
                    <a:cubicBezTo>
                      <a:pt x="808" y="483"/>
                      <a:pt x="960" y="543"/>
                      <a:pt x="915" y="596"/>
                    </a:cubicBezTo>
                    <a:cubicBezTo>
                      <a:pt x="870" y="649"/>
                      <a:pt x="627" y="717"/>
                      <a:pt x="506" y="732"/>
                    </a:cubicBezTo>
                    <a:cubicBezTo>
                      <a:pt x="385" y="747"/>
                      <a:pt x="264" y="732"/>
                      <a:pt x="189" y="687"/>
                    </a:cubicBezTo>
                    <a:cubicBezTo>
                      <a:pt x="114" y="642"/>
                      <a:pt x="76" y="558"/>
                      <a:pt x="53" y="460"/>
                    </a:cubicBezTo>
                    <a:cubicBezTo>
                      <a:pt x="30" y="362"/>
                      <a:pt x="0" y="172"/>
                      <a:pt x="53" y="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46040" y="3314160"/>
                <a:ext cx="583200" cy="552240"/>
              </a:xfrm>
              <a:custGeom>
                <a:avLst/>
                <a:gdLst/>
                <a:ahLst/>
                <a:rect l="l" t="t" r="r" b="b"/>
                <a:pathLst>
                  <a:path w="960" h="747">
                    <a:moveTo>
                      <a:pt x="53" y="97"/>
                    </a:moveTo>
                    <a:cubicBezTo>
                      <a:pt x="106" y="22"/>
                      <a:pt x="257" y="14"/>
                      <a:pt x="370" y="7"/>
                    </a:cubicBezTo>
                    <a:cubicBezTo>
                      <a:pt x="483" y="0"/>
                      <a:pt x="673" y="22"/>
                      <a:pt x="733" y="52"/>
                    </a:cubicBezTo>
                    <a:cubicBezTo>
                      <a:pt x="793" y="82"/>
                      <a:pt x="725" y="128"/>
                      <a:pt x="733" y="188"/>
                    </a:cubicBezTo>
                    <a:cubicBezTo>
                      <a:pt x="741" y="248"/>
                      <a:pt x="748" y="347"/>
                      <a:pt x="778" y="415"/>
                    </a:cubicBezTo>
                    <a:cubicBezTo>
                      <a:pt x="808" y="483"/>
                      <a:pt x="960" y="543"/>
                      <a:pt x="915" y="596"/>
                    </a:cubicBezTo>
                    <a:cubicBezTo>
                      <a:pt x="870" y="649"/>
                      <a:pt x="627" y="717"/>
                      <a:pt x="506" y="732"/>
                    </a:cubicBezTo>
                    <a:cubicBezTo>
                      <a:pt x="385" y="747"/>
                      <a:pt x="264" y="732"/>
                      <a:pt x="189" y="687"/>
                    </a:cubicBezTo>
                    <a:cubicBezTo>
                      <a:pt x="114" y="642"/>
                      <a:pt x="76" y="558"/>
                      <a:pt x="53" y="460"/>
                    </a:cubicBezTo>
                    <a:cubicBezTo>
                      <a:pt x="30" y="362"/>
                      <a:pt x="0" y="172"/>
                      <a:pt x="53" y="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0836800">
                <a:off x="6809760" y="3463920"/>
                <a:ext cx="368640" cy="240120"/>
              </a:xfrm>
              <a:prstGeom prst="ellipse">
                <a:avLst/>
              </a:prstGeom>
              <a:solidFill>
                <a:srgbClr val="ffff99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809760" y="3494880"/>
                <a:ext cx="378000" cy="171360"/>
                <a:chOff x="6809760" y="3494880"/>
                <a:chExt cx="378000" cy="171360"/>
              </a:xfrm>
            </p:grpSpPr>
            <p:sp>
              <p:nvSpPr>
                <p:cNvPr id="100" name=""/>
                <p:cNvSpPr/>
                <p:nvPr/>
              </p:nvSpPr>
              <p:spPr>
                <a:xfrm rot="21128400">
                  <a:off x="6811200" y="3567600"/>
                  <a:ext cx="1548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21128400">
                  <a:off x="6822720" y="3539520"/>
                  <a:ext cx="4788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21128400">
                  <a:off x="6820920" y="3638880"/>
                  <a:ext cx="4788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21128400">
                  <a:off x="6865200" y="3610080"/>
                  <a:ext cx="15480" cy="2448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21128400">
                  <a:off x="6829560" y="3588480"/>
                  <a:ext cx="32040" cy="2448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21128400">
                  <a:off x="7150680" y="3571200"/>
                  <a:ext cx="1620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21128400">
                  <a:off x="7143840" y="3522240"/>
                  <a:ext cx="16200" cy="2448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21128400">
                  <a:off x="7169760" y="3593160"/>
                  <a:ext cx="16200" cy="2448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21128400">
                  <a:off x="7156080" y="3495600"/>
                  <a:ext cx="1620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21128400">
                  <a:off x="6892920" y="3531240"/>
                  <a:ext cx="32040" cy="1231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6" y="227"/>
                      </a:moveTo>
                      <a:lnTo>
                        <a:pt x="46" y="91"/>
                      </a:lnTo>
                      <a:lnTo>
                        <a:pt x="91" y="91"/>
                      </a:lnTo>
                      <a:lnTo>
                        <a:pt x="91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6" y="227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21128400">
                  <a:off x="6924960" y="3526920"/>
                  <a:ext cx="32040" cy="1231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5" y="91"/>
                      </a:moveTo>
                      <a:lnTo>
                        <a:pt x="45" y="0"/>
                      </a:lnTo>
                      <a:lnTo>
                        <a:pt x="91" y="0"/>
                      </a:lnTo>
                      <a:lnTo>
                        <a:pt x="91" y="227"/>
                      </a:lnTo>
                      <a:lnTo>
                        <a:pt x="45" y="227"/>
                      </a:lnTo>
                      <a:lnTo>
                        <a:pt x="45" y="182"/>
                      </a:lnTo>
                      <a:lnTo>
                        <a:pt x="0" y="182"/>
                      </a:lnTo>
                      <a:lnTo>
                        <a:pt x="0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21128400">
                  <a:off x="7115040" y="3500640"/>
                  <a:ext cx="32040" cy="1231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5" y="91"/>
                      </a:moveTo>
                      <a:lnTo>
                        <a:pt x="45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5" y="227"/>
                      </a:lnTo>
                      <a:lnTo>
                        <a:pt x="45" y="137"/>
                      </a:lnTo>
                      <a:lnTo>
                        <a:pt x="91" y="137"/>
                      </a:lnTo>
                      <a:lnTo>
                        <a:pt x="91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21128400">
                  <a:off x="7051680" y="3508200"/>
                  <a:ext cx="47880" cy="12312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136" y="0"/>
                      </a:move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136" y="227"/>
                      </a:lnTo>
                      <a:lnTo>
                        <a:pt x="136" y="182"/>
                      </a:lnTo>
                      <a:lnTo>
                        <a:pt x="45" y="182"/>
                      </a:lnTo>
                      <a:lnTo>
                        <a:pt x="45" y="46"/>
                      </a:lnTo>
                      <a:lnTo>
                        <a:pt x="136" y="46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21128400">
                  <a:off x="6972120" y="3518280"/>
                  <a:ext cx="64080" cy="122400"/>
                </a:xfrm>
                <a:custGeom>
                  <a:avLst/>
                  <a:gdLst/>
                  <a:ahLst/>
                  <a:rect l="l" t="t" r="r" b="b"/>
                  <a:pathLst>
                    <a:path w="182" h="226">
                      <a:moveTo>
                        <a:pt x="46" y="45"/>
                      </a:moveTo>
                      <a:lnTo>
                        <a:pt x="46" y="90"/>
                      </a:lnTo>
                      <a:lnTo>
                        <a:pt x="136" y="90"/>
                      </a:lnTo>
                      <a:lnTo>
                        <a:pt x="136" y="136"/>
                      </a:lnTo>
                      <a:lnTo>
                        <a:pt x="46" y="136"/>
                      </a:lnTo>
                      <a:lnTo>
                        <a:pt x="46" y="226"/>
                      </a:lnTo>
                      <a:lnTo>
                        <a:pt x="0" y="226"/>
                      </a:lnTo>
                      <a:lnTo>
                        <a:pt x="0" y="0"/>
                      </a:lnTo>
                      <a:lnTo>
                        <a:pt x="182" y="0"/>
                      </a:lnTo>
                      <a:lnTo>
                        <a:pt x="182" y="226"/>
                      </a:lnTo>
                      <a:lnTo>
                        <a:pt x="136" y="226"/>
                      </a:lnTo>
                      <a:lnTo>
                        <a:pt x="136" y="45"/>
                      </a:lnTo>
                      <a:lnTo>
                        <a:pt x="46" y="45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" name=""/>
            <p:cNvGrpSpPr/>
            <p:nvPr/>
          </p:nvGrpSpPr>
          <p:grpSpPr>
            <a:xfrm>
              <a:off x="6392880" y="3213000"/>
              <a:ext cx="369000" cy="675720"/>
              <a:chOff x="6392880" y="3213000"/>
              <a:chExt cx="369000" cy="675720"/>
            </a:xfrm>
          </p:grpSpPr>
          <p:sp>
            <p:nvSpPr>
              <p:cNvPr id="115" name=""/>
              <p:cNvSpPr/>
              <p:nvPr/>
            </p:nvSpPr>
            <p:spPr>
              <a:xfrm>
                <a:off x="6408360" y="3243240"/>
                <a:ext cx="338400" cy="614160"/>
              </a:xfrm>
              <a:prstGeom prst="rect">
                <a:avLst/>
              </a:pr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6530400" y="3318480"/>
                <a:ext cx="108720" cy="460080"/>
                <a:chOff x="6530400" y="3318480"/>
                <a:chExt cx="108720" cy="460080"/>
              </a:xfrm>
            </p:grpSpPr>
            <p:sp>
              <p:nvSpPr>
                <p:cNvPr id="117" name=""/>
                <p:cNvSpPr/>
                <p:nvPr/>
              </p:nvSpPr>
              <p:spPr>
                <a:xfrm rot="5400000">
                  <a:off x="6573960" y="3494160"/>
                  <a:ext cx="216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00000">
                  <a:off x="6552000" y="3735360"/>
                  <a:ext cx="21960" cy="2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5400000">
                  <a:off x="6595560" y="3735360"/>
                  <a:ext cx="21960" cy="2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5400000">
                  <a:off x="6573600" y="3362040"/>
                  <a:ext cx="21600" cy="6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5400000">
                  <a:off x="6540840" y="3483000"/>
                  <a:ext cx="21960" cy="4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5400000">
                  <a:off x="6530040" y="3756600"/>
                  <a:ext cx="2196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5400000">
                  <a:off x="6617520" y="3756960"/>
                  <a:ext cx="21960" cy="2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5400000">
                  <a:off x="6552000" y="3296880"/>
                  <a:ext cx="65520" cy="10872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136" y="0"/>
                      </a:move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136" y="227"/>
                      </a:lnTo>
                      <a:lnTo>
                        <a:pt x="136" y="182"/>
                      </a:lnTo>
                      <a:lnTo>
                        <a:pt x="45" y="182"/>
                      </a:lnTo>
                      <a:lnTo>
                        <a:pt x="45" y="46"/>
                      </a:lnTo>
                      <a:lnTo>
                        <a:pt x="136" y="46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5400000">
                  <a:off x="6540840" y="3417120"/>
                  <a:ext cx="87480" cy="108720"/>
                </a:xfrm>
                <a:custGeom>
                  <a:avLst/>
                  <a:gdLst/>
                  <a:ahLst/>
                  <a:rect l="l" t="t" r="r" b="b"/>
                  <a:pathLst>
                    <a:path w="181" h="227">
                      <a:moveTo>
                        <a:pt x="45" y="91"/>
                      </a:moveTo>
                      <a:lnTo>
                        <a:pt x="45" y="46"/>
                      </a:lnTo>
                      <a:lnTo>
                        <a:pt x="136" y="46"/>
                      </a:lnTo>
                      <a:lnTo>
                        <a:pt x="136" y="91"/>
                      </a:lnTo>
                      <a:lnTo>
                        <a:pt x="181" y="91"/>
                      </a:lnTo>
                      <a:lnTo>
                        <a:pt x="181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5" y="227"/>
                      </a:lnTo>
                      <a:lnTo>
                        <a:pt x="45" y="137"/>
                      </a:lnTo>
                      <a:lnTo>
                        <a:pt x="136" y="137"/>
                      </a:lnTo>
                      <a:lnTo>
                        <a:pt x="136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5400000">
                  <a:off x="6562800" y="3548880"/>
                  <a:ext cx="43920" cy="1087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6" y="227"/>
                      </a:moveTo>
                      <a:lnTo>
                        <a:pt x="46" y="91"/>
                      </a:lnTo>
                      <a:lnTo>
                        <a:pt x="91" y="91"/>
                      </a:lnTo>
                      <a:lnTo>
                        <a:pt x="91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6" y="2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5400000">
                  <a:off x="6562800" y="3592800"/>
                  <a:ext cx="43920" cy="1087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5" y="91"/>
                      </a:moveTo>
                      <a:lnTo>
                        <a:pt x="45" y="0"/>
                      </a:lnTo>
                      <a:lnTo>
                        <a:pt x="91" y="0"/>
                      </a:lnTo>
                      <a:lnTo>
                        <a:pt x="91" y="227"/>
                      </a:lnTo>
                      <a:lnTo>
                        <a:pt x="45" y="227"/>
                      </a:lnTo>
                      <a:lnTo>
                        <a:pt x="45" y="182"/>
                      </a:lnTo>
                      <a:lnTo>
                        <a:pt x="0" y="182"/>
                      </a:lnTo>
                      <a:lnTo>
                        <a:pt x="0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5400000">
                  <a:off x="6562800" y="3658680"/>
                  <a:ext cx="43920" cy="1087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5" y="91"/>
                      </a:moveTo>
                      <a:lnTo>
                        <a:pt x="45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5" y="227"/>
                      </a:lnTo>
                      <a:lnTo>
                        <a:pt x="45" y="137"/>
                      </a:lnTo>
                      <a:lnTo>
                        <a:pt x="91" y="137"/>
                      </a:lnTo>
                      <a:lnTo>
                        <a:pt x="91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6392880" y="3213000"/>
                <a:ext cx="369000" cy="3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92880" y="3857760"/>
                <a:ext cx="369000" cy="3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39680" y="3273840"/>
                <a:ext cx="60840" cy="553320"/>
              </a:xfrm>
              <a:custGeom>
                <a:avLst/>
                <a:gdLst/>
                <a:ahLst/>
                <a:rect l="l" t="t" r="r" b="b"/>
                <a:pathLst>
                  <a:path w="104" h="907">
                    <a:moveTo>
                      <a:pt x="52" y="0"/>
                    </a:moveTo>
                    <a:cubicBezTo>
                      <a:pt x="45" y="0"/>
                      <a:pt x="7" y="129"/>
                      <a:pt x="7" y="227"/>
                    </a:cubicBezTo>
                    <a:cubicBezTo>
                      <a:pt x="7" y="325"/>
                      <a:pt x="52" y="477"/>
                      <a:pt x="52" y="590"/>
                    </a:cubicBezTo>
                    <a:cubicBezTo>
                      <a:pt x="52" y="703"/>
                      <a:pt x="0" y="907"/>
                      <a:pt x="7" y="907"/>
                    </a:cubicBezTo>
                    <a:cubicBezTo>
                      <a:pt x="14" y="907"/>
                      <a:pt x="90" y="703"/>
                      <a:pt x="97" y="590"/>
                    </a:cubicBezTo>
                    <a:cubicBezTo>
                      <a:pt x="104" y="477"/>
                      <a:pt x="59" y="325"/>
                      <a:pt x="52" y="227"/>
                    </a:cubicBezTo>
                    <a:cubicBezTo>
                      <a:pt x="45" y="129"/>
                      <a:pt x="59" y="0"/>
                      <a:pt x="52" y="0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4452840" y="3427560"/>
            <a:ext cx="1047960" cy="388800"/>
            <a:chOff x="4452840" y="3427560"/>
            <a:chExt cx="1047960" cy="388800"/>
          </a:xfrm>
        </p:grpSpPr>
        <p:sp>
          <p:nvSpPr>
            <p:cNvPr id="133" name=""/>
            <p:cNvSpPr/>
            <p:nvPr/>
          </p:nvSpPr>
          <p:spPr>
            <a:xfrm>
              <a:off x="4452840" y="3664080"/>
              <a:ext cx="1047960" cy="67680"/>
            </a:xfrm>
            <a:prstGeom prst="roundRect">
              <a:avLst>
                <a:gd name="adj" fmla="val 31718"/>
              </a:avLst>
            </a:prstGeom>
            <a:gradFill rotWithShape="0">
              <a:gsLst>
                <a:gs pos="0">
                  <a:srgbClr val="dddddd">
                    <a:alpha val="90196"/>
                  </a:srgbClr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69760" y="3731760"/>
              <a:ext cx="1013760" cy="16560"/>
            </a:xfrm>
            <a:prstGeom prst="roundRect">
              <a:avLst>
                <a:gd name="adj" fmla="val 31718"/>
              </a:avLst>
            </a:prstGeom>
            <a:gradFill rotWithShape="0">
              <a:gsLst>
                <a:gs pos="0">
                  <a:srgbClr val="dddddd">
                    <a:alpha val="90196"/>
                  </a:srgbClr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69760" y="3427560"/>
              <a:ext cx="1013760" cy="236520"/>
            </a:xfrm>
            <a:custGeom>
              <a:avLst/>
              <a:gdLst/>
              <a:ahLst/>
              <a:rect l="l" t="t" r="r" b="b"/>
              <a:pathLst>
                <a:path w="2721" h="635">
                  <a:moveTo>
                    <a:pt x="0" y="635"/>
                  </a:moveTo>
                  <a:lnTo>
                    <a:pt x="0" y="409"/>
                  </a:lnTo>
                  <a:lnTo>
                    <a:pt x="362" y="46"/>
                  </a:lnTo>
                  <a:lnTo>
                    <a:pt x="861" y="0"/>
                  </a:lnTo>
                  <a:lnTo>
                    <a:pt x="1406" y="46"/>
                  </a:lnTo>
                  <a:lnTo>
                    <a:pt x="1995" y="363"/>
                  </a:lnTo>
                  <a:lnTo>
                    <a:pt x="2630" y="499"/>
                  </a:lnTo>
                  <a:lnTo>
                    <a:pt x="2676" y="545"/>
                  </a:lnTo>
                  <a:lnTo>
                    <a:pt x="2721" y="635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00ff">
                    <a:alpha val="90196"/>
                  </a:srgbClr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03240" y="3630600"/>
              <a:ext cx="185760" cy="185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96600" y="3630600"/>
              <a:ext cx="185760" cy="185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3240" y="3630600"/>
              <a:ext cx="185760" cy="185760"/>
            </a:xfrm>
            <a:prstGeom prst="ellipse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7080" y="3664080"/>
              <a:ext cx="118440" cy="118440"/>
            </a:xfrm>
            <a:prstGeom prst="ellipse">
              <a:avLst/>
            </a:prstGeom>
            <a:solidFill>
              <a:srgbClr val="c0c0c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96600" y="3630600"/>
              <a:ext cx="185760" cy="185760"/>
            </a:xfrm>
            <a:prstGeom prst="ellipse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30440" y="3664080"/>
              <a:ext cx="118440" cy="118440"/>
            </a:xfrm>
            <a:prstGeom prst="ellipse">
              <a:avLst/>
            </a:prstGeom>
            <a:solidFill>
              <a:srgbClr val="c0c0c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69760" y="3579840"/>
              <a:ext cx="16560" cy="67320"/>
            </a:xfrm>
            <a:prstGeom prst="rect">
              <a:avLst/>
            </a:prstGeom>
            <a:gradFill rotWithShape="0">
              <a:gsLst>
                <a:gs pos="0">
                  <a:srgbClr val="feb03c"/>
                </a:gs>
                <a:gs pos="100000">
                  <a:srgbClr val="ff99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37080" y="3444480"/>
              <a:ext cx="253080" cy="118080"/>
            </a:xfrm>
            <a:custGeom>
              <a:avLst/>
              <a:gdLst/>
              <a:ahLst/>
              <a:rect l="l" t="t" r="r" b="b"/>
              <a:pathLst>
                <a:path w="680" h="317">
                  <a:moveTo>
                    <a:pt x="680" y="0"/>
                  </a:moveTo>
                  <a:lnTo>
                    <a:pt x="680" y="317"/>
                  </a:lnTo>
                  <a:lnTo>
                    <a:pt x="0" y="272"/>
                  </a:lnTo>
                  <a:lnTo>
                    <a:pt x="227" y="45"/>
                  </a:lnTo>
                  <a:lnTo>
                    <a:pt x="680" y="0"/>
                  </a:lnTo>
                  <a:close/>
                </a:path>
              </a:pathLst>
            </a:custGeom>
            <a:gradFill rotWithShape="0">
              <a:gsLst>
                <a:gs pos="0">
                  <a:srgbClr val="85e5fe"/>
                </a:gs>
                <a:gs pos="100000">
                  <a:srgbClr val="00cc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7800" y="3444480"/>
              <a:ext cx="303840" cy="118080"/>
            </a:xfrm>
            <a:custGeom>
              <a:avLst/>
              <a:gdLst/>
              <a:ahLst/>
              <a:rect l="l" t="t" r="r" b="b"/>
              <a:pathLst>
                <a:path w="816" h="317">
                  <a:moveTo>
                    <a:pt x="0" y="317"/>
                  </a:moveTo>
                  <a:lnTo>
                    <a:pt x="0" y="0"/>
                  </a:lnTo>
                  <a:lnTo>
                    <a:pt x="499" y="45"/>
                  </a:lnTo>
                  <a:lnTo>
                    <a:pt x="816" y="272"/>
                  </a:lnTo>
                  <a:lnTo>
                    <a:pt x="771" y="317"/>
                  </a:lnTo>
                  <a:lnTo>
                    <a:pt x="0" y="317"/>
                  </a:lnTo>
                  <a:close/>
                </a:path>
              </a:pathLst>
            </a:custGeom>
            <a:gradFill rotWithShape="0">
              <a:gsLst>
                <a:gs pos="0">
                  <a:srgbClr val="85e5fe"/>
                </a:gs>
                <a:gs pos="100000">
                  <a:srgbClr val="00cc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93920" y="3444480"/>
              <a:ext cx="219240" cy="118080"/>
            </a:xfrm>
            <a:custGeom>
              <a:avLst/>
              <a:gdLst/>
              <a:ahLst/>
              <a:rect l="l" t="t" r="r" b="b"/>
              <a:pathLst>
                <a:path w="589" h="317">
                  <a:moveTo>
                    <a:pt x="0" y="0"/>
                  </a:moveTo>
                  <a:lnTo>
                    <a:pt x="453" y="317"/>
                  </a:lnTo>
                  <a:lnTo>
                    <a:pt x="589" y="31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5e5fe"/>
                </a:gs>
                <a:gs pos="100000">
                  <a:srgbClr val="00cc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33120" y="3613320"/>
              <a:ext cx="50400" cy="5040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45" y="0"/>
                  </a:moveTo>
                  <a:lnTo>
                    <a:pt x="0" y="46"/>
                  </a:lnTo>
                  <a:lnTo>
                    <a:pt x="45" y="136"/>
                  </a:lnTo>
                  <a:lnTo>
                    <a:pt x="136" y="136"/>
                  </a:lnTo>
                  <a:lnTo>
                    <a:pt x="91" y="46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feb03c"/>
                </a:gs>
                <a:gs pos="100000">
                  <a:srgbClr val="ff99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7800" y="3579840"/>
              <a:ext cx="50400" cy="1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>
                    <a:alpha val="9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78520" y="3511800"/>
              <a:ext cx="33480" cy="50400"/>
            </a:xfrm>
            <a:custGeom>
              <a:avLst/>
              <a:gdLst>
                <a:gd name="textAreaLeft" fmla="*/ 4680 w 33480"/>
                <a:gd name="textAreaRight" fmla="*/ 28800 w 33480"/>
                <a:gd name="textAreaTop" fmla="*/ 4680 h 50400"/>
                <a:gd name="textAreaBottom" fmla="*/ 45720 h 50400"/>
              </a:gdLst>
              <a:ahLst/>
              <a:rect l="textAreaLeft" t="textAreaTop" r="textAreaRight" b="textAreaBottom"/>
              <a:pathLst>
                <a:path w="21600" h="32400">
                  <a:moveTo>
                    <a:pt x="10800" y="0"/>
                  </a:moveTo>
                  <a:arcTo wR="10800" hR="10800" stAng="16200000" swAng="-5400000"/>
                  <a:lnTo>
                    <a:pt x="0" y="21600"/>
                  </a:lnTo>
                  <a:arcTo wR="10800" hR="10800" stAng="10800000" swAng="-5400000"/>
                  <a:lnTo>
                    <a:pt x="10800" y="324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0000ff">
                    <a:alpha val="90196"/>
                  </a:srgbClr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604960" y="3119400"/>
            <a:ext cx="934920" cy="933120"/>
            <a:chOff x="2604960" y="3119400"/>
            <a:chExt cx="934920" cy="933120"/>
          </a:xfrm>
        </p:grpSpPr>
        <p:sp>
          <p:nvSpPr>
            <p:cNvPr id="150" name=""/>
            <p:cNvSpPr/>
            <p:nvPr/>
          </p:nvSpPr>
          <p:spPr>
            <a:xfrm>
              <a:off x="2604960" y="3119400"/>
              <a:ext cx="719280" cy="3596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9b9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6400" y="3550320"/>
              <a:ext cx="357840" cy="357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81680" y="3334680"/>
              <a:ext cx="358200" cy="35820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64" y="7399"/>
                  </a:moveTo>
                  <a:arcTo wR="-5432" hR="-5432" stAng="-8474383" swAng="-8006188"/>
                  <a:lnTo>
                    <a:pt x="9920" y="36"/>
                  </a:lnTo>
                  <a:arcTo wR="10800" hR="10800" stAng="-5680571" swAng="8006188"/>
                  <a:lnTo>
                    <a:pt x="21327" y="19252"/>
                  </a:lnTo>
                  <a:lnTo>
                    <a:pt x="13758" y="20079"/>
                  </a:lnTo>
                  <a:lnTo>
                    <a:pt x="12930" y="125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9900000">
              <a:off x="2676960" y="3478320"/>
              <a:ext cx="366120" cy="366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64" y="7399"/>
                  </a:moveTo>
                  <a:arcTo wR="-5432" hR="-5432" stAng="-8474383" swAng="-8212766"/>
                  <a:lnTo>
                    <a:pt x="9275" y="108"/>
                  </a:lnTo>
                  <a:arcTo wR="10800" hR="10800" stAng="-5887149" swAng="8212766"/>
                  <a:lnTo>
                    <a:pt x="21327" y="19252"/>
                  </a:lnTo>
                  <a:lnTo>
                    <a:pt x="13758" y="20079"/>
                  </a:lnTo>
                  <a:lnTo>
                    <a:pt x="12930" y="125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748960" y="3192120"/>
              <a:ext cx="431280" cy="215280"/>
              <a:chOff x="2748960" y="3192120"/>
              <a:chExt cx="431280" cy="215280"/>
            </a:xfrm>
          </p:grpSpPr>
          <p:sp>
            <p:nvSpPr>
              <p:cNvPr id="155" name=""/>
              <p:cNvSpPr/>
              <p:nvPr/>
            </p:nvSpPr>
            <p:spPr>
              <a:xfrm>
                <a:off x="2748960" y="3192120"/>
                <a:ext cx="39600" cy="21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01520" y="3192120"/>
                <a:ext cx="117360" cy="21528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32200" y="3192120"/>
                <a:ext cx="117360" cy="21528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62880" y="3192120"/>
                <a:ext cx="117360" cy="21528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037680" y="3623400"/>
              <a:ext cx="215640" cy="214920"/>
              <a:chOff x="3037680" y="3623400"/>
              <a:chExt cx="215640" cy="214920"/>
            </a:xfrm>
          </p:grpSpPr>
          <p:sp>
            <p:nvSpPr>
              <p:cNvPr id="160" name=""/>
              <p:cNvSpPr/>
              <p:nvPr/>
            </p:nvSpPr>
            <p:spPr>
              <a:xfrm>
                <a:off x="3037680" y="3623400"/>
                <a:ext cx="6444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91" y="136"/>
                    </a:lnTo>
                    <a:lnTo>
                      <a:pt x="91" y="182"/>
                    </a:lnTo>
                    <a:lnTo>
                      <a:pt x="0" y="182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91"/>
                    </a:lnTo>
                    <a:lnTo>
                      <a:pt x="46" y="91"/>
                    </a:lnTo>
                    <a:lnTo>
                      <a:pt x="46" y="45"/>
                    </a:lnTo>
                    <a:lnTo>
                      <a:pt x="136" y="4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12920" y="3623400"/>
                <a:ext cx="6480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88520" y="3623400"/>
                <a:ext cx="6480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3181680" y="3694320"/>
              <a:ext cx="358200" cy="3582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253320" y="3765960"/>
              <a:ext cx="214920" cy="214920"/>
              <a:chOff x="3253320" y="3765960"/>
              <a:chExt cx="214920" cy="214920"/>
            </a:xfrm>
          </p:grpSpPr>
          <p:sp>
            <p:nvSpPr>
              <p:cNvPr id="165" name=""/>
              <p:cNvSpPr/>
              <p:nvPr/>
            </p:nvSpPr>
            <p:spPr>
              <a:xfrm>
                <a:off x="3253320" y="3765960"/>
                <a:ext cx="6444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91" y="136"/>
                    </a:lnTo>
                    <a:lnTo>
                      <a:pt x="91" y="182"/>
                    </a:lnTo>
                    <a:lnTo>
                      <a:pt x="0" y="182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91"/>
                    </a:lnTo>
                    <a:lnTo>
                      <a:pt x="46" y="91"/>
                    </a:lnTo>
                    <a:lnTo>
                      <a:pt x="46" y="45"/>
                    </a:lnTo>
                    <a:lnTo>
                      <a:pt x="136" y="4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28200" y="3765960"/>
                <a:ext cx="6444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03800" y="3765960"/>
                <a:ext cx="6444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521240" y="5157720"/>
            <a:ext cx="792000" cy="739800"/>
            <a:chOff x="4521240" y="5157720"/>
            <a:chExt cx="792000" cy="739800"/>
          </a:xfrm>
        </p:grpSpPr>
        <p:sp>
          <p:nvSpPr>
            <p:cNvPr id="169" name=""/>
            <p:cNvSpPr/>
            <p:nvPr/>
          </p:nvSpPr>
          <p:spPr>
            <a:xfrm>
              <a:off x="4521240" y="5157720"/>
              <a:ext cx="328320" cy="73872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817"/>
                  </a:moveTo>
                  <a:lnTo>
                    <a:pt x="0" y="953"/>
                  </a:lnTo>
                  <a:lnTo>
                    <a:pt x="408" y="953"/>
                  </a:lnTo>
                  <a:lnTo>
                    <a:pt x="408" y="817"/>
                  </a:lnTo>
                  <a:lnTo>
                    <a:pt x="272" y="817"/>
                  </a:lnTo>
                  <a:lnTo>
                    <a:pt x="272" y="0"/>
                  </a:lnTo>
                  <a:lnTo>
                    <a:pt x="136" y="0"/>
                  </a:lnTo>
                  <a:lnTo>
                    <a:pt x="136" y="137"/>
                  </a:lnTo>
                  <a:lnTo>
                    <a:pt x="0" y="137"/>
                  </a:lnTo>
                  <a:lnTo>
                    <a:pt x="0" y="273"/>
                  </a:lnTo>
                  <a:lnTo>
                    <a:pt x="136" y="273"/>
                  </a:lnTo>
                  <a:lnTo>
                    <a:pt x="136" y="817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90600" y="5157720"/>
              <a:ext cx="422640" cy="73980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363" y="0"/>
                  </a:moveTo>
                  <a:lnTo>
                    <a:pt x="0" y="0"/>
                  </a:lnTo>
                  <a:lnTo>
                    <a:pt x="0" y="635"/>
                  </a:lnTo>
                  <a:lnTo>
                    <a:pt x="363" y="635"/>
                  </a:lnTo>
                  <a:lnTo>
                    <a:pt x="363" y="272"/>
                  </a:lnTo>
                  <a:lnTo>
                    <a:pt x="91" y="272"/>
                  </a:lnTo>
                  <a:lnTo>
                    <a:pt x="91" y="363"/>
                  </a:lnTo>
                  <a:lnTo>
                    <a:pt x="272" y="363"/>
                  </a:lnTo>
                  <a:lnTo>
                    <a:pt x="272" y="544"/>
                  </a:lnTo>
                  <a:lnTo>
                    <a:pt x="91" y="544"/>
                  </a:lnTo>
                  <a:lnTo>
                    <a:pt x="91" y="91"/>
                  </a:lnTo>
                  <a:lnTo>
                    <a:pt x="363" y="91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マークいろいろ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2" name=""/>
          <p:cNvSpPr/>
          <p:nvPr/>
        </p:nvSpPr>
        <p:spPr>
          <a:xfrm>
            <a:off x="41580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禁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924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携帯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6088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充電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3396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ゴルフ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560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ペット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580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球技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6088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駐車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396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飲食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0560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トイレ使用不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580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メイリオ"/>
              </a:rPr>
              <a:t>2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歳未満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メイリオ"/>
              </a:rPr>
              <a:t>18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歳未満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088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メイリオ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歳未満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0560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走る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04880" y="1073880"/>
            <a:ext cx="1008720" cy="807480"/>
            <a:chOff x="704880" y="1073880"/>
            <a:chExt cx="1008720" cy="807480"/>
          </a:xfrm>
        </p:grpSpPr>
        <p:grpSp>
          <p:nvGrpSpPr>
            <p:cNvPr id="186" name=""/>
            <p:cNvGrpSpPr/>
            <p:nvPr/>
          </p:nvGrpSpPr>
          <p:grpSpPr>
            <a:xfrm>
              <a:off x="704880" y="1737000"/>
              <a:ext cx="934920" cy="144360"/>
              <a:chOff x="704880" y="1737000"/>
              <a:chExt cx="934920" cy="144360"/>
            </a:xfrm>
          </p:grpSpPr>
          <p:sp>
            <p:nvSpPr>
              <p:cNvPr id="187" name=""/>
              <p:cNvSpPr/>
              <p:nvPr/>
            </p:nvSpPr>
            <p:spPr>
              <a:xfrm>
                <a:off x="704880" y="1737000"/>
                <a:ext cx="863640" cy="14436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85800" y="1737000"/>
                <a:ext cx="54000" cy="1443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6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4880" y="1737000"/>
                <a:ext cx="216000" cy="144360"/>
              </a:xfrm>
              <a:prstGeom prst="rect">
                <a:avLst/>
              </a:prstGeom>
              <a:gradFill rotWithShape="0">
                <a:gsLst>
                  <a:gs pos="0">
                    <a:srgbClr val="fee585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4880" y="1737000"/>
                <a:ext cx="863640" cy="144360"/>
              </a:xfrm>
              <a:prstGeom prst="rect">
                <a:avLst/>
              </a:prstGeom>
              <a:gradFill rotWithShape="0">
                <a:gsLst>
                  <a:gs pos="0">
                    <a:srgbClr val="c1c1c1">
                      <a:alpha val="0"/>
                    </a:srgbClr>
                  </a:gs>
                  <a:gs pos="100000">
                    <a:srgbClr val="808080">
                      <a:alpha val="6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rot="19309800">
              <a:off x="1396800" y="1052280"/>
              <a:ext cx="142560" cy="612720"/>
            </a:xfrm>
            <a:custGeom>
              <a:avLst/>
              <a:gdLst/>
              <a:ahLst/>
              <a:rect l="l" t="t" r="r" b="b"/>
              <a:pathLst>
                <a:path w="280" h="499">
                  <a:moveTo>
                    <a:pt x="181" y="0"/>
                  </a:moveTo>
                  <a:cubicBezTo>
                    <a:pt x="166" y="0"/>
                    <a:pt x="0" y="129"/>
                    <a:pt x="0" y="182"/>
                  </a:cubicBezTo>
                  <a:cubicBezTo>
                    <a:pt x="0" y="235"/>
                    <a:pt x="174" y="265"/>
                    <a:pt x="181" y="318"/>
                  </a:cubicBezTo>
                  <a:cubicBezTo>
                    <a:pt x="188" y="371"/>
                    <a:pt x="30" y="499"/>
                    <a:pt x="45" y="499"/>
                  </a:cubicBezTo>
                  <a:cubicBezTo>
                    <a:pt x="60" y="499"/>
                    <a:pt x="264" y="371"/>
                    <a:pt x="272" y="318"/>
                  </a:cubicBezTo>
                  <a:cubicBezTo>
                    <a:pt x="280" y="265"/>
                    <a:pt x="106" y="235"/>
                    <a:pt x="91" y="182"/>
                  </a:cubicBezTo>
                  <a:cubicBezTo>
                    <a:pt x="76" y="129"/>
                    <a:pt x="196" y="0"/>
                    <a:pt x="1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76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703800">
              <a:off x="1339560" y="1169640"/>
              <a:ext cx="142920" cy="612720"/>
            </a:xfrm>
            <a:custGeom>
              <a:avLst/>
              <a:gdLst/>
              <a:ahLst/>
              <a:rect l="l" t="t" r="r" b="b"/>
              <a:pathLst>
                <a:path w="280" h="499">
                  <a:moveTo>
                    <a:pt x="181" y="0"/>
                  </a:moveTo>
                  <a:cubicBezTo>
                    <a:pt x="166" y="0"/>
                    <a:pt x="0" y="129"/>
                    <a:pt x="0" y="182"/>
                  </a:cubicBezTo>
                  <a:cubicBezTo>
                    <a:pt x="0" y="235"/>
                    <a:pt x="174" y="265"/>
                    <a:pt x="181" y="318"/>
                  </a:cubicBezTo>
                  <a:cubicBezTo>
                    <a:pt x="188" y="371"/>
                    <a:pt x="30" y="499"/>
                    <a:pt x="45" y="499"/>
                  </a:cubicBezTo>
                  <a:cubicBezTo>
                    <a:pt x="60" y="499"/>
                    <a:pt x="264" y="371"/>
                    <a:pt x="272" y="318"/>
                  </a:cubicBezTo>
                  <a:cubicBezTo>
                    <a:pt x="280" y="265"/>
                    <a:pt x="106" y="235"/>
                    <a:pt x="91" y="182"/>
                  </a:cubicBezTo>
                  <a:cubicBezTo>
                    <a:pt x="76" y="129"/>
                    <a:pt x="196" y="0"/>
                    <a:pt x="1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2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760480" y="1075320"/>
            <a:ext cx="692640" cy="1086480"/>
            <a:chOff x="2760480" y="1075320"/>
            <a:chExt cx="692640" cy="1086480"/>
          </a:xfrm>
        </p:grpSpPr>
        <p:sp>
          <p:nvSpPr>
            <p:cNvPr id="194" name=""/>
            <p:cNvSpPr/>
            <p:nvPr/>
          </p:nvSpPr>
          <p:spPr>
            <a:xfrm rot="900000">
              <a:off x="2882520" y="1116000"/>
              <a:ext cx="447840" cy="1004760"/>
            </a:xfrm>
            <a:custGeom>
              <a:avLst/>
              <a:gdLst>
                <a:gd name="textAreaLeft" fmla="*/ 16200 w 447840"/>
                <a:gd name="textAreaRight" fmla="*/ 431640 w 447840"/>
                <a:gd name="textAreaTop" fmla="*/ 16200 h 1004760"/>
                <a:gd name="textAreaBottom" fmla="*/ 988560 h 1004760"/>
              </a:gdLst>
              <a:ahLst/>
              <a:rect l="textAreaLeft" t="textAreaTop" r="textAreaRight" b="textAreaBottom"/>
              <a:pathLst>
                <a:path w="21600" h="48440">
                  <a:moveTo>
                    <a:pt x="2678" y="0"/>
                  </a:moveTo>
                  <a:arcTo wR="2678" hR="2678" stAng="16200000" swAng="-5400000"/>
                  <a:lnTo>
                    <a:pt x="0" y="45762"/>
                  </a:lnTo>
                  <a:arcTo wR="2678" hR="2678" stAng="10800000" swAng="-5400000"/>
                  <a:lnTo>
                    <a:pt x="18922" y="48440"/>
                  </a:lnTo>
                  <a:arcTo wR="2678" hR="2678" stAng="5400000" swAng="-5400000"/>
                  <a:lnTo>
                    <a:pt x="21600" y="2678"/>
                  </a:lnTo>
                  <a:arcTo wR="2678" hR="2678" stAng="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f1f1f1"/>
                </a:gs>
                <a:gs pos="100000">
                  <a:srgbClr val="c0c0c0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900000">
              <a:off x="2968560" y="1179000"/>
              <a:ext cx="392040" cy="44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900000">
              <a:off x="2986200" y="1193760"/>
              <a:ext cx="358560" cy="4190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dbecfe"/>
                </a:gs>
                <a:gs pos="100000">
                  <a:srgbClr val="99cc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823840" y="1767600"/>
              <a:ext cx="392400" cy="344160"/>
              <a:chOff x="2823840" y="1767600"/>
              <a:chExt cx="392400" cy="3441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878560" y="1767600"/>
                <a:ext cx="337680" cy="140040"/>
                <a:chOff x="2878560" y="1767600"/>
                <a:chExt cx="337680" cy="140040"/>
              </a:xfrm>
            </p:grpSpPr>
            <p:sp>
              <p:nvSpPr>
                <p:cNvPr id="199" name=""/>
                <p:cNvSpPr/>
                <p:nvPr/>
              </p:nvSpPr>
              <p:spPr>
                <a:xfrm rot="900000">
                  <a:off x="2883960" y="177840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900000">
                  <a:off x="3001320" y="181008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900000">
                  <a:off x="3119400" y="184140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860200" y="1836000"/>
                <a:ext cx="337680" cy="140040"/>
                <a:chOff x="2860200" y="1836000"/>
                <a:chExt cx="337680" cy="140040"/>
              </a:xfrm>
            </p:grpSpPr>
            <p:sp>
              <p:nvSpPr>
                <p:cNvPr id="203" name=""/>
                <p:cNvSpPr/>
                <p:nvPr/>
              </p:nvSpPr>
              <p:spPr>
                <a:xfrm rot="900000">
                  <a:off x="2865600" y="184680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00000">
                  <a:off x="2982960" y="187812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00000">
                  <a:off x="3101040" y="190980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41840" y="1903680"/>
                <a:ext cx="337680" cy="140040"/>
                <a:chOff x="2841840" y="1903680"/>
                <a:chExt cx="337680" cy="140040"/>
              </a:xfrm>
            </p:grpSpPr>
            <p:sp>
              <p:nvSpPr>
                <p:cNvPr id="207" name=""/>
                <p:cNvSpPr/>
                <p:nvPr/>
              </p:nvSpPr>
              <p:spPr>
                <a:xfrm rot="900000">
                  <a:off x="2847240" y="191448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900000">
                  <a:off x="2964960" y="194580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900000">
                  <a:off x="3082680" y="197748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823840" y="1971360"/>
                <a:ext cx="337680" cy="140400"/>
                <a:chOff x="2823840" y="1971360"/>
                <a:chExt cx="337680" cy="140400"/>
              </a:xfrm>
            </p:grpSpPr>
            <p:sp>
              <p:nvSpPr>
                <p:cNvPr id="211" name=""/>
                <p:cNvSpPr/>
                <p:nvPr/>
              </p:nvSpPr>
              <p:spPr>
                <a:xfrm rot="900000">
                  <a:off x="2829240" y="198216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900000">
                  <a:off x="2946600" y="201384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900000">
                  <a:off x="3064680" y="2045520"/>
                  <a:ext cx="91080" cy="5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 rot="900000">
              <a:off x="2998800" y="163044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5a5a5a"/>
                </a:gs>
                <a:gs pos="100000">
                  <a:srgbClr val="c0c0c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700000">
              <a:off x="3025080" y="1657080"/>
              <a:ext cx="111240" cy="112680"/>
            </a:xfrm>
            <a:prstGeom prst="ellipse">
              <a:avLst/>
            </a:prstGeom>
            <a:gradFill rotWithShape="0">
              <a:gsLst>
                <a:gs pos="0">
                  <a:srgbClr val="5a5a5a"/>
                </a:gs>
                <a:gs pos="100000">
                  <a:srgbClr val="c0c0c0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876400" y="1602360"/>
              <a:ext cx="410760" cy="222120"/>
              <a:chOff x="2876400" y="1602360"/>
              <a:chExt cx="410760" cy="222120"/>
            </a:xfrm>
          </p:grpSpPr>
          <p:sp>
            <p:nvSpPr>
              <p:cNvPr id="217" name=""/>
              <p:cNvSpPr/>
              <p:nvPr/>
            </p:nvSpPr>
            <p:spPr>
              <a:xfrm rot="900000">
                <a:off x="2900160" y="1613160"/>
                <a:ext cx="91080" cy="55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2e2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900000">
                <a:off x="3190320" y="1690920"/>
                <a:ext cx="91080" cy="55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2e2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900000">
                <a:off x="2881800" y="1680840"/>
                <a:ext cx="91080" cy="55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2e2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900000">
                <a:off x="3172320" y="1758600"/>
                <a:ext cx="91080" cy="55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2e2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6266160" y="1123560"/>
            <a:ext cx="845280" cy="1064880"/>
            <a:chOff x="6266160" y="1123560"/>
            <a:chExt cx="845280" cy="1064880"/>
          </a:xfrm>
        </p:grpSpPr>
        <p:sp>
          <p:nvSpPr>
            <p:cNvPr id="222" name=""/>
            <p:cNvSpPr/>
            <p:nvPr/>
          </p:nvSpPr>
          <p:spPr>
            <a:xfrm rot="900000">
              <a:off x="6986520" y="1120680"/>
              <a:ext cx="52560" cy="564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900000">
              <a:off x="6862320" y="1618200"/>
              <a:ext cx="102960" cy="307800"/>
            </a:xfrm>
            <a:prstGeom prst="rect">
              <a:avLst/>
            </a:prstGeom>
            <a:gradFill rotWithShape="0">
              <a:gsLst>
                <a:gs pos="0">
                  <a:srgbClr val="3b0000"/>
                </a:gs>
                <a:gs pos="50000">
                  <a:srgbClr val="800000"/>
                </a:gs>
                <a:gs pos="100000">
                  <a:srgbClr val="3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900000">
              <a:off x="6300000" y="1757880"/>
              <a:ext cx="666720" cy="350280"/>
            </a:xfrm>
            <a:custGeom>
              <a:avLst/>
              <a:gdLst/>
              <a:ahLst/>
              <a:rect l="l" t="t" r="r" b="b"/>
              <a:pathLst>
                <a:path w="772" h="311">
                  <a:moveTo>
                    <a:pt x="749" y="46"/>
                  </a:moveTo>
                  <a:cubicBezTo>
                    <a:pt x="726" y="1"/>
                    <a:pt x="507" y="0"/>
                    <a:pt x="386" y="0"/>
                  </a:cubicBezTo>
                  <a:cubicBezTo>
                    <a:pt x="265" y="0"/>
                    <a:pt x="46" y="1"/>
                    <a:pt x="23" y="46"/>
                  </a:cubicBezTo>
                  <a:cubicBezTo>
                    <a:pt x="0" y="91"/>
                    <a:pt x="167" y="235"/>
                    <a:pt x="250" y="273"/>
                  </a:cubicBezTo>
                  <a:cubicBezTo>
                    <a:pt x="333" y="311"/>
                    <a:pt x="439" y="311"/>
                    <a:pt x="522" y="273"/>
                  </a:cubicBezTo>
                  <a:cubicBezTo>
                    <a:pt x="605" y="235"/>
                    <a:pt x="772" y="91"/>
                    <a:pt x="749" y="46"/>
                  </a:cubicBez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900000">
              <a:off x="6352200" y="1792800"/>
              <a:ext cx="528480" cy="263160"/>
            </a:xfrm>
            <a:custGeom>
              <a:avLst/>
              <a:gdLst/>
              <a:ahLst/>
              <a:rect l="l" t="t" r="r" b="b"/>
              <a:pathLst>
                <a:path w="772" h="311">
                  <a:moveTo>
                    <a:pt x="749" y="46"/>
                  </a:moveTo>
                  <a:cubicBezTo>
                    <a:pt x="726" y="1"/>
                    <a:pt x="507" y="0"/>
                    <a:pt x="386" y="0"/>
                  </a:cubicBezTo>
                  <a:cubicBezTo>
                    <a:pt x="265" y="0"/>
                    <a:pt x="46" y="1"/>
                    <a:pt x="23" y="46"/>
                  </a:cubicBezTo>
                  <a:cubicBezTo>
                    <a:pt x="0" y="91"/>
                    <a:pt x="167" y="235"/>
                    <a:pt x="250" y="273"/>
                  </a:cubicBezTo>
                  <a:cubicBezTo>
                    <a:pt x="333" y="311"/>
                    <a:pt x="439" y="311"/>
                    <a:pt x="522" y="273"/>
                  </a:cubicBezTo>
                  <a:cubicBezTo>
                    <a:pt x="605" y="235"/>
                    <a:pt x="772" y="91"/>
                    <a:pt x="749" y="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148400">
              <a:off x="6394680" y="1776600"/>
              <a:ext cx="306360" cy="218520"/>
            </a:xfrm>
            <a:custGeom>
              <a:avLst/>
              <a:gdLst/>
              <a:ahLst/>
              <a:rect l="l" t="t" r="r" b="b"/>
              <a:pathLst>
                <a:path w="235" h="190">
                  <a:moveTo>
                    <a:pt x="167" y="20"/>
                  </a:moveTo>
                  <a:cubicBezTo>
                    <a:pt x="131" y="0"/>
                    <a:pt x="20" y="21"/>
                    <a:pt x="10" y="45"/>
                  </a:cubicBezTo>
                  <a:cubicBezTo>
                    <a:pt x="0" y="69"/>
                    <a:pt x="72" y="145"/>
                    <a:pt x="108" y="166"/>
                  </a:cubicBezTo>
                  <a:cubicBezTo>
                    <a:pt x="144" y="186"/>
                    <a:pt x="215" y="190"/>
                    <a:pt x="225" y="166"/>
                  </a:cubicBezTo>
                  <a:cubicBezTo>
                    <a:pt x="235" y="142"/>
                    <a:pt x="203" y="40"/>
                    <a:pt x="167" y="2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900000">
              <a:off x="6745320" y="1869840"/>
              <a:ext cx="72720" cy="727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74720" y="5157720"/>
            <a:ext cx="863280" cy="725400"/>
            <a:chOff x="774720" y="5157720"/>
            <a:chExt cx="863280" cy="725400"/>
          </a:xfrm>
        </p:grpSpPr>
        <p:grpSp>
          <p:nvGrpSpPr>
            <p:cNvPr id="229" name=""/>
            <p:cNvGrpSpPr/>
            <p:nvPr/>
          </p:nvGrpSpPr>
          <p:grpSpPr>
            <a:xfrm>
              <a:off x="1223640" y="5157720"/>
              <a:ext cx="414360" cy="725040"/>
              <a:chOff x="1223640" y="5157720"/>
              <a:chExt cx="414360" cy="725040"/>
            </a:xfrm>
          </p:grpSpPr>
          <p:sp>
            <p:nvSpPr>
              <p:cNvPr id="230" name=""/>
              <p:cNvSpPr/>
              <p:nvPr/>
            </p:nvSpPr>
            <p:spPr>
              <a:xfrm>
                <a:off x="1223640" y="5157720"/>
                <a:ext cx="414360" cy="621720"/>
              </a:xfrm>
              <a:custGeom>
                <a:avLst/>
                <a:gdLst/>
                <a:ahLst/>
                <a:rect l="l" t="t" r="r" b="b"/>
                <a:pathLst>
                  <a:path w="544" h="817">
                    <a:moveTo>
                      <a:pt x="0" y="0"/>
                    </a:moveTo>
                    <a:lnTo>
                      <a:pt x="544" y="0"/>
                    </a:lnTo>
                    <a:lnTo>
                      <a:pt x="544" y="817"/>
                    </a:lnTo>
                    <a:lnTo>
                      <a:pt x="408" y="817"/>
                    </a:lnTo>
                    <a:lnTo>
                      <a:pt x="408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23640" y="5261760"/>
                <a:ext cx="414360" cy="621000"/>
              </a:xfrm>
              <a:custGeom>
                <a:avLst/>
                <a:gdLst/>
                <a:ahLst/>
                <a:rect l="l" t="t" r="r" b="b"/>
                <a:pathLst>
                  <a:path w="54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544" y="816"/>
                    </a:lnTo>
                    <a:lnTo>
                      <a:pt x="544" y="680"/>
                    </a:lnTo>
                    <a:lnTo>
                      <a:pt x="136" y="680"/>
                    </a:lnTo>
                    <a:lnTo>
                      <a:pt x="1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74720" y="5157720"/>
              <a:ext cx="414360" cy="725400"/>
            </a:xfrm>
            <a:custGeom>
              <a:avLst/>
              <a:gdLst/>
              <a:ahLst/>
              <a:rect l="l" t="t" r="r" b="b"/>
              <a:pathLst>
                <a:path w="544" h="953">
                  <a:moveTo>
                    <a:pt x="0" y="0"/>
                  </a:moveTo>
                  <a:lnTo>
                    <a:pt x="544" y="0"/>
                  </a:lnTo>
                  <a:lnTo>
                    <a:pt x="544" y="545"/>
                  </a:lnTo>
                  <a:lnTo>
                    <a:pt x="136" y="545"/>
                  </a:lnTo>
                  <a:lnTo>
                    <a:pt x="136" y="817"/>
                  </a:lnTo>
                  <a:lnTo>
                    <a:pt x="544" y="817"/>
                  </a:lnTo>
                  <a:lnTo>
                    <a:pt x="544" y="953"/>
                  </a:lnTo>
                  <a:lnTo>
                    <a:pt x="0" y="953"/>
                  </a:lnTo>
                  <a:lnTo>
                    <a:pt x="0" y="409"/>
                  </a:lnTo>
                  <a:lnTo>
                    <a:pt x="408" y="409"/>
                  </a:lnTo>
                  <a:lnTo>
                    <a:pt x="408" y="137"/>
                  </a:lnTo>
                  <a:lnTo>
                    <a:pt x="0" y="1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649600" y="5118120"/>
            <a:ext cx="793800" cy="758880"/>
            <a:chOff x="2649600" y="5118120"/>
            <a:chExt cx="793800" cy="758880"/>
          </a:xfrm>
        </p:grpSpPr>
        <p:sp>
          <p:nvSpPr>
            <p:cNvPr id="234" name=""/>
            <p:cNvSpPr/>
            <p:nvPr/>
          </p:nvSpPr>
          <p:spPr>
            <a:xfrm>
              <a:off x="2649600" y="5118120"/>
              <a:ext cx="324720" cy="7588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817"/>
                  </a:moveTo>
                  <a:lnTo>
                    <a:pt x="0" y="953"/>
                  </a:lnTo>
                  <a:lnTo>
                    <a:pt x="408" y="953"/>
                  </a:lnTo>
                  <a:lnTo>
                    <a:pt x="408" y="817"/>
                  </a:lnTo>
                  <a:lnTo>
                    <a:pt x="272" y="817"/>
                  </a:lnTo>
                  <a:lnTo>
                    <a:pt x="272" y="0"/>
                  </a:lnTo>
                  <a:lnTo>
                    <a:pt x="136" y="0"/>
                  </a:lnTo>
                  <a:lnTo>
                    <a:pt x="136" y="137"/>
                  </a:lnTo>
                  <a:lnTo>
                    <a:pt x="0" y="137"/>
                  </a:lnTo>
                  <a:lnTo>
                    <a:pt x="0" y="273"/>
                  </a:lnTo>
                  <a:lnTo>
                    <a:pt x="136" y="273"/>
                  </a:lnTo>
                  <a:lnTo>
                    <a:pt x="136" y="817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010320" y="5118120"/>
              <a:ext cx="433080" cy="758880"/>
              <a:chOff x="3010320" y="5118120"/>
              <a:chExt cx="433080" cy="758880"/>
            </a:xfrm>
          </p:grpSpPr>
          <p:sp>
            <p:nvSpPr>
              <p:cNvPr id="236" name=""/>
              <p:cNvSpPr/>
              <p:nvPr/>
            </p:nvSpPr>
            <p:spPr>
              <a:xfrm>
                <a:off x="3010320" y="5118120"/>
                <a:ext cx="433080" cy="650520"/>
              </a:xfrm>
              <a:custGeom>
                <a:avLst/>
                <a:gdLst/>
                <a:ahLst/>
                <a:rect l="l" t="t" r="r" b="b"/>
                <a:pathLst>
                  <a:path w="544" h="817">
                    <a:moveTo>
                      <a:pt x="0" y="0"/>
                    </a:moveTo>
                    <a:lnTo>
                      <a:pt x="544" y="0"/>
                    </a:lnTo>
                    <a:lnTo>
                      <a:pt x="544" y="817"/>
                    </a:lnTo>
                    <a:lnTo>
                      <a:pt x="408" y="817"/>
                    </a:lnTo>
                    <a:lnTo>
                      <a:pt x="408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010320" y="5227200"/>
                <a:ext cx="433080" cy="649800"/>
              </a:xfrm>
              <a:custGeom>
                <a:avLst/>
                <a:gdLst/>
                <a:ahLst/>
                <a:rect l="l" t="t" r="r" b="b"/>
                <a:pathLst>
                  <a:path w="54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544" y="816"/>
                    </a:lnTo>
                    <a:lnTo>
                      <a:pt x="544" y="680"/>
                    </a:lnTo>
                    <a:lnTo>
                      <a:pt x="136" y="680"/>
                    </a:lnTo>
                    <a:lnTo>
                      <a:pt x="1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18680" y="5442840"/>
                <a:ext cx="216360" cy="10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8193240" y="1268280"/>
            <a:ext cx="934920" cy="747720"/>
            <a:chOff x="8193240" y="1268280"/>
            <a:chExt cx="934920" cy="747720"/>
          </a:xfrm>
        </p:grpSpPr>
        <p:sp>
          <p:nvSpPr>
            <p:cNvPr id="240" name=""/>
            <p:cNvSpPr/>
            <p:nvPr/>
          </p:nvSpPr>
          <p:spPr>
            <a:xfrm>
              <a:off x="8193240" y="1268280"/>
              <a:ext cx="934920" cy="747720"/>
            </a:xfrm>
            <a:custGeom>
              <a:avLst/>
              <a:gdLst/>
              <a:ahLst/>
              <a:rect l="l" t="t" r="r" b="b"/>
              <a:pathLst>
                <a:path w="3402" h="2721">
                  <a:moveTo>
                    <a:pt x="408" y="226"/>
                  </a:moveTo>
                  <a:lnTo>
                    <a:pt x="272" y="362"/>
                  </a:lnTo>
                  <a:lnTo>
                    <a:pt x="227" y="453"/>
                  </a:lnTo>
                  <a:lnTo>
                    <a:pt x="0" y="635"/>
                  </a:lnTo>
                  <a:lnTo>
                    <a:pt x="0" y="680"/>
                  </a:lnTo>
                  <a:lnTo>
                    <a:pt x="91" y="771"/>
                  </a:lnTo>
                  <a:lnTo>
                    <a:pt x="317" y="771"/>
                  </a:lnTo>
                  <a:lnTo>
                    <a:pt x="453" y="816"/>
                  </a:lnTo>
                  <a:lnTo>
                    <a:pt x="544" y="997"/>
                  </a:lnTo>
                  <a:lnTo>
                    <a:pt x="726" y="1315"/>
                  </a:lnTo>
                  <a:lnTo>
                    <a:pt x="1088" y="1769"/>
                  </a:lnTo>
                  <a:lnTo>
                    <a:pt x="1270" y="2222"/>
                  </a:lnTo>
                  <a:lnTo>
                    <a:pt x="1270" y="2540"/>
                  </a:lnTo>
                  <a:lnTo>
                    <a:pt x="1088" y="2676"/>
                  </a:lnTo>
                  <a:lnTo>
                    <a:pt x="1088" y="2721"/>
                  </a:lnTo>
                  <a:lnTo>
                    <a:pt x="1406" y="2721"/>
                  </a:lnTo>
                  <a:lnTo>
                    <a:pt x="1451" y="2630"/>
                  </a:lnTo>
                  <a:lnTo>
                    <a:pt x="1497" y="2313"/>
                  </a:lnTo>
                  <a:lnTo>
                    <a:pt x="1315" y="1723"/>
                  </a:lnTo>
                  <a:lnTo>
                    <a:pt x="1769" y="1769"/>
                  </a:lnTo>
                  <a:lnTo>
                    <a:pt x="2132" y="1587"/>
                  </a:lnTo>
                  <a:lnTo>
                    <a:pt x="2268" y="1496"/>
                  </a:lnTo>
                  <a:lnTo>
                    <a:pt x="2676" y="1587"/>
                  </a:lnTo>
                  <a:lnTo>
                    <a:pt x="2948" y="1950"/>
                  </a:lnTo>
                  <a:lnTo>
                    <a:pt x="3220" y="2222"/>
                  </a:lnTo>
                  <a:lnTo>
                    <a:pt x="3266" y="2540"/>
                  </a:lnTo>
                  <a:lnTo>
                    <a:pt x="3130" y="2630"/>
                  </a:lnTo>
                  <a:lnTo>
                    <a:pt x="3175" y="2721"/>
                  </a:lnTo>
                  <a:lnTo>
                    <a:pt x="3311" y="2676"/>
                  </a:lnTo>
                  <a:lnTo>
                    <a:pt x="3402" y="2540"/>
                  </a:lnTo>
                  <a:lnTo>
                    <a:pt x="3356" y="2222"/>
                  </a:lnTo>
                  <a:lnTo>
                    <a:pt x="3356" y="2041"/>
                  </a:lnTo>
                  <a:lnTo>
                    <a:pt x="3220" y="1859"/>
                  </a:lnTo>
                  <a:lnTo>
                    <a:pt x="3175" y="1315"/>
                  </a:lnTo>
                  <a:lnTo>
                    <a:pt x="2994" y="907"/>
                  </a:lnTo>
                  <a:lnTo>
                    <a:pt x="2948" y="816"/>
                  </a:lnTo>
                  <a:lnTo>
                    <a:pt x="2903" y="453"/>
                  </a:lnTo>
                  <a:lnTo>
                    <a:pt x="2767" y="317"/>
                  </a:lnTo>
                  <a:lnTo>
                    <a:pt x="2495" y="272"/>
                  </a:lnTo>
                  <a:lnTo>
                    <a:pt x="2222" y="362"/>
                  </a:lnTo>
                  <a:lnTo>
                    <a:pt x="2132" y="544"/>
                  </a:lnTo>
                  <a:lnTo>
                    <a:pt x="2177" y="725"/>
                  </a:lnTo>
                  <a:lnTo>
                    <a:pt x="2222" y="771"/>
                  </a:lnTo>
                  <a:lnTo>
                    <a:pt x="2404" y="635"/>
                  </a:lnTo>
                  <a:lnTo>
                    <a:pt x="2540" y="589"/>
                  </a:lnTo>
                  <a:lnTo>
                    <a:pt x="2631" y="680"/>
                  </a:lnTo>
                  <a:lnTo>
                    <a:pt x="2449" y="771"/>
                  </a:lnTo>
                  <a:lnTo>
                    <a:pt x="2041" y="816"/>
                  </a:lnTo>
                  <a:lnTo>
                    <a:pt x="1678" y="816"/>
                  </a:lnTo>
                  <a:lnTo>
                    <a:pt x="1134" y="725"/>
                  </a:lnTo>
                  <a:lnTo>
                    <a:pt x="1088" y="498"/>
                  </a:lnTo>
                  <a:lnTo>
                    <a:pt x="1043" y="362"/>
                  </a:lnTo>
                  <a:lnTo>
                    <a:pt x="907" y="272"/>
                  </a:lnTo>
                  <a:lnTo>
                    <a:pt x="771" y="136"/>
                  </a:lnTo>
                  <a:lnTo>
                    <a:pt x="635" y="136"/>
                  </a:lnTo>
                  <a:lnTo>
                    <a:pt x="453" y="0"/>
                  </a:lnTo>
                  <a:lnTo>
                    <a:pt x="453" y="136"/>
                  </a:lnTo>
                  <a:lnTo>
                    <a:pt x="317" y="0"/>
                  </a:lnTo>
                  <a:lnTo>
                    <a:pt x="408" y="226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93240" y="1392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0"/>
                  </a:moveTo>
                  <a:lnTo>
                    <a:pt x="0" y="32"/>
                  </a:lnTo>
                  <a:lnTo>
                    <a:pt x="0" y="40"/>
                  </a:lnTo>
                  <a:lnTo>
                    <a:pt x="16" y="55"/>
                  </a:lnTo>
                  <a:lnTo>
                    <a:pt x="55" y="55"/>
                  </a:lnTo>
                  <a:lnTo>
                    <a:pt x="51" y="25"/>
                  </a:lnTo>
                  <a:lnTo>
                    <a:pt x="3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67600">
              <a:off x="8294400" y="1371600"/>
              <a:ext cx="60120" cy="17640"/>
            </a:xfrm>
            <a:custGeom>
              <a:avLst/>
              <a:gdLst/>
              <a:ahLst/>
              <a:rect l="l" t="t" r="r" b="b"/>
              <a:pathLst>
                <a:path w="227" h="45">
                  <a:moveTo>
                    <a:pt x="0" y="0"/>
                  </a:moveTo>
                  <a:lnTo>
                    <a:pt x="227" y="0"/>
                  </a:lnTo>
                  <a:lnTo>
                    <a:pt x="181" y="45"/>
                  </a:lnTo>
                  <a:lnTo>
                    <a:pt x="4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48160" y="1413000"/>
            <a:ext cx="1152360" cy="449280"/>
            <a:chOff x="4448160" y="1413000"/>
            <a:chExt cx="1152360" cy="449280"/>
          </a:xfrm>
        </p:grpSpPr>
        <p:sp>
          <p:nvSpPr>
            <p:cNvPr id="244" name=""/>
            <p:cNvSpPr/>
            <p:nvPr/>
          </p:nvSpPr>
          <p:spPr>
            <a:xfrm>
              <a:off x="5319360" y="1609200"/>
              <a:ext cx="28116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c4c4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35480" y="1581120"/>
              <a:ext cx="83880" cy="111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c4c4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48160" y="1497240"/>
              <a:ext cx="252720" cy="277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cccccc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48160" y="1749600"/>
              <a:ext cx="252720" cy="277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cccccc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00880" y="1413000"/>
              <a:ext cx="534240" cy="449280"/>
            </a:xfrm>
            <a:custGeom>
              <a:avLst/>
              <a:gdLst/>
              <a:ahLst/>
              <a:rect l="l" t="t" r="r" b="b"/>
              <a:pathLst>
                <a:path w="862" h="726">
                  <a:moveTo>
                    <a:pt x="0" y="0"/>
                  </a:moveTo>
                  <a:lnTo>
                    <a:pt x="0" y="726"/>
                  </a:lnTo>
                  <a:lnTo>
                    <a:pt x="681" y="726"/>
                  </a:lnTo>
                  <a:lnTo>
                    <a:pt x="862" y="453"/>
                  </a:lnTo>
                  <a:lnTo>
                    <a:pt x="862" y="272"/>
                  </a:lnTo>
                  <a:lnTo>
                    <a:pt x="68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23232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8160" y="1468440"/>
              <a:ext cx="168840" cy="337320"/>
            </a:xfrm>
            <a:custGeom>
              <a:avLst/>
              <a:gdLst>
                <a:gd name="textAreaLeft" fmla="*/ 7920 w 168840"/>
                <a:gd name="textAreaRight" fmla="*/ 160920 w 168840"/>
                <a:gd name="textAreaTop" fmla="*/ 7920 h 337320"/>
                <a:gd name="textAreaBottom" fmla="*/ 329400 h 337320"/>
              </a:gdLst>
              <a:ahLst/>
              <a:rect l="textAreaLeft" t="textAreaTop" r="textAreaRight" b="textAreaBottom"/>
              <a:pathLst>
                <a:path w="21600" h="43108">
                  <a:moveTo>
                    <a:pt x="3600" y="0"/>
                  </a:moveTo>
                  <a:arcTo wR="3600" hR="3600" stAng="16200000" swAng="-5400000"/>
                  <a:lnTo>
                    <a:pt x="0" y="39508"/>
                  </a:lnTo>
                  <a:arcTo wR="3600" hR="3600" stAng="10800000" swAng="-5400000"/>
                  <a:lnTo>
                    <a:pt x="18000" y="431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360520" y="285264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32160" y="285264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03800" y="285264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32160" y="479736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03800" y="479736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77240" y="2852640"/>
            <a:ext cx="143964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77240" y="4797360"/>
            <a:ext cx="143964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49520" y="3141720"/>
            <a:ext cx="909000" cy="864720"/>
            <a:chOff x="749520" y="3141720"/>
            <a:chExt cx="909000" cy="864720"/>
          </a:xfrm>
        </p:grpSpPr>
        <p:sp>
          <p:nvSpPr>
            <p:cNvPr id="258" name=""/>
            <p:cNvSpPr/>
            <p:nvPr/>
          </p:nvSpPr>
          <p:spPr>
            <a:xfrm>
              <a:off x="776160" y="3141720"/>
              <a:ext cx="863640" cy="86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65240" y="3429000"/>
              <a:ext cx="288720" cy="2746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050000">
              <a:off x="812880" y="323388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5063000">
              <a:off x="694440" y="364392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800000">
              <a:off x="1057320" y="391608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2549400">
              <a:off x="1320120" y="324612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rot="6537000">
              <a:off x="1423800" y="3655800"/>
              <a:ext cx="289080" cy="910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88880" y="285264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8880" y="909720"/>
            <a:ext cx="1440000" cy="143964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0520" y="90792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05600" y="907920"/>
            <a:ext cx="143964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77240" y="907920"/>
            <a:ext cx="143964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32160" y="90792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8880" y="4797360"/>
            <a:ext cx="144000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4797360"/>
            <a:ext cx="1439640" cy="1440000"/>
          </a:xfrm>
          <a:prstGeom prst="noSmoking">
            <a:avLst>
              <a:gd name="adj" fmla="val 9592"/>
            </a:avLst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924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両替お断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952880" y="3103560"/>
            <a:ext cx="287280" cy="287280"/>
            <a:chOff x="4952880" y="3103560"/>
            <a:chExt cx="287280" cy="287280"/>
          </a:xfrm>
        </p:grpSpPr>
        <p:sp>
          <p:nvSpPr>
            <p:cNvPr id="275" name=""/>
            <p:cNvSpPr/>
            <p:nvPr/>
          </p:nvSpPr>
          <p:spPr>
            <a:xfrm>
              <a:off x="4952880" y="3103560"/>
              <a:ext cx="287280" cy="287280"/>
            </a:xfrm>
            <a:prstGeom prst="roundRect">
              <a:avLst>
                <a:gd name="adj" fmla="val 16667"/>
              </a:avLst>
            </a:prstGeom>
            <a:solidFill>
              <a:srgbClr val="0000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91760" y="3132360"/>
              <a:ext cx="210240" cy="229320"/>
            </a:xfrm>
            <a:custGeom>
              <a:avLst/>
              <a:gdLst/>
              <a:ahLst/>
              <a:rect l="l" t="t" r="r" b="b"/>
              <a:pathLst>
                <a:path w="499" h="545">
                  <a:moveTo>
                    <a:pt x="0" y="545"/>
                  </a:moveTo>
                  <a:lnTo>
                    <a:pt x="90" y="545"/>
                  </a:lnTo>
                  <a:lnTo>
                    <a:pt x="90" y="91"/>
                  </a:lnTo>
                  <a:lnTo>
                    <a:pt x="408" y="91"/>
                  </a:lnTo>
                  <a:lnTo>
                    <a:pt x="408" y="272"/>
                  </a:lnTo>
                  <a:lnTo>
                    <a:pt x="90" y="272"/>
                  </a:lnTo>
                  <a:lnTo>
                    <a:pt x="90" y="363"/>
                  </a:lnTo>
                  <a:lnTo>
                    <a:pt x="408" y="363"/>
                  </a:lnTo>
                  <a:lnTo>
                    <a:pt x="408" y="272"/>
                  </a:lnTo>
                  <a:lnTo>
                    <a:pt x="499" y="272"/>
                  </a:lnTo>
                  <a:lnTo>
                    <a:pt x="499" y="91"/>
                  </a:lnTo>
                  <a:lnTo>
                    <a:pt x="408" y="91"/>
                  </a:lnTo>
                  <a:lnTo>
                    <a:pt x="408" y="0"/>
                  </a:lnTo>
                  <a:lnTo>
                    <a:pt x="0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03252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カード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6260400" y="5109120"/>
            <a:ext cx="1130040" cy="845280"/>
            <a:chOff x="6260400" y="5109120"/>
            <a:chExt cx="1130040" cy="845280"/>
          </a:xfrm>
        </p:grpSpPr>
        <p:sp>
          <p:nvSpPr>
            <p:cNvPr id="279" name=""/>
            <p:cNvSpPr/>
            <p:nvPr/>
          </p:nvSpPr>
          <p:spPr>
            <a:xfrm rot="20700000">
              <a:off x="6321240" y="5229360"/>
              <a:ext cx="1008000" cy="604800"/>
            </a:xfrm>
            <a:prstGeom prst="roundRect">
              <a:avLst>
                <a:gd name="adj" fmla="val 545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700000">
              <a:off x="6643800" y="5304600"/>
              <a:ext cx="363240" cy="454680"/>
            </a:xfrm>
            <a:custGeom>
              <a:avLst/>
              <a:gdLst/>
              <a:ahLst/>
              <a:rect l="l" t="t" r="r" b="b"/>
              <a:pathLst>
                <a:path w="726" h="907">
                  <a:moveTo>
                    <a:pt x="363" y="318"/>
                  </a:moveTo>
                  <a:lnTo>
                    <a:pt x="182" y="0"/>
                  </a:lnTo>
                  <a:lnTo>
                    <a:pt x="0" y="0"/>
                  </a:lnTo>
                  <a:lnTo>
                    <a:pt x="273" y="454"/>
                  </a:lnTo>
                  <a:lnTo>
                    <a:pt x="46" y="454"/>
                  </a:lnTo>
                  <a:lnTo>
                    <a:pt x="46" y="590"/>
                  </a:lnTo>
                  <a:lnTo>
                    <a:pt x="273" y="590"/>
                  </a:lnTo>
                  <a:lnTo>
                    <a:pt x="273" y="635"/>
                  </a:lnTo>
                  <a:lnTo>
                    <a:pt x="46" y="635"/>
                  </a:lnTo>
                  <a:lnTo>
                    <a:pt x="46" y="771"/>
                  </a:lnTo>
                  <a:lnTo>
                    <a:pt x="273" y="771"/>
                  </a:lnTo>
                  <a:lnTo>
                    <a:pt x="273" y="907"/>
                  </a:lnTo>
                  <a:lnTo>
                    <a:pt x="454" y="907"/>
                  </a:lnTo>
                  <a:lnTo>
                    <a:pt x="454" y="771"/>
                  </a:lnTo>
                  <a:lnTo>
                    <a:pt x="681" y="771"/>
                  </a:lnTo>
                  <a:lnTo>
                    <a:pt x="681" y="635"/>
                  </a:lnTo>
                  <a:lnTo>
                    <a:pt x="454" y="635"/>
                  </a:lnTo>
                  <a:lnTo>
                    <a:pt x="454" y="590"/>
                  </a:lnTo>
                  <a:lnTo>
                    <a:pt x="681" y="590"/>
                  </a:lnTo>
                  <a:lnTo>
                    <a:pt x="681" y="454"/>
                  </a:lnTo>
                  <a:lnTo>
                    <a:pt x="454" y="454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363" y="3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8289720" y="5084640"/>
            <a:ext cx="789480" cy="918360"/>
            <a:chOff x="8289720" y="5084640"/>
            <a:chExt cx="789480" cy="918360"/>
          </a:xfrm>
        </p:grpSpPr>
        <p:sp>
          <p:nvSpPr>
            <p:cNvPr id="282" name=""/>
            <p:cNvSpPr/>
            <p:nvPr/>
          </p:nvSpPr>
          <p:spPr>
            <a:xfrm>
              <a:off x="8502840" y="5084640"/>
              <a:ext cx="230760" cy="23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700000">
              <a:off x="8634960" y="5315040"/>
              <a:ext cx="16524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700000">
              <a:off x="8486640" y="5628960"/>
              <a:ext cx="9900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8799840" y="5612040"/>
              <a:ext cx="231480" cy="23148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0"/>
                  </a:moveTo>
                  <a:lnTo>
                    <a:pt x="136" y="0"/>
                  </a:lnTo>
                  <a:lnTo>
                    <a:pt x="136" y="182"/>
                  </a:lnTo>
                  <a:lnTo>
                    <a:pt x="318" y="182"/>
                  </a:lnTo>
                  <a:lnTo>
                    <a:pt x="318" y="318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8337600" y="5315040"/>
              <a:ext cx="231480" cy="23148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0"/>
                  </a:moveTo>
                  <a:lnTo>
                    <a:pt x="91" y="0"/>
                  </a:lnTo>
                  <a:lnTo>
                    <a:pt x="91" y="227"/>
                  </a:lnTo>
                  <a:lnTo>
                    <a:pt x="318" y="227"/>
                  </a:lnTo>
                  <a:lnTo>
                    <a:pt x="318" y="318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8100000">
              <a:off x="8799120" y="5216040"/>
              <a:ext cx="231480" cy="23148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0"/>
                  </a:moveTo>
                  <a:lnTo>
                    <a:pt x="91" y="0"/>
                  </a:lnTo>
                  <a:lnTo>
                    <a:pt x="91" y="227"/>
                  </a:lnTo>
                  <a:lnTo>
                    <a:pt x="318" y="227"/>
                  </a:lnTo>
                  <a:lnTo>
                    <a:pt x="318" y="318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8265960" y="3068640"/>
            <a:ext cx="828360" cy="1008000"/>
            <a:chOff x="8265960" y="3068640"/>
            <a:chExt cx="828360" cy="1008000"/>
          </a:xfrm>
        </p:grpSpPr>
        <p:grpSp>
          <p:nvGrpSpPr>
            <p:cNvPr id="289" name=""/>
            <p:cNvGrpSpPr/>
            <p:nvPr/>
          </p:nvGrpSpPr>
          <p:grpSpPr>
            <a:xfrm>
              <a:off x="8669880" y="3068640"/>
              <a:ext cx="424440" cy="1008000"/>
              <a:chOff x="8669880" y="3068640"/>
              <a:chExt cx="424440" cy="1008000"/>
            </a:xfrm>
          </p:grpSpPr>
          <p:sp>
            <p:nvSpPr>
              <p:cNvPr id="290" name=""/>
              <p:cNvSpPr/>
              <p:nvPr/>
            </p:nvSpPr>
            <p:spPr>
              <a:xfrm>
                <a:off x="8749080" y="3068640"/>
                <a:ext cx="265320" cy="264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0800000">
                <a:off x="8669880" y="3333960"/>
                <a:ext cx="424440" cy="450720"/>
              </a:xfrm>
              <a:custGeom>
                <a:avLst/>
                <a:gdLst>
                  <a:gd name="textAreaLeft" fmla="*/ 93600 w 424440"/>
                  <a:gd name="textAreaRight" fmla="*/ 330840 w 424440"/>
                  <a:gd name="textAreaTop" fmla="*/ 99360 h 450720"/>
                  <a:gd name="textAreaBottom" fmla="*/ 35136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178" y="21600"/>
                    </a:lnTo>
                    <a:lnTo>
                      <a:pt x="5422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76440" y="3785040"/>
                <a:ext cx="106560" cy="291600"/>
              </a:xfrm>
              <a:custGeom>
                <a:avLst/>
                <a:gdLst>
                  <a:gd name="textAreaLeft" fmla="*/ 29880 w 106560"/>
                  <a:gd name="textAreaRight" fmla="*/ 76680 w 106560"/>
                  <a:gd name="textAreaTop" fmla="*/ 82440 h 291600"/>
                  <a:gd name="textAreaBottom" fmla="*/ 209160 h 29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767" y="21600"/>
                    </a:lnTo>
                    <a:lnTo>
                      <a:pt x="7833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882640" y="3785040"/>
                <a:ext cx="106200" cy="291600"/>
              </a:xfrm>
              <a:custGeom>
                <a:avLst/>
                <a:gdLst>
                  <a:gd name="textAreaLeft" fmla="*/ 29880 w 106200"/>
                  <a:gd name="textAreaRight" fmla="*/ 76320 w 106200"/>
                  <a:gd name="textAreaTop" fmla="*/ 82440 h 291600"/>
                  <a:gd name="textAreaBottom" fmla="*/ 209160 h 29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767" y="21600"/>
                    </a:lnTo>
                    <a:lnTo>
                      <a:pt x="7833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8265960" y="3068640"/>
              <a:ext cx="424440" cy="1008000"/>
              <a:chOff x="8265960" y="3068640"/>
              <a:chExt cx="424440" cy="1008000"/>
            </a:xfrm>
          </p:grpSpPr>
          <p:sp>
            <p:nvSpPr>
              <p:cNvPr id="295" name=""/>
              <p:cNvSpPr/>
              <p:nvPr/>
            </p:nvSpPr>
            <p:spPr>
              <a:xfrm>
                <a:off x="8345880" y="3068640"/>
                <a:ext cx="265320" cy="264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65960" y="3333960"/>
                <a:ext cx="424440" cy="450720"/>
              </a:xfrm>
              <a:custGeom>
                <a:avLst/>
                <a:gdLst>
                  <a:gd name="textAreaLeft" fmla="*/ 82440 w 424440"/>
                  <a:gd name="textAreaRight" fmla="*/ 342000 w 424440"/>
                  <a:gd name="textAreaTop" fmla="*/ 87480 h 450720"/>
                  <a:gd name="textAreaBottom" fmla="*/ 36324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191" y="21600"/>
                    </a:lnTo>
                    <a:lnTo>
                      <a:pt x="440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385480" y="3785040"/>
                <a:ext cx="185400" cy="291600"/>
                <a:chOff x="8385480" y="3785040"/>
                <a:chExt cx="185400" cy="2916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385480" y="3785040"/>
                  <a:ext cx="79200" cy="291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91320" y="3785040"/>
                  <a:ext cx="79560" cy="291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0" name=""/>
          <p:cNvGrpSpPr/>
          <p:nvPr/>
        </p:nvGrpSpPr>
        <p:grpSpPr>
          <a:xfrm>
            <a:off x="6392880" y="3213000"/>
            <a:ext cx="966600" cy="676440"/>
            <a:chOff x="6392880" y="3213000"/>
            <a:chExt cx="966600" cy="676440"/>
          </a:xfrm>
        </p:grpSpPr>
        <p:sp>
          <p:nvSpPr>
            <p:cNvPr id="301" name=""/>
            <p:cNvSpPr/>
            <p:nvPr/>
          </p:nvSpPr>
          <p:spPr>
            <a:xfrm>
              <a:off x="6407280" y="3244680"/>
              <a:ext cx="338040" cy="613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522840" y="3336840"/>
              <a:ext cx="108000" cy="460080"/>
              <a:chOff x="6522840" y="3336840"/>
              <a:chExt cx="108000" cy="460080"/>
            </a:xfrm>
          </p:grpSpPr>
          <p:sp>
            <p:nvSpPr>
              <p:cNvPr id="303" name=""/>
              <p:cNvSpPr/>
              <p:nvPr/>
            </p:nvSpPr>
            <p:spPr>
              <a:xfrm rot="5400000">
                <a:off x="6566040" y="3512880"/>
                <a:ext cx="21600" cy="10800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6544080" y="3753720"/>
                <a:ext cx="21960" cy="212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6587640" y="3753720"/>
                <a:ext cx="21960" cy="212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5400000">
                <a:off x="6566040" y="3380760"/>
                <a:ext cx="21600" cy="644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400000">
                <a:off x="6533280" y="3501720"/>
                <a:ext cx="21960" cy="428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400000">
                <a:off x="6522840" y="3775320"/>
                <a:ext cx="21960" cy="212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400000">
                <a:off x="6609240" y="3775320"/>
                <a:ext cx="21960" cy="212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400000">
                <a:off x="6544080" y="3315600"/>
                <a:ext cx="65520" cy="1080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182"/>
                    </a:lnTo>
                    <a:lnTo>
                      <a:pt x="45" y="182"/>
                    </a:lnTo>
                    <a:lnTo>
                      <a:pt x="45" y="46"/>
                    </a:lnTo>
                    <a:lnTo>
                      <a:pt x="136" y="4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400000">
                <a:off x="6532920" y="3435840"/>
                <a:ext cx="87480" cy="108000"/>
              </a:xfrm>
              <a:custGeom>
                <a:avLst/>
                <a:gdLst/>
                <a:ahLst/>
                <a:rect l="l" t="t" r="r" b="b"/>
                <a:pathLst>
                  <a:path w="181" h="227">
                    <a:moveTo>
                      <a:pt x="45" y="91"/>
                    </a:moveTo>
                    <a:lnTo>
                      <a:pt x="45" y="46"/>
                    </a:lnTo>
                    <a:lnTo>
                      <a:pt x="136" y="46"/>
                    </a:lnTo>
                    <a:lnTo>
                      <a:pt x="136" y="91"/>
                    </a:lnTo>
                    <a:lnTo>
                      <a:pt x="181" y="91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7"/>
                    </a:lnTo>
                    <a:lnTo>
                      <a:pt x="136" y="137"/>
                    </a:lnTo>
                    <a:lnTo>
                      <a:pt x="136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400000">
                <a:off x="6554880" y="3567600"/>
                <a:ext cx="43920" cy="1080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6" y="227"/>
                    </a:moveTo>
                    <a:lnTo>
                      <a:pt x="46" y="91"/>
                    </a:lnTo>
                    <a:lnTo>
                      <a:pt x="91" y="91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6" y="227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400000">
                <a:off x="6554880" y="3611520"/>
                <a:ext cx="43920" cy="1080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5" y="91"/>
                    </a:moveTo>
                    <a:lnTo>
                      <a:pt x="45" y="0"/>
                    </a:lnTo>
                    <a:lnTo>
                      <a:pt x="91" y="0"/>
                    </a:lnTo>
                    <a:lnTo>
                      <a:pt x="91" y="227"/>
                    </a:lnTo>
                    <a:lnTo>
                      <a:pt x="45" y="227"/>
                    </a:lnTo>
                    <a:lnTo>
                      <a:pt x="45" y="182"/>
                    </a:lnTo>
                    <a:lnTo>
                      <a:pt x="0" y="182"/>
                    </a:lnTo>
                    <a:lnTo>
                      <a:pt x="0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400000">
                <a:off x="6554880" y="3677400"/>
                <a:ext cx="43920" cy="1080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5" y="91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7"/>
                    </a:lnTo>
                    <a:lnTo>
                      <a:pt x="91" y="137"/>
                    </a:lnTo>
                    <a:lnTo>
                      <a:pt x="91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777000" y="3305160"/>
              <a:ext cx="582480" cy="552600"/>
            </a:xfrm>
            <a:custGeom>
              <a:avLst/>
              <a:gdLst/>
              <a:ahLst/>
              <a:rect l="l" t="t" r="r" b="b"/>
              <a:pathLst>
                <a:path w="960" h="747">
                  <a:moveTo>
                    <a:pt x="53" y="97"/>
                  </a:moveTo>
                  <a:cubicBezTo>
                    <a:pt x="106" y="22"/>
                    <a:pt x="257" y="14"/>
                    <a:pt x="370" y="7"/>
                  </a:cubicBezTo>
                  <a:cubicBezTo>
                    <a:pt x="483" y="0"/>
                    <a:pt x="673" y="22"/>
                    <a:pt x="733" y="52"/>
                  </a:cubicBezTo>
                  <a:cubicBezTo>
                    <a:pt x="793" y="82"/>
                    <a:pt x="725" y="128"/>
                    <a:pt x="733" y="188"/>
                  </a:cubicBezTo>
                  <a:cubicBezTo>
                    <a:pt x="741" y="248"/>
                    <a:pt x="748" y="347"/>
                    <a:pt x="778" y="415"/>
                  </a:cubicBezTo>
                  <a:cubicBezTo>
                    <a:pt x="808" y="483"/>
                    <a:pt x="960" y="543"/>
                    <a:pt x="915" y="596"/>
                  </a:cubicBezTo>
                  <a:cubicBezTo>
                    <a:pt x="870" y="649"/>
                    <a:pt x="627" y="717"/>
                    <a:pt x="506" y="732"/>
                  </a:cubicBezTo>
                  <a:cubicBezTo>
                    <a:pt x="385" y="747"/>
                    <a:pt x="264" y="732"/>
                    <a:pt x="189" y="687"/>
                  </a:cubicBezTo>
                  <a:cubicBezTo>
                    <a:pt x="114" y="642"/>
                    <a:pt x="76" y="558"/>
                    <a:pt x="53" y="460"/>
                  </a:cubicBezTo>
                  <a:cubicBezTo>
                    <a:pt x="30" y="362"/>
                    <a:pt x="0" y="172"/>
                    <a:pt x="53" y="9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6840360" y="3486960"/>
              <a:ext cx="378360" cy="170640"/>
              <a:chOff x="6840360" y="3486960"/>
              <a:chExt cx="378360" cy="170640"/>
            </a:xfrm>
          </p:grpSpPr>
          <p:sp>
            <p:nvSpPr>
              <p:cNvPr id="317" name=""/>
              <p:cNvSpPr/>
              <p:nvPr/>
            </p:nvSpPr>
            <p:spPr>
              <a:xfrm rot="21128400">
                <a:off x="6841800" y="3559680"/>
                <a:ext cx="1584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1128400">
                <a:off x="6853680" y="3531240"/>
                <a:ext cx="4788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1128400">
                <a:off x="6851520" y="3630240"/>
                <a:ext cx="4788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1128400">
                <a:off x="6895800" y="3601440"/>
                <a:ext cx="1584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1128400">
                <a:off x="6860520" y="3580200"/>
                <a:ext cx="3204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1128400">
                <a:off x="7181640" y="3562920"/>
                <a:ext cx="1620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128400">
                <a:off x="7174800" y="3513960"/>
                <a:ext cx="1620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1128400">
                <a:off x="7200720" y="3584520"/>
                <a:ext cx="1620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128400">
                <a:off x="7187040" y="3487680"/>
                <a:ext cx="1620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1128400">
                <a:off x="6923520" y="3523320"/>
                <a:ext cx="32040" cy="1224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6" y="227"/>
                    </a:moveTo>
                    <a:lnTo>
                      <a:pt x="46" y="91"/>
                    </a:lnTo>
                    <a:lnTo>
                      <a:pt x="91" y="91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6" y="227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1128400">
                <a:off x="6955560" y="3519000"/>
                <a:ext cx="32040" cy="1224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5" y="91"/>
                    </a:moveTo>
                    <a:lnTo>
                      <a:pt x="45" y="0"/>
                    </a:lnTo>
                    <a:lnTo>
                      <a:pt x="91" y="0"/>
                    </a:lnTo>
                    <a:lnTo>
                      <a:pt x="91" y="227"/>
                    </a:lnTo>
                    <a:lnTo>
                      <a:pt x="45" y="227"/>
                    </a:lnTo>
                    <a:lnTo>
                      <a:pt x="45" y="182"/>
                    </a:lnTo>
                    <a:lnTo>
                      <a:pt x="0" y="182"/>
                    </a:lnTo>
                    <a:lnTo>
                      <a:pt x="0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128400">
                <a:off x="7146360" y="3492720"/>
                <a:ext cx="32040" cy="1224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5" y="91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7"/>
                    </a:lnTo>
                    <a:lnTo>
                      <a:pt x="91" y="137"/>
                    </a:lnTo>
                    <a:lnTo>
                      <a:pt x="91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1128400">
                <a:off x="7082280" y="3500280"/>
                <a:ext cx="47880" cy="1224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182"/>
                    </a:lnTo>
                    <a:lnTo>
                      <a:pt x="45" y="182"/>
                    </a:lnTo>
                    <a:lnTo>
                      <a:pt x="45" y="46"/>
                    </a:lnTo>
                    <a:lnTo>
                      <a:pt x="136" y="4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128400">
                <a:off x="7003080" y="3510360"/>
                <a:ext cx="64080" cy="121680"/>
              </a:xfrm>
              <a:custGeom>
                <a:avLst/>
                <a:gdLst/>
                <a:ahLst/>
                <a:rect l="l" t="t" r="r" b="b"/>
                <a:pathLst>
                  <a:path w="182" h="226">
                    <a:moveTo>
                      <a:pt x="46" y="45"/>
                    </a:moveTo>
                    <a:lnTo>
                      <a:pt x="46" y="90"/>
                    </a:lnTo>
                    <a:lnTo>
                      <a:pt x="136" y="90"/>
                    </a:lnTo>
                    <a:lnTo>
                      <a:pt x="136" y="136"/>
                    </a:lnTo>
                    <a:lnTo>
                      <a:pt x="46" y="136"/>
                    </a:lnTo>
                    <a:lnTo>
                      <a:pt x="46" y="226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82" y="0"/>
                    </a:lnTo>
                    <a:lnTo>
                      <a:pt x="182" y="226"/>
                    </a:lnTo>
                    <a:lnTo>
                      <a:pt x="136" y="226"/>
                    </a:lnTo>
                    <a:lnTo>
                      <a:pt x="136" y="45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392880" y="3213000"/>
              <a:ext cx="368280" cy="3168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9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92880" y="3857760"/>
              <a:ext cx="368280" cy="3168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9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448160" y="3429000"/>
            <a:ext cx="1012680" cy="388800"/>
            <a:chOff x="4448160" y="3429000"/>
            <a:chExt cx="1012680" cy="388800"/>
          </a:xfrm>
        </p:grpSpPr>
        <p:sp>
          <p:nvSpPr>
            <p:cNvPr id="334" name=""/>
            <p:cNvSpPr/>
            <p:nvPr/>
          </p:nvSpPr>
          <p:spPr>
            <a:xfrm>
              <a:off x="4448160" y="3665520"/>
              <a:ext cx="1012680" cy="67680"/>
            </a:xfrm>
            <a:prstGeom prst="roundRect">
              <a:avLst>
                <a:gd name="adj" fmla="val 317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65080" y="3733200"/>
              <a:ext cx="979560" cy="16560"/>
            </a:xfrm>
            <a:prstGeom prst="roundRect">
              <a:avLst>
                <a:gd name="adj" fmla="val 317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65080" y="3429000"/>
              <a:ext cx="979560" cy="236520"/>
            </a:xfrm>
            <a:custGeom>
              <a:avLst/>
              <a:gdLst/>
              <a:ahLst/>
              <a:rect l="l" t="t" r="r" b="b"/>
              <a:pathLst>
                <a:path w="2721" h="635">
                  <a:moveTo>
                    <a:pt x="0" y="635"/>
                  </a:moveTo>
                  <a:lnTo>
                    <a:pt x="0" y="409"/>
                  </a:lnTo>
                  <a:lnTo>
                    <a:pt x="362" y="46"/>
                  </a:lnTo>
                  <a:lnTo>
                    <a:pt x="861" y="0"/>
                  </a:lnTo>
                  <a:lnTo>
                    <a:pt x="1406" y="46"/>
                  </a:lnTo>
                  <a:lnTo>
                    <a:pt x="1995" y="363"/>
                  </a:lnTo>
                  <a:lnTo>
                    <a:pt x="2630" y="499"/>
                  </a:lnTo>
                  <a:lnTo>
                    <a:pt x="2676" y="545"/>
                  </a:lnTo>
                  <a:lnTo>
                    <a:pt x="2721" y="635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98560" y="3632040"/>
              <a:ext cx="185760" cy="185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1200" y="3632040"/>
              <a:ext cx="185760" cy="185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98560" y="3632040"/>
              <a:ext cx="185760" cy="185760"/>
            </a:xfrm>
            <a:prstGeom prst="ellipse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32400" y="366552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91200" y="3632040"/>
              <a:ext cx="185760" cy="185760"/>
            </a:xfrm>
            <a:prstGeom prst="ellipse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25400" y="366552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2400" y="3445920"/>
              <a:ext cx="253080" cy="117720"/>
            </a:xfrm>
            <a:custGeom>
              <a:avLst/>
              <a:gdLst/>
              <a:ahLst/>
              <a:rect l="l" t="t" r="r" b="b"/>
              <a:pathLst>
                <a:path w="680" h="317">
                  <a:moveTo>
                    <a:pt x="680" y="0"/>
                  </a:moveTo>
                  <a:lnTo>
                    <a:pt x="680" y="317"/>
                  </a:lnTo>
                  <a:lnTo>
                    <a:pt x="0" y="272"/>
                  </a:lnTo>
                  <a:lnTo>
                    <a:pt x="227" y="45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2760" y="3445920"/>
              <a:ext cx="303840" cy="117720"/>
            </a:xfrm>
            <a:custGeom>
              <a:avLst/>
              <a:gdLst/>
              <a:ahLst/>
              <a:rect l="l" t="t" r="r" b="b"/>
              <a:pathLst>
                <a:path w="816" h="317">
                  <a:moveTo>
                    <a:pt x="0" y="317"/>
                  </a:moveTo>
                  <a:lnTo>
                    <a:pt x="0" y="0"/>
                  </a:lnTo>
                  <a:lnTo>
                    <a:pt x="499" y="45"/>
                  </a:lnTo>
                  <a:lnTo>
                    <a:pt x="816" y="272"/>
                  </a:lnTo>
                  <a:lnTo>
                    <a:pt x="771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88880" y="3445920"/>
              <a:ext cx="219240" cy="117720"/>
            </a:xfrm>
            <a:custGeom>
              <a:avLst/>
              <a:gdLst/>
              <a:ahLst/>
              <a:rect l="l" t="t" r="r" b="b"/>
              <a:pathLst>
                <a:path w="589" h="317">
                  <a:moveTo>
                    <a:pt x="0" y="0"/>
                  </a:moveTo>
                  <a:lnTo>
                    <a:pt x="453" y="317"/>
                  </a:lnTo>
                  <a:lnTo>
                    <a:pt x="589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76160" y="5157720"/>
            <a:ext cx="863280" cy="725400"/>
            <a:chOff x="776160" y="5157720"/>
            <a:chExt cx="863280" cy="725400"/>
          </a:xfrm>
        </p:grpSpPr>
        <p:grpSp>
          <p:nvGrpSpPr>
            <p:cNvPr id="347" name=""/>
            <p:cNvGrpSpPr/>
            <p:nvPr/>
          </p:nvGrpSpPr>
          <p:grpSpPr>
            <a:xfrm>
              <a:off x="1225080" y="5157720"/>
              <a:ext cx="414360" cy="725040"/>
              <a:chOff x="1225080" y="5157720"/>
              <a:chExt cx="414360" cy="725040"/>
            </a:xfrm>
          </p:grpSpPr>
          <p:sp>
            <p:nvSpPr>
              <p:cNvPr id="348" name=""/>
              <p:cNvSpPr/>
              <p:nvPr/>
            </p:nvSpPr>
            <p:spPr>
              <a:xfrm>
                <a:off x="1225080" y="5157720"/>
                <a:ext cx="414360" cy="621720"/>
              </a:xfrm>
              <a:custGeom>
                <a:avLst/>
                <a:gdLst/>
                <a:ahLst/>
                <a:rect l="l" t="t" r="r" b="b"/>
                <a:pathLst>
                  <a:path w="544" h="817">
                    <a:moveTo>
                      <a:pt x="0" y="0"/>
                    </a:moveTo>
                    <a:lnTo>
                      <a:pt x="544" y="0"/>
                    </a:lnTo>
                    <a:lnTo>
                      <a:pt x="544" y="817"/>
                    </a:lnTo>
                    <a:lnTo>
                      <a:pt x="408" y="817"/>
                    </a:lnTo>
                    <a:lnTo>
                      <a:pt x="408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225080" y="5261760"/>
                <a:ext cx="414360" cy="621000"/>
              </a:xfrm>
              <a:custGeom>
                <a:avLst/>
                <a:gdLst/>
                <a:ahLst/>
                <a:rect l="l" t="t" r="r" b="b"/>
                <a:pathLst>
                  <a:path w="54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544" y="816"/>
                    </a:lnTo>
                    <a:lnTo>
                      <a:pt x="544" y="680"/>
                    </a:lnTo>
                    <a:lnTo>
                      <a:pt x="136" y="680"/>
                    </a:lnTo>
                    <a:lnTo>
                      <a:pt x="1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76160" y="5157720"/>
              <a:ext cx="414360" cy="725400"/>
            </a:xfrm>
            <a:custGeom>
              <a:avLst/>
              <a:gdLst/>
              <a:ahLst/>
              <a:rect l="l" t="t" r="r" b="b"/>
              <a:pathLst>
                <a:path w="544" h="953">
                  <a:moveTo>
                    <a:pt x="0" y="0"/>
                  </a:moveTo>
                  <a:lnTo>
                    <a:pt x="544" y="0"/>
                  </a:lnTo>
                  <a:lnTo>
                    <a:pt x="544" y="545"/>
                  </a:lnTo>
                  <a:lnTo>
                    <a:pt x="136" y="545"/>
                  </a:lnTo>
                  <a:lnTo>
                    <a:pt x="136" y="817"/>
                  </a:lnTo>
                  <a:lnTo>
                    <a:pt x="544" y="817"/>
                  </a:lnTo>
                  <a:lnTo>
                    <a:pt x="544" y="953"/>
                  </a:lnTo>
                  <a:lnTo>
                    <a:pt x="0" y="953"/>
                  </a:lnTo>
                  <a:lnTo>
                    <a:pt x="0" y="409"/>
                  </a:lnTo>
                  <a:lnTo>
                    <a:pt x="408" y="409"/>
                  </a:lnTo>
                  <a:lnTo>
                    <a:pt x="408" y="137"/>
                  </a:lnTo>
                  <a:lnTo>
                    <a:pt x="0" y="1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684520" y="5137200"/>
            <a:ext cx="793800" cy="758880"/>
            <a:chOff x="2684520" y="5137200"/>
            <a:chExt cx="793800" cy="758880"/>
          </a:xfrm>
        </p:grpSpPr>
        <p:sp>
          <p:nvSpPr>
            <p:cNvPr id="352" name=""/>
            <p:cNvSpPr/>
            <p:nvPr/>
          </p:nvSpPr>
          <p:spPr>
            <a:xfrm>
              <a:off x="2684520" y="5137200"/>
              <a:ext cx="324720" cy="7588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817"/>
                  </a:moveTo>
                  <a:lnTo>
                    <a:pt x="0" y="953"/>
                  </a:lnTo>
                  <a:lnTo>
                    <a:pt x="408" y="953"/>
                  </a:lnTo>
                  <a:lnTo>
                    <a:pt x="408" y="817"/>
                  </a:lnTo>
                  <a:lnTo>
                    <a:pt x="272" y="817"/>
                  </a:lnTo>
                  <a:lnTo>
                    <a:pt x="272" y="0"/>
                  </a:lnTo>
                  <a:lnTo>
                    <a:pt x="136" y="0"/>
                  </a:lnTo>
                  <a:lnTo>
                    <a:pt x="136" y="137"/>
                  </a:lnTo>
                  <a:lnTo>
                    <a:pt x="0" y="137"/>
                  </a:lnTo>
                  <a:lnTo>
                    <a:pt x="0" y="273"/>
                  </a:lnTo>
                  <a:lnTo>
                    <a:pt x="136" y="273"/>
                  </a:lnTo>
                  <a:lnTo>
                    <a:pt x="136" y="817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045240" y="5137200"/>
              <a:ext cx="433080" cy="758880"/>
              <a:chOff x="3045240" y="5137200"/>
              <a:chExt cx="433080" cy="758880"/>
            </a:xfrm>
          </p:grpSpPr>
          <p:sp>
            <p:nvSpPr>
              <p:cNvPr id="354" name=""/>
              <p:cNvSpPr/>
              <p:nvPr/>
            </p:nvSpPr>
            <p:spPr>
              <a:xfrm>
                <a:off x="3045240" y="5137200"/>
                <a:ext cx="433080" cy="650520"/>
              </a:xfrm>
              <a:custGeom>
                <a:avLst/>
                <a:gdLst/>
                <a:ahLst/>
                <a:rect l="l" t="t" r="r" b="b"/>
                <a:pathLst>
                  <a:path w="544" h="817">
                    <a:moveTo>
                      <a:pt x="0" y="0"/>
                    </a:moveTo>
                    <a:lnTo>
                      <a:pt x="544" y="0"/>
                    </a:lnTo>
                    <a:lnTo>
                      <a:pt x="544" y="817"/>
                    </a:lnTo>
                    <a:lnTo>
                      <a:pt x="408" y="817"/>
                    </a:lnTo>
                    <a:lnTo>
                      <a:pt x="408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5240" y="5246280"/>
                <a:ext cx="433080" cy="649800"/>
              </a:xfrm>
              <a:custGeom>
                <a:avLst/>
                <a:gdLst/>
                <a:ahLst/>
                <a:rect l="l" t="t" r="r" b="b"/>
                <a:pathLst>
                  <a:path w="54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544" y="816"/>
                    </a:lnTo>
                    <a:lnTo>
                      <a:pt x="544" y="680"/>
                    </a:lnTo>
                    <a:lnTo>
                      <a:pt x="136" y="680"/>
                    </a:lnTo>
                    <a:lnTo>
                      <a:pt x="1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53600" y="5461920"/>
                <a:ext cx="216360" cy="10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488880" y="4797360"/>
            <a:ext cx="144000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4797360"/>
            <a:ext cx="143964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21240" y="5157720"/>
            <a:ext cx="792000" cy="739800"/>
            <a:chOff x="4521240" y="5157720"/>
            <a:chExt cx="792000" cy="739800"/>
          </a:xfrm>
        </p:grpSpPr>
        <p:sp>
          <p:nvSpPr>
            <p:cNvPr id="360" name=""/>
            <p:cNvSpPr/>
            <p:nvPr/>
          </p:nvSpPr>
          <p:spPr>
            <a:xfrm>
              <a:off x="4521240" y="5157720"/>
              <a:ext cx="328320" cy="73872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817"/>
                  </a:moveTo>
                  <a:lnTo>
                    <a:pt x="0" y="953"/>
                  </a:lnTo>
                  <a:lnTo>
                    <a:pt x="408" y="953"/>
                  </a:lnTo>
                  <a:lnTo>
                    <a:pt x="408" y="817"/>
                  </a:lnTo>
                  <a:lnTo>
                    <a:pt x="272" y="817"/>
                  </a:lnTo>
                  <a:lnTo>
                    <a:pt x="272" y="0"/>
                  </a:lnTo>
                  <a:lnTo>
                    <a:pt x="136" y="0"/>
                  </a:lnTo>
                  <a:lnTo>
                    <a:pt x="136" y="137"/>
                  </a:lnTo>
                  <a:lnTo>
                    <a:pt x="0" y="137"/>
                  </a:lnTo>
                  <a:lnTo>
                    <a:pt x="0" y="273"/>
                  </a:lnTo>
                  <a:lnTo>
                    <a:pt x="136" y="273"/>
                  </a:lnTo>
                  <a:lnTo>
                    <a:pt x="136" y="817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90600" y="5157720"/>
              <a:ext cx="422640" cy="73980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363" y="0"/>
                  </a:moveTo>
                  <a:lnTo>
                    <a:pt x="0" y="0"/>
                  </a:lnTo>
                  <a:lnTo>
                    <a:pt x="0" y="635"/>
                  </a:lnTo>
                  <a:lnTo>
                    <a:pt x="363" y="635"/>
                  </a:lnTo>
                  <a:lnTo>
                    <a:pt x="363" y="272"/>
                  </a:lnTo>
                  <a:lnTo>
                    <a:pt x="91" y="272"/>
                  </a:lnTo>
                  <a:lnTo>
                    <a:pt x="91" y="363"/>
                  </a:lnTo>
                  <a:lnTo>
                    <a:pt x="272" y="363"/>
                  </a:lnTo>
                  <a:lnTo>
                    <a:pt x="272" y="544"/>
                  </a:lnTo>
                  <a:lnTo>
                    <a:pt x="91" y="544"/>
                  </a:lnTo>
                  <a:lnTo>
                    <a:pt x="91" y="91"/>
                  </a:lnTo>
                  <a:lnTo>
                    <a:pt x="363" y="91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773440" y="1075320"/>
            <a:ext cx="689760" cy="1083240"/>
            <a:chOff x="2773440" y="1075320"/>
            <a:chExt cx="689760" cy="1083240"/>
          </a:xfrm>
        </p:grpSpPr>
        <p:sp>
          <p:nvSpPr>
            <p:cNvPr id="363" name=""/>
            <p:cNvSpPr/>
            <p:nvPr/>
          </p:nvSpPr>
          <p:spPr>
            <a:xfrm rot="900000">
              <a:off x="2895120" y="1115640"/>
              <a:ext cx="445680" cy="1001880"/>
            </a:xfrm>
            <a:custGeom>
              <a:avLst/>
              <a:gdLst>
                <a:gd name="textAreaLeft" fmla="*/ 15840 w 445680"/>
                <a:gd name="textAreaRight" fmla="*/ 429840 w 445680"/>
                <a:gd name="textAreaTop" fmla="*/ 15840 h 1001880"/>
                <a:gd name="textAreaBottom" fmla="*/ 986040 h 1001880"/>
              </a:gdLst>
              <a:ahLst/>
              <a:rect l="textAreaLeft" t="textAreaTop" r="textAreaRight" b="textAreaBottom"/>
              <a:pathLst>
                <a:path w="21600" h="48535">
                  <a:moveTo>
                    <a:pt x="2678" y="0"/>
                  </a:moveTo>
                  <a:arcTo wR="2678" hR="2678" stAng="16200000" swAng="-5400000"/>
                  <a:lnTo>
                    <a:pt x="0" y="45857"/>
                  </a:lnTo>
                  <a:arcTo wR="2678" hR="2678" stAng="10800000" swAng="-5400000"/>
                  <a:lnTo>
                    <a:pt x="18922" y="48535"/>
                  </a:lnTo>
                  <a:arcTo wR="2678" hR="2678" stAng="5400000" swAng="-5400000"/>
                  <a:lnTo>
                    <a:pt x="21600" y="2678"/>
                  </a:lnTo>
                  <a:arcTo wR="2678" hR="267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900000">
              <a:off x="2980800" y="1179360"/>
              <a:ext cx="3902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836800" y="1766520"/>
              <a:ext cx="389880" cy="341640"/>
              <a:chOff x="2836800" y="1766520"/>
              <a:chExt cx="389880" cy="34164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891160" y="1766520"/>
                <a:ext cx="335520" cy="139320"/>
                <a:chOff x="2891160" y="1766520"/>
                <a:chExt cx="335520" cy="139320"/>
              </a:xfrm>
            </p:grpSpPr>
            <p:sp>
              <p:nvSpPr>
                <p:cNvPr id="367" name=""/>
                <p:cNvSpPr/>
                <p:nvPr/>
              </p:nvSpPr>
              <p:spPr>
                <a:xfrm rot="900000">
                  <a:off x="2896560" y="177732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900000">
                  <a:off x="3013560" y="180864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900000">
                  <a:off x="3130200" y="183996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873520" y="1833840"/>
                <a:ext cx="335160" cy="138960"/>
                <a:chOff x="2873520" y="1833840"/>
                <a:chExt cx="335160" cy="138960"/>
              </a:xfrm>
            </p:grpSpPr>
            <p:sp>
              <p:nvSpPr>
                <p:cNvPr id="371" name=""/>
                <p:cNvSpPr/>
                <p:nvPr/>
              </p:nvSpPr>
              <p:spPr>
                <a:xfrm rot="900000">
                  <a:off x="2878920" y="1844640"/>
                  <a:ext cx="90720" cy="54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900000">
                  <a:off x="2995560" y="1875960"/>
                  <a:ext cx="90720" cy="54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900000">
                  <a:off x="3112560" y="1907280"/>
                  <a:ext cx="90720" cy="54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855520" y="1901520"/>
                <a:ext cx="335160" cy="138960"/>
                <a:chOff x="2855520" y="1901520"/>
                <a:chExt cx="335160" cy="138960"/>
              </a:xfrm>
            </p:grpSpPr>
            <p:sp>
              <p:nvSpPr>
                <p:cNvPr id="375" name=""/>
                <p:cNvSpPr/>
                <p:nvPr/>
              </p:nvSpPr>
              <p:spPr>
                <a:xfrm rot="900000">
                  <a:off x="2860920" y="1912320"/>
                  <a:ext cx="90720" cy="54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900000">
                  <a:off x="2977560" y="1943640"/>
                  <a:ext cx="90720" cy="54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900000">
                  <a:off x="3094560" y="1974960"/>
                  <a:ext cx="90720" cy="54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836800" y="1968840"/>
                <a:ext cx="335520" cy="139320"/>
                <a:chOff x="2836800" y="1968840"/>
                <a:chExt cx="335520" cy="139320"/>
              </a:xfrm>
            </p:grpSpPr>
            <p:sp>
              <p:nvSpPr>
                <p:cNvPr id="379" name=""/>
                <p:cNvSpPr/>
                <p:nvPr/>
              </p:nvSpPr>
              <p:spPr>
                <a:xfrm rot="900000">
                  <a:off x="2842200" y="197964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900000">
                  <a:off x="2959200" y="201096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900000">
                  <a:off x="3075840" y="204228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2" name=""/>
            <p:cNvSpPr/>
            <p:nvPr/>
          </p:nvSpPr>
          <p:spPr>
            <a:xfrm rot="900000">
              <a:off x="3009600" y="1628640"/>
              <a:ext cx="168120" cy="1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2889000" y="1601280"/>
              <a:ext cx="409320" cy="221400"/>
              <a:chOff x="2889000" y="1601280"/>
              <a:chExt cx="409320" cy="221400"/>
            </a:xfrm>
          </p:grpSpPr>
          <p:sp>
            <p:nvSpPr>
              <p:cNvPr id="384" name=""/>
              <p:cNvSpPr/>
              <p:nvPr/>
            </p:nvSpPr>
            <p:spPr>
              <a:xfrm rot="900000">
                <a:off x="2912760" y="1612080"/>
                <a:ext cx="90720" cy="55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900000">
                <a:off x="3201840" y="1689480"/>
                <a:ext cx="90720" cy="55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900000">
                <a:off x="2894400" y="1679400"/>
                <a:ext cx="90720" cy="55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900000">
                <a:off x="3183840" y="1756800"/>
                <a:ext cx="90720" cy="55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283080" y="1136160"/>
            <a:ext cx="845280" cy="1065600"/>
            <a:chOff x="6283080" y="1136160"/>
            <a:chExt cx="845280" cy="1065600"/>
          </a:xfrm>
        </p:grpSpPr>
        <p:sp>
          <p:nvSpPr>
            <p:cNvPr id="389" name=""/>
            <p:cNvSpPr/>
            <p:nvPr/>
          </p:nvSpPr>
          <p:spPr>
            <a:xfrm rot="900000">
              <a:off x="6317280" y="1770120"/>
              <a:ext cx="667080" cy="351360"/>
            </a:xfrm>
            <a:custGeom>
              <a:avLst/>
              <a:gdLst/>
              <a:ahLst/>
              <a:rect l="l" t="t" r="r" b="b"/>
              <a:pathLst>
                <a:path w="772" h="311">
                  <a:moveTo>
                    <a:pt x="749" y="46"/>
                  </a:moveTo>
                  <a:cubicBezTo>
                    <a:pt x="726" y="1"/>
                    <a:pt x="507" y="0"/>
                    <a:pt x="386" y="0"/>
                  </a:cubicBezTo>
                  <a:cubicBezTo>
                    <a:pt x="265" y="0"/>
                    <a:pt x="46" y="1"/>
                    <a:pt x="23" y="46"/>
                  </a:cubicBezTo>
                  <a:cubicBezTo>
                    <a:pt x="0" y="91"/>
                    <a:pt x="167" y="235"/>
                    <a:pt x="250" y="273"/>
                  </a:cubicBezTo>
                  <a:cubicBezTo>
                    <a:pt x="333" y="311"/>
                    <a:pt x="439" y="311"/>
                    <a:pt x="522" y="273"/>
                  </a:cubicBezTo>
                  <a:cubicBezTo>
                    <a:pt x="605" y="235"/>
                    <a:pt x="772" y="91"/>
                    <a:pt x="749" y="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900000">
              <a:off x="6879960" y="1631880"/>
              <a:ext cx="1029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900000">
              <a:off x="7004160" y="1132920"/>
              <a:ext cx="51840" cy="56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8193240" y="1268280"/>
            <a:ext cx="934920" cy="747720"/>
          </a:xfrm>
          <a:custGeom>
            <a:avLst/>
            <a:gdLst/>
            <a:ahLst/>
            <a:rect l="l" t="t" r="r" b="b"/>
            <a:pathLst>
              <a:path w="3402" h="2721">
                <a:moveTo>
                  <a:pt x="408" y="226"/>
                </a:moveTo>
                <a:lnTo>
                  <a:pt x="272" y="362"/>
                </a:lnTo>
                <a:lnTo>
                  <a:pt x="227" y="453"/>
                </a:lnTo>
                <a:lnTo>
                  <a:pt x="0" y="635"/>
                </a:lnTo>
                <a:lnTo>
                  <a:pt x="0" y="680"/>
                </a:lnTo>
                <a:lnTo>
                  <a:pt x="91" y="771"/>
                </a:lnTo>
                <a:lnTo>
                  <a:pt x="317" y="771"/>
                </a:lnTo>
                <a:lnTo>
                  <a:pt x="453" y="816"/>
                </a:lnTo>
                <a:lnTo>
                  <a:pt x="544" y="997"/>
                </a:lnTo>
                <a:lnTo>
                  <a:pt x="726" y="1315"/>
                </a:lnTo>
                <a:lnTo>
                  <a:pt x="1088" y="1769"/>
                </a:lnTo>
                <a:lnTo>
                  <a:pt x="1270" y="2222"/>
                </a:lnTo>
                <a:lnTo>
                  <a:pt x="1270" y="2540"/>
                </a:lnTo>
                <a:lnTo>
                  <a:pt x="1088" y="2676"/>
                </a:lnTo>
                <a:lnTo>
                  <a:pt x="1088" y="2721"/>
                </a:lnTo>
                <a:lnTo>
                  <a:pt x="1406" y="2721"/>
                </a:lnTo>
                <a:lnTo>
                  <a:pt x="1451" y="2630"/>
                </a:lnTo>
                <a:lnTo>
                  <a:pt x="1497" y="2313"/>
                </a:lnTo>
                <a:lnTo>
                  <a:pt x="1315" y="1723"/>
                </a:lnTo>
                <a:lnTo>
                  <a:pt x="1769" y="1769"/>
                </a:lnTo>
                <a:lnTo>
                  <a:pt x="2132" y="1587"/>
                </a:lnTo>
                <a:lnTo>
                  <a:pt x="2268" y="1496"/>
                </a:lnTo>
                <a:lnTo>
                  <a:pt x="2676" y="1587"/>
                </a:lnTo>
                <a:lnTo>
                  <a:pt x="2948" y="1950"/>
                </a:lnTo>
                <a:lnTo>
                  <a:pt x="3220" y="2222"/>
                </a:lnTo>
                <a:lnTo>
                  <a:pt x="3266" y="2540"/>
                </a:lnTo>
                <a:lnTo>
                  <a:pt x="3130" y="2630"/>
                </a:lnTo>
                <a:lnTo>
                  <a:pt x="3175" y="2721"/>
                </a:lnTo>
                <a:lnTo>
                  <a:pt x="3311" y="2676"/>
                </a:lnTo>
                <a:lnTo>
                  <a:pt x="3402" y="2540"/>
                </a:lnTo>
                <a:lnTo>
                  <a:pt x="3356" y="2222"/>
                </a:lnTo>
                <a:lnTo>
                  <a:pt x="3356" y="2041"/>
                </a:lnTo>
                <a:lnTo>
                  <a:pt x="3220" y="1859"/>
                </a:lnTo>
                <a:lnTo>
                  <a:pt x="3175" y="1315"/>
                </a:lnTo>
                <a:lnTo>
                  <a:pt x="2994" y="907"/>
                </a:lnTo>
                <a:lnTo>
                  <a:pt x="2948" y="816"/>
                </a:lnTo>
                <a:lnTo>
                  <a:pt x="2903" y="453"/>
                </a:lnTo>
                <a:lnTo>
                  <a:pt x="2767" y="317"/>
                </a:lnTo>
                <a:lnTo>
                  <a:pt x="2495" y="272"/>
                </a:lnTo>
                <a:lnTo>
                  <a:pt x="2222" y="362"/>
                </a:lnTo>
                <a:lnTo>
                  <a:pt x="2132" y="544"/>
                </a:lnTo>
                <a:lnTo>
                  <a:pt x="2177" y="725"/>
                </a:lnTo>
                <a:lnTo>
                  <a:pt x="2222" y="771"/>
                </a:lnTo>
                <a:lnTo>
                  <a:pt x="2404" y="635"/>
                </a:lnTo>
                <a:lnTo>
                  <a:pt x="2540" y="589"/>
                </a:lnTo>
                <a:lnTo>
                  <a:pt x="2631" y="680"/>
                </a:lnTo>
                <a:lnTo>
                  <a:pt x="2449" y="771"/>
                </a:lnTo>
                <a:lnTo>
                  <a:pt x="2041" y="816"/>
                </a:lnTo>
                <a:lnTo>
                  <a:pt x="1678" y="816"/>
                </a:lnTo>
                <a:lnTo>
                  <a:pt x="1134" y="725"/>
                </a:lnTo>
                <a:lnTo>
                  <a:pt x="1088" y="498"/>
                </a:lnTo>
                <a:lnTo>
                  <a:pt x="1043" y="362"/>
                </a:lnTo>
                <a:lnTo>
                  <a:pt x="907" y="272"/>
                </a:lnTo>
                <a:lnTo>
                  <a:pt x="771" y="136"/>
                </a:lnTo>
                <a:lnTo>
                  <a:pt x="635" y="136"/>
                </a:lnTo>
                <a:lnTo>
                  <a:pt x="453" y="0"/>
                </a:lnTo>
                <a:lnTo>
                  <a:pt x="453" y="136"/>
                </a:lnTo>
                <a:lnTo>
                  <a:pt x="317" y="0"/>
                </a:lnTo>
                <a:lnTo>
                  <a:pt x="408" y="2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48160" y="1413000"/>
            <a:ext cx="1216080" cy="474480"/>
          </a:xfrm>
          <a:custGeom>
            <a:avLst/>
            <a:gdLst/>
            <a:ahLst/>
            <a:rect l="l" t="t" r="r" b="b"/>
            <a:pathLst>
              <a:path w="1860" h="725">
                <a:moveTo>
                  <a:pt x="1860" y="317"/>
                </a:moveTo>
                <a:lnTo>
                  <a:pt x="1860" y="408"/>
                </a:lnTo>
                <a:lnTo>
                  <a:pt x="1406" y="408"/>
                </a:lnTo>
                <a:lnTo>
                  <a:pt x="1406" y="453"/>
                </a:lnTo>
                <a:lnTo>
                  <a:pt x="1270" y="453"/>
                </a:lnTo>
                <a:lnTo>
                  <a:pt x="1089" y="725"/>
                </a:lnTo>
                <a:lnTo>
                  <a:pt x="408" y="725"/>
                </a:lnTo>
                <a:lnTo>
                  <a:pt x="408" y="589"/>
                </a:lnTo>
                <a:lnTo>
                  <a:pt x="0" y="589"/>
                </a:lnTo>
                <a:lnTo>
                  <a:pt x="0" y="544"/>
                </a:lnTo>
                <a:lnTo>
                  <a:pt x="408" y="544"/>
                </a:lnTo>
                <a:lnTo>
                  <a:pt x="408" y="181"/>
                </a:lnTo>
                <a:lnTo>
                  <a:pt x="0" y="181"/>
                </a:lnTo>
                <a:lnTo>
                  <a:pt x="0" y="136"/>
                </a:lnTo>
                <a:lnTo>
                  <a:pt x="408" y="136"/>
                </a:lnTo>
                <a:lnTo>
                  <a:pt x="408" y="0"/>
                </a:lnTo>
                <a:lnTo>
                  <a:pt x="1089" y="0"/>
                </a:lnTo>
                <a:lnTo>
                  <a:pt x="1270" y="272"/>
                </a:lnTo>
                <a:lnTo>
                  <a:pt x="1406" y="272"/>
                </a:lnTo>
                <a:lnTo>
                  <a:pt x="1406" y="317"/>
                </a:lnTo>
                <a:lnTo>
                  <a:pt x="1860" y="3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04880" y="1035720"/>
            <a:ext cx="1008720" cy="807480"/>
            <a:chOff x="704880" y="1035720"/>
            <a:chExt cx="1008720" cy="807480"/>
          </a:xfrm>
        </p:grpSpPr>
        <p:sp>
          <p:nvSpPr>
            <p:cNvPr id="395" name=""/>
            <p:cNvSpPr/>
            <p:nvPr/>
          </p:nvSpPr>
          <p:spPr>
            <a:xfrm>
              <a:off x="704880" y="1698480"/>
              <a:ext cx="863640" cy="14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85800" y="1698480"/>
              <a:ext cx="54000" cy="14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9309800">
              <a:off x="1396800" y="1014120"/>
              <a:ext cx="142560" cy="612720"/>
            </a:xfrm>
            <a:custGeom>
              <a:avLst/>
              <a:gdLst/>
              <a:ahLst/>
              <a:rect l="l" t="t" r="r" b="b"/>
              <a:pathLst>
                <a:path w="280" h="499">
                  <a:moveTo>
                    <a:pt x="181" y="0"/>
                  </a:moveTo>
                  <a:cubicBezTo>
                    <a:pt x="166" y="0"/>
                    <a:pt x="0" y="129"/>
                    <a:pt x="0" y="182"/>
                  </a:cubicBezTo>
                  <a:cubicBezTo>
                    <a:pt x="0" y="235"/>
                    <a:pt x="174" y="265"/>
                    <a:pt x="181" y="318"/>
                  </a:cubicBezTo>
                  <a:cubicBezTo>
                    <a:pt x="188" y="371"/>
                    <a:pt x="30" y="499"/>
                    <a:pt x="45" y="499"/>
                  </a:cubicBezTo>
                  <a:cubicBezTo>
                    <a:pt x="60" y="499"/>
                    <a:pt x="264" y="371"/>
                    <a:pt x="272" y="318"/>
                  </a:cubicBezTo>
                  <a:cubicBezTo>
                    <a:pt x="280" y="265"/>
                    <a:pt x="106" y="235"/>
                    <a:pt x="91" y="182"/>
                  </a:cubicBezTo>
                  <a:cubicBezTo>
                    <a:pt x="76" y="129"/>
                    <a:pt x="196" y="0"/>
                    <a:pt x="18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8703800">
              <a:off x="1339560" y="1131480"/>
              <a:ext cx="142920" cy="612720"/>
            </a:xfrm>
            <a:custGeom>
              <a:avLst/>
              <a:gdLst/>
              <a:ahLst/>
              <a:rect l="l" t="t" r="r" b="b"/>
              <a:pathLst>
                <a:path w="280" h="499">
                  <a:moveTo>
                    <a:pt x="181" y="0"/>
                  </a:moveTo>
                  <a:cubicBezTo>
                    <a:pt x="166" y="0"/>
                    <a:pt x="0" y="129"/>
                    <a:pt x="0" y="182"/>
                  </a:cubicBezTo>
                  <a:cubicBezTo>
                    <a:pt x="0" y="235"/>
                    <a:pt x="174" y="265"/>
                    <a:pt x="181" y="318"/>
                  </a:cubicBezTo>
                  <a:cubicBezTo>
                    <a:pt x="188" y="371"/>
                    <a:pt x="30" y="499"/>
                    <a:pt x="45" y="499"/>
                  </a:cubicBezTo>
                  <a:cubicBezTo>
                    <a:pt x="60" y="499"/>
                    <a:pt x="264" y="371"/>
                    <a:pt x="272" y="318"/>
                  </a:cubicBezTo>
                  <a:cubicBezTo>
                    <a:pt x="280" y="265"/>
                    <a:pt x="106" y="235"/>
                    <a:pt x="91" y="182"/>
                  </a:cubicBezTo>
                  <a:cubicBezTo>
                    <a:pt x="76" y="129"/>
                    <a:pt x="196" y="0"/>
                    <a:pt x="18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749520" y="3141720"/>
            <a:ext cx="909000" cy="864720"/>
            <a:chOff x="749520" y="3141720"/>
            <a:chExt cx="909000" cy="864720"/>
          </a:xfrm>
        </p:grpSpPr>
        <p:sp>
          <p:nvSpPr>
            <p:cNvPr id="400" name=""/>
            <p:cNvSpPr/>
            <p:nvPr/>
          </p:nvSpPr>
          <p:spPr>
            <a:xfrm>
              <a:off x="1065240" y="3429000"/>
              <a:ext cx="288720" cy="2746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9050000">
              <a:off x="812880" y="323388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5063000">
              <a:off x="694440" y="364392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0800000">
              <a:off x="1057320" y="391608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2549400">
              <a:off x="1320120" y="324612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rot="6537000">
              <a:off x="1423800" y="3655800"/>
              <a:ext cx="289080" cy="910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6160" y="3141720"/>
              <a:ext cx="863640" cy="863640"/>
            </a:xfrm>
            <a:prstGeom prst="donut">
              <a:avLst>
                <a:gd name="adj" fmla="val 238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マークいろいろ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907920"/>
            <a:ext cx="143964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05600" y="907920"/>
            <a:ext cx="143964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77240" y="907920"/>
            <a:ext cx="143964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32160" y="907920"/>
            <a:ext cx="144000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8880" y="2852640"/>
            <a:ext cx="144000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60520" y="2852640"/>
            <a:ext cx="144000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32160" y="2852640"/>
            <a:ext cx="144000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03800" y="2852640"/>
            <a:ext cx="144000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33960" y="4797360"/>
            <a:ext cx="143964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05600" y="4797360"/>
            <a:ext cx="143964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77240" y="2852640"/>
            <a:ext cx="143964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978680" y="4797360"/>
            <a:ext cx="144000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580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禁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8924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携帯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6088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充電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3396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ゴルフ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90560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ペット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２０歳未満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8924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１８歳未満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8880" y="907920"/>
            <a:ext cx="1440000" cy="1440000"/>
          </a:xfrm>
          <a:prstGeom prst="noSmoking">
            <a:avLst>
              <a:gd name="adj" fmla="val 95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6088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メイリオ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歳未満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649600" y="3164040"/>
            <a:ext cx="890280" cy="888480"/>
            <a:chOff x="2649600" y="3164040"/>
            <a:chExt cx="890280" cy="888480"/>
          </a:xfrm>
        </p:grpSpPr>
        <p:sp>
          <p:nvSpPr>
            <p:cNvPr id="430" name=""/>
            <p:cNvSpPr/>
            <p:nvPr/>
          </p:nvSpPr>
          <p:spPr>
            <a:xfrm>
              <a:off x="2649600" y="3164040"/>
              <a:ext cx="685080" cy="34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93760" y="3574440"/>
              <a:ext cx="340920" cy="340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98960" y="3369240"/>
              <a:ext cx="340920" cy="3409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64" y="7399"/>
                  </a:moveTo>
                  <a:arcTo wR="-5432" hR="-5432" stAng="-8474383" swAng="-8006188"/>
                  <a:lnTo>
                    <a:pt x="9920" y="36"/>
                  </a:lnTo>
                  <a:arcTo wR="10800" hR="10800" stAng="-5680571" swAng="8006188"/>
                  <a:lnTo>
                    <a:pt x="21327" y="19252"/>
                  </a:lnTo>
                  <a:lnTo>
                    <a:pt x="13758" y="20079"/>
                  </a:lnTo>
                  <a:lnTo>
                    <a:pt x="12930" y="125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9900000">
              <a:off x="2719080" y="3506040"/>
              <a:ext cx="348480" cy="3484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64" y="7399"/>
                  </a:moveTo>
                  <a:arcTo wR="-5432" hR="-5432" stAng="-8474383" swAng="-8212766"/>
                  <a:lnTo>
                    <a:pt x="9275" y="108"/>
                  </a:lnTo>
                  <a:arcTo wR="10800" hR="10800" stAng="-5887149" swAng="8212766"/>
                  <a:lnTo>
                    <a:pt x="21327" y="19252"/>
                  </a:lnTo>
                  <a:lnTo>
                    <a:pt x="13758" y="20079"/>
                  </a:lnTo>
                  <a:lnTo>
                    <a:pt x="12930" y="125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2786760" y="3233160"/>
              <a:ext cx="410040" cy="205200"/>
              <a:chOff x="2786760" y="3233160"/>
              <a:chExt cx="410040" cy="205200"/>
            </a:xfrm>
          </p:grpSpPr>
          <p:sp>
            <p:nvSpPr>
              <p:cNvPr id="435" name=""/>
              <p:cNvSpPr/>
              <p:nvPr/>
            </p:nvSpPr>
            <p:spPr>
              <a:xfrm>
                <a:off x="2786760" y="3233160"/>
                <a:ext cx="37800" cy="20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836800" y="3233160"/>
                <a:ext cx="111960" cy="2052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961000" y="3233160"/>
                <a:ext cx="111600" cy="2052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085200" y="3233160"/>
                <a:ext cx="111600" cy="2052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061440" y="3643920"/>
              <a:ext cx="205200" cy="204840"/>
              <a:chOff x="3061440" y="3643920"/>
              <a:chExt cx="205200" cy="204840"/>
            </a:xfrm>
          </p:grpSpPr>
          <p:sp>
            <p:nvSpPr>
              <p:cNvPr id="440" name=""/>
              <p:cNvSpPr/>
              <p:nvPr/>
            </p:nvSpPr>
            <p:spPr>
              <a:xfrm>
                <a:off x="3061440" y="364392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91" y="136"/>
                    </a:lnTo>
                    <a:lnTo>
                      <a:pt x="91" y="182"/>
                    </a:lnTo>
                    <a:lnTo>
                      <a:pt x="0" y="182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91"/>
                    </a:lnTo>
                    <a:lnTo>
                      <a:pt x="46" y="91"/>
                    </a:lnTo>
                    <a:lnTo>
                      <a:pt x="46" y="45"/>
                    </a:lnTo>
                    <a:lnTo>
                      <a:pt x="136" y="4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32720" y="364392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5080" y="364392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3198960" y="3711600"/>
              <a:ext cx="340920" cy="340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267000" y="3779640"/>
              <a:ext cx="204840" cy="204840"/>
              <a:chOff x="3267000" y="3779640"/>
              <a:chExt cx="204840" cy="204840"/>
            </a:xfrm>
          </p:grpSpPr>
          <p:sp>
            <p:nvSpPr>
              <p:cNvPr id="445" name=""/>
              <p:cNvSpPr/>
              <p:nvPr/>
            </p:nvSpPr>
            <p:spPr>
              <a:xfrm>
                <a:off x="3267000" y="3779640"/>
                <a:ext cx="6120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91" y="136"/>
                    </a:lnTo>
                    <a:lnTo>
                      <a:pt x="91" y="182"/>
                    </a:lnTo>
                    <a:lnTo>
                      <a:pt x="0" y="182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91"/>
                    </a:lnTo>
                    <a:lnTo>
                      <a:pt x="46" y="91"/>
                    </a:lnTo>
                    <a:lnTo>
                      <a:pt x="46" y="45"/>
                    </a:lnTo>
                    <a:lnTo>
                      <a:pt x="136" y="4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338280" y="377964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410280" y="377964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>
            <a:off x="228924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両替お断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1580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球技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952880" y="3103560"/>
            <a:ext cx="287280" cy="287280"/>
            <a:chOff x="4952880" y="3103560"/>
            <a:chExt cx="287280" cy="287280"/>
          </a:xfrm>
        </p:grpSpPr>
        <p:sp>
          <p:nvSpPr>
            <p:cNvPr id="451" name=""/>
            <p:cNvSpPr/>
            <p:nvPr/>
          </p:nvSpPr>
          <p:spPr>
            <a:xfrm>
              <a:off x="4952880" y="3103560"/>
              <a:ext cx="287280" cy="287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91760" y="3132360"/>
              <a:ext cx="210240" cy="229320"/>
            </a:xfrm>
            <a:custGeom>
              <a:avLst/>
              <a:gdLst/>
              <a:ahLst/>
              <a:rect l="l" t="t" r="r" b="b"/>
              <a:pathLst>
                <a:path w="499" h="545">
                  <a:moveTo>
                    <a:pt x="0" y="545"/>
                  </a:moveTo>
                  <a:lnTo>
                    <a:pt x="90" y="545"/>
                  </a:lnTo>
                  <a:lnTo>
                    <a:pt x="90" y="91"/>
                  </a:lnTo>
                  <a:lnTo>
                    <a:pt x="408" y="91"/>
                  </a:lnTo>
                  <a:lnTo>
                    <a:pt x="408" y="272"/>
                  </a:lnTo>
                  <a:lnTo>
                    <a:pt x="90" y="272"/>
                  </a:lnTo>
                  <a:lnTo>
                    <a:pt x="90" y="363"/>
                  </a:lnTo>
                  <a:lnTo>
                    <a:pt x="408" y="363"/>
                  </a:lnTo>
                  <a:lnTo>
                    <a:pt x="408" y="272"/>
                  </a:lnTo>
                  <a:lnTo>
                    <a:pt x="499" y="272"/>
                  </a:lnTo>
                  <a:lnTo>
                    <a:pt x="499" y="91"/>
                  </a:lnTo>
                  <a:lnTo>
                    <a:pt x="408" y="91"/>
                  </a:lnTo>
                  <a:lnTo>
                    <a:pt x="408" y="0"/>
                  </a:lnTo>
                  <a:lnTo>
                    <a:pt x="0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16088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駐車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3396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飲食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90560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トイレ使用不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90560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走る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3252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カード禁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マークいろいろ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9" name=""/>
          <p:cNvSpPr/>
          <p:nvPr/>
        </p:nvSpPr>
        <p:spPr>
          <a:xfrm>
            <a:off x="41580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喫煙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924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携帯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16088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電源有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3396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ゴルフ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90560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ペット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6088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駐車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3396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飲食可・持ち込み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90560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トイレ使え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580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２０歳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8924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１８歳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08924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メイリオ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歳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90560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カキ氷あり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105600" y="907920"/>
            <a:ext cx="1439640" cy="1440000"/>
            <a:chOff x="6105600" y="907920"/>
            <a:chExt cx="1439640" cy="1440000"/>
          </a:xfrm>
        </p:grpSpPr>
        <p:grpSp>
          <p:nvGrpSpPr>
            <p:cNvPr id="472" name=""/>
            <p:cNvGrpSpPr/>
            <p:nvPr/>
          </p:nvGrpSpPr>
          <p:grpSpPr>
            <a:xfrm>
              <a:off x="6105600" y="907920"/>
              <a:ext cx="1439640" cy="1440000"/>
              <a:chOff x="6105600" y="907920"/>
              <a:chExt cx="1439640" cy="1440000"/>
            </a:xfrm>
          </p:grpSpPr>
          <p:sp>
            <p:nvSpPr>
              <p:cNvPr id="473" name=""/>
              <p:cNvSpPr/>
              <p:nvPr/>
            </p:nvSpPr>
            <p:spPr>
              <a:xfrm>
                <a:off x="6176880" y="979560"/>
                <a:ext cx="1297080" cy="1296720"/>
              </a:xfrm>
              <a:prstGeom prst="ellipse">
                <a:avLst/>
              </a:prstGeom>
              <a:gradFill rotWithShape="0">
                <a:gsLst>
                  <a:gs pos="0">
                    <a:srgbClr val="e4f2f3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05600" y="907920"/>
                <a:ext cx="1439640" cy="1440000"/>
              </a:xfrm>
              <a:prstGeom prst="donut">
                <a:avLst>
                  <a:gd name="adj" fmla="val 10472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6266160" y="1123560"/>
              <a:ext cx="845280" cy="1064880"/>
              <a:chOff x="6266160" y="1123560"/>
              <a:chExt cx="845280" cy="1064880"/>
            </a:xfrm>
          </p:grpSpPr>
          <p:sp>
            <p:nvSpPr>
              <p:cNvPr id="476" name=""/>
              <p:cNvSpPr/>
              <p:nvPr/>
            </p:nvSpPr>
            <p:spPr>
              <a:xfrm rot="900000">
                <a:off x="6986520" y="1120680"/>
                <a:ext cx="52560" cy="5648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900000">
                <a:off x="6862320" y="1618200"/>
                <a:ext cx="102960" cy="307800"/>
              </a:xfrm>
              <a:prstGeom prst="rect">
                <a:avLst/>
              </a:prstGeom>
              <a:gradFill rotWithShape="0">
                <a:gsLst>
                  <a:gs pos="0">
                    <a:srgbClr val="3b0000"/>
                  </a:gs>
                  <a:gs pos="50000">
                    <a:srgbClr val="800000"/>
                  </a:gs>
                  <a:gs pos="100000">
                    <a:srgbClr val="3b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900000">
                <a:off x="6300000" y="1757880"/>
                <a:ext cx="666720" cy="350280"/>
              </a:xfrm>
              <a:custGeom>
                <a:avLst/>
                <a:gdLst/>
                <a:ahLst/>
                <a:rect l="l" t="t" r="r" b="b"/>
                <a:pathLst>
                  <a:path w="772" h="311">
                    <a:moveTo>
                      <a:pt x="749" y="46"/>
                    </a:moveTo>
                    <a:cubicBezTo>
                      <a:pt x="726" y="1"/>
                      <a:pt x="507" y="0"/>
                      <a:pt x="386" y="0"/>
                    </a:cubicBezTo>
                    <a:cubicBezTo>
                      <a:pt x="265" y="0"/>
                      <a:pt x="46" y="1"/>
                      <a:pt x="23" y="46"/>
                    </a:cubicBezTo>
                    <a:cubicBezTo>
                      <a:pt x="0" y="91"/>
                      <a:pt x="167" y="235"/>
                      <a:pt x="250" y="273"/>
                    </a:cubicBezTo>
                    <a:cubicBezTo>
                      <a:pt x="333" y="311"/>
                      <a:pt x="439" y="311"/>
                      <a:pt x="522" y="273"/>
                    </a:cubicBezTo>
                    <a:cubicBezTo>
                      <a:pt x="605" y="235"/>
                      <a:pt x="772" y="91"/>
                      <a:pt x="749" y="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900000">
                <a:off x="6352200" y="1792800"/>
                <a:ext cx="528480" cy="263160"/>
              </a:xfrm>
              <a:custGeom>
                <a:avLst/>
                <a:gdLst/>
                <a:ahLst/>
                <a:rect l="l" t="t" r="r" b="b"/>
                <a:pathLst>
                  <a:path w="772" h="311">
                    <a:moveTo>
                      <a:pt x="749" y="46"/>
                    </a:moveTo>
                    <a:cubicBezTo>
                      <a:pt x="726" y="1"/>
                      <a:pt x="507" y="0"/>
                      <a:pt x="386" y="0"/>
                    </a:cubicBezTo>
                    <a:cubicBezTo>
                      <a:pt x="265" y="0"/>
                      <a:pt x="46" y="1"/>
                      <a:pt x="23" y="46"/>
                    </a:cubicBezTo>
                    <a:cubicBezTo>
                      <a:pt x="0" y="91"/>
                      <a:pt x="167" y="235"/>
                      <a:pt x="250" y="273"/>
                    </a:cubicBezTo>
                    <a:cubicBezTo>
                      <a:pt x="333" y="311"/>
                      <a:pt x="439" y="311"/>
                      <a:pt x="522" y="273"/>
                    </a:cubicBezTo>
                    <a:cubicBezTo>
                      <a:pt x="605" y="235"/>
                      <a:pt x="772" y="91"/>
                      <a:pt x="749" y="4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148400">
                <a:off x="6394680" y="1776600"/>
                <a:ext cx="306360" cy="218520"/>
              </a:xfrm>
              <a:custGeom>
                <a:avLst/>
                <a:gdLst/>
                <a:ahLst/>
                <a:rect l="l" t="t" r="r" b="b"/>
                <a:pathLst>
                  <a:path w="235" h="190">
                    <a:moveTo>
                      <a:pt x="167" y="20"/>
                    </a:moveTo>
                    <a:cubicBezTo>
                      <a:pt x="131" y="0"/>
                      <a:pt x="20" y="21"/>
                      <a:pt x="10" y="45"/>
                    </a:cubicBezTo>
                    <a:cubicBezTo>
                      <a:pt x="0" y="69"/>
                      <a:pt x="72" y="145"/>
                      <a:pt x="108" y="166"/>
                    </a:cubicBezTo>
                    <a:cubicBezTo>
                      <a:pt x="144" y="186"/>
                      <a:pt x="215" y="190"/>
                      <a:pt x="225" y="166"/>
                    </a:cubicBezTo>
                    <a:cubicBezTo>
                      <a:pt x="235" y="142"/>
                      <a:pt x="203" y="40"/>
                      <a:pt x="167" y="2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900000">
                <a:off x="6745320" y="1869840"/>
                <a:ext cx="72720" cy="727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2360520" y="907920"/>
            <a:ext cx="1439640" cy="1440000"/>
            <a:chOff x="2360520" y="907920"/>
            <a:chExt cx="1439640" cy="1440000"/>
          </a:xfrm>
        </p:grpSpPr>
        <p:grpSp>
          <p:nvGrpSpPr>
            <p:cNvPr id="483" name=""/>
            <p:cNvGrpSpPr/>
            <p:nvPr/>
          </p:nvGrpSpPr>
          <p:grpSpPr>
            <a:xfrm>
              <a:off x="2360520" y="907920"/>
              <a:ext cx="1439640" cy="1440000"/>
              <a:chOff x="2360520" y="907920"/>
              <a:chExt cx="1439640" cy="1440000"/>
            </a:xfrm>
          </p:grpSpPr>
          <p:sp>
            <p:nvSpPr>
              <p:cNvPr id="484" name=""/>
              <p:cNvSpPr/>
              <p:nvPr/>
            </p:nvSpPr>
            <p:spPr>
              <a:xfrm>
                <a:off x="2431800" y="979560"/>
                <a:ext cx="1297080" cy="1296720"/>
              </a:xfrm>
              <a:prstGeom prst="ellipse">
                <a:avLst/>
              </a:prstGeom>
              <a:gradFill rotWithShape="0">
                <a:gsLst>
                  <a:gs pos="0">
                    <a:srgbClr val="e4f2f3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360520" y="907920"/>
                <a:ext cx="1439640" cy="1440000"/>
              </a:xfrm>
              <a:prstGeom prst="donut">
                <a:avLst>
                  <a:gd name="adj" fmla="val 10472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700360" y="1083240"/>
              <a:ext cx="692640" cy="1086480"/>
              <a:chOff x="2700360" y="1083240"/>
              <a:chExt cx="692640" cy="1086480"/>
            </a:xfrm>
          </p:grpSpPr>
          <p:sp>
            <p:nvSpPr>
              <p:cNvPr id="487" name=""/>
              <p:cNvSpPr/>
              <p:nvPr/>
            </p:nvSpPr>
            <p:spPr>
              <a:xfrm rot="900000">
                <a:off x="2822400" y="1123920"/>
                <a:ext cx="447840" cy="1004760"/>
              </a:xfrm>
              <a:custGeom>
                <a:avLst/>
                <a:gdLst>
                  <a:gd name="textAreaLeft" fmla="*/ 16200 w 447840"/>
                  <a:gd name="textAreaRight" fmla="*/ 431640 w 447840"/>
                  <a:gd name="textAreaTop" fmla="*/ 16200 h 1004760"/>
                  <a:gd name="textAreaBottom" fmla="*/ 988560 h 1004760"/>
                </a:gdLst>
                <a:ahLst/>
                <a:rect l="textAreaLeft" t="textAreaTop" r="textAreaRight" b="textAreaBottom"/>
                <a:pathLst>
                  <a:path w="21600" h="48440">
                    <a:moveTo>
                      <a:pt x="2678" y="0"/>
                    </a:moveTo>
                    <a:arcTo wR="2678" hR="2678" stAng="16200000" swAng="-5400000"/>
                    <a:lnTo>
                      <a:pt x="0" y="45762"/>
                    </a:lnTo>
                    <a:arcTo wR="2678" hR="2678" stAng="10800000" swAng="-5400000"/>
                    <a:lnTo>
                      <a:pt x="18922" y="48440"/>
                    </a:lnTo>
                    <a:arcTo wR="2678" hR="2678" stAng="5400000" swAng="-5400000"/>
                    <a:lnTo>
                      <a:pt x="21600" y="2678"/>
                    </a:lnTo>
                    <a:arcTo wR="2678" hR="267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1f1f1"/>
                  </a:gs>
                  <a:gs pos="100000">
                    <a:srgbClr val="c0c0c0"/>
                  </a:gs>
                </a:gsLst>
                <a:lin ang="9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900000">
                <a:off x="2908440" y="1186920"/>
                <a:ext cx="392040" cy="44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900000">
                <a:off x="2926080" y="1201680"/>
                <a:ext cx="358560" cy="4190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50000">
                    <a:srgbClr val="dbecfe"/>
                  </a:gs>
                  <a:gs pos="100000">
                    <a:srgbClr val="99cc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2763720" y="1775520"/>
                <a:ext cx="392400" cy="344160"/>
                <a:chOff x="2763720" y="1775520"/>
                <a:chExt cx="392400" cy="34416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2818440" y="1775520"/>
                  <a:ext cx="337680" cy="140040"/>
                  <a:chOff x="2818440" y="1775520"/>
                  <a:chExt cx="337680" cy="1400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900000">
                    <a:off x="2823840" y="178632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900000">
                    <a:off x="2941200" y="181800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900000">
                    <a:off x="3059280" y="184932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2800080" y="1843920"/>
                  <a:ext cx="337680" cy="140040"/>
                  <a:chOff x="2800080" y="1843920"/>
                  <a:chExt cx="337680" cy="14004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900000">
                    <a:off x="2805480" y="185472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900000">
                    <a:off x="2922840" y="188604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900000">
                    <a:off x="3040920" y="191772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2781720" y="1911600"/>
                  <a:ext cx="337680" cy="140040"/>
                  <a:chOff x="2781720" y="1911600"/>
                  <a:chExt cx="337680" cy="14004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900000">
                    <a:off x="2787120" y="192240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900000">
                    <a:off x="2904840" y="195372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900000">
                    <a:off x="3022560" y="198540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2763720" y="1979280"/>
                  <a:ext cx="337680" cy="140400"/>
                  <a:chOff x="2763720" y="1979280"/>
                  <a:chExt cx="337680" cy="14040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900000">
                    <a:off x="2769120" y="199008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900000">
                    <a:off x="2886480" y="202176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rot="900000">
                    <a:off x="3004560" y="2053440"/>
                    <a:ext cx="91080" cy="554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2e2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7" name=""/>
              <p:cNvSpPr/>
              <p:nvPr/>
            </p:nvSpPr>
            <p:spPr>
              <a:xfrm rot="900000">
                <a:off x="2938680" y="1638360"/>
                <a:ext cx="166680" cy="166680"/>
              </a:xfrm>
              <a:prstGeom prst="ellipse">
                <a:avLst/>
              </a:prstGeom>
              <a:gradFill rotWithShape="0">
                <a:gsLst>
                  <a:gs pos="0">
                    <a:srgbClr val="5a5a5a"/>
                  </a:gs>
                  <a:gs pos="100000">
                    <a:srgbClr val="c0c0c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1700000">
                <a:off x="2964960" y="1665000"/>
                <a:ext cx="111240" cy="112680"/>
              </a:xfrm>
              <a:prstGeom prst="ellipse">
                <a:avLst/>
              </a:prstGeom>
              <a:gradFill rotWithShape="0">
                <a:gsLst>
                  <a:gs pos="0">
                    <a:srgbClr val="5a5a5a"/>
                  </a:gs>
                  <a:gs pos="100000">
                    <a:srgbClr val="c0c0c0"/>
                  </a:gs>
                </a:gsLst>
                <a:lin ang="15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2816280" y="1610280"/>
                <a:ext cx="410760" cy="222120"/>
                <a:chOff x="2816280" y="1610280"/>
                <a:chExt cx="410760" cy="222120"/>
              </a:xfrm>
            </p:grpSpPr>
            <p:sp>
              <p:nvSpPr>
                <p:cNvPr id="510" name=""/>
                <p:cNvSpPr/>
                <p:nvPr/>
              </p:nvSpPr>
              <p:spPr>
                <a:xfrm rot="900000">
                  <a:off x="2840040" y="1621080"/>
                  <a:ext cx="91080" cy="5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900000">
                  <a:off x="3130200" y="1698840"/>
                  <a:ext cx="91080" cy="5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900000">
                  <a:off x="2821680" y="1688760"/>
                  <a:ext cx="91080" cy="5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900000">
                  <a:off x="3112200" y="1766520"/>
                  <a:ext cx="91080" cy="5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2e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4" name=""/>
          <p:cNvGrpSpPr/>
          <p:nvPr/>
        </p:nvGrpSpPr>
        <p:grpSpPr>
          <a:xfrm>
            <a:off x="488880" y="907920"/>
            <a:ext cx="1439640" cy="1440000"/>
            <a:chOff x="488880" y="907920"/>
            <a:chExt cx="1439640" cy="1440000"/>
          </a:xfrm>
        </p:grpSpPr>
        <p:grpSp>
          <p:nvGrpSpPr>
            <p:cNvPr id="515" name=""/>
            <p:cNvGrpSpPr/>
            <p:nvPr/>
          </p:nvGrpSpPr>
          <p:grpSpPr>
            <a:xfrm>
              <a:off x="488880" y="907920"/>
              <a:ext cx="1439640" cy="1440000"/>
              <a:chOff x="488880" y="907920"/>
              <a:chExt cx="1439640" cy="1440000"/>
            </a:xfrm>
          </p:grpSpPr>
          <p:sp>
            <p:nvSpPr>
              <p:cNvPr id="516" name=""/>
              <p:cNvSpPr/>
              <p:nvPr/>
            </p:nvSpPr>
            <p:spPr>
              <a:xfrm>
                <a:off x="560160" y="979560"/>
                <a:ext cx="1297080" cy="1296720"/>
              </a:xfrm>
              <a:prstGeom prst="ellipse">
                <a:avLst/>
              </a:prstGeom>
              <a:gradFill rotWithShape="0">
                <a:gsLst>
                  <a:gs pos="0">
                    <a:srgbClr val="e4f2f3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8880" y="907920"/>
                <a:ext cx="1439640" cy="1440000"/>
              </a:xfrm>
              <a:prstGeom prst="donut">
                <a:avLst>
                  <a:gd name="adj" fmla="val 10472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04880" y="1073880"/>
              <a:ext cx="1008720" cy="806760"/>
              <a:chOff x="704880" y="1073880"/>
              <a:chExt cx="1008720" cy="80676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704880" y="1736640"/>
                <a:ext cx="934920" cy="144000"/>
                <a:chOff x="704880" y="1736640"/>
                <a:chExt cx="934920" cy="1440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704880" y="1736640"/>
                  <a:ext cx="863640" cy="14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585800" y="1736640"/>
                  <a:ext cx="54000" cy="14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65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04880" y="1736640"/>
                  <a:ext cx="216000" cy="14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e585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04880" y="1736640"/>
                  <a:ext cx="863640" cy="14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c1">
                        <a:alpha val="0"/>
                      </a:srgbClr>
                    </a:gs>
                    <a:gs pos="100000">
                      <a:srgbClr val="808080">
                        <a:alpha val="60392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4" name=""/>
              <p:cNvSpPr/>
              <p:nvPr/>
            </p:nvSpPr>
            <p:spPr>
              <a:xfrm rot="19309800">
                <a:off x="1396800" y="1052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280" h="499">
                    <a:moveTo>
                      <a:pt x="181" y="0"/>
                    </a:moveTo>
                    <a:cubicBezTo>
                      <a:pt x="166" y="0"/>
                      <a:pt x="0" y="129"/>
                      <a:pt x="0" y="182"/>
                    </a:cubicBezTo>
                    <a:cubicBezTo>
                      <a:pt x="0" y="235"/>
                      <a:pt x="174" y="265"/>
                      <a:pt x="181" y="318"/>
                    </a:cubicBezTo>
                    <a:cubicBezTo>
                      <a:pt x="188" y="371"/>
                      <a:pt x="30" y="499"/>
                      <a:pt x="45" y="499"/>
                    </a:cubicBezTo>
                    <a:cubicBezTo>
                      <a:pt x="60" y="499"/>
                      <a:pt x="264" y="371"/>
                      <a:pt x="272" y="318"/>
                    </a:cubicBezTo>
                    <a:cubicBezTo>
                      <a:pt x="280" y="265"/>
                      <a:pt x="106" y="235"/>
                      <a:pt x="91" y="182"/>
                    </a:cubicBezTo>
                    <a:cubicBezTo>
                      <a:pt x="76" y="129"/>
                      <a:pt x="196" y="0"/>
                      <a:pt x="18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769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8703800">
                <a:off x="1339560" y="1169280"/>
                <a:ext cx="142560" cy="612720"/>
              </a:xfrm>
              <a:custGeom>
                <a:avLst/>
                <a:gdLst/>
                <a:ahLst/>
                <a:rect l="l" t="t" r="r" b="b"/>
                <a:pathLst>
                  <a:path w="280" h="499">
                    <a:moveTo>
                      <a:pt x="181" y="0"/>
                    </a:moveTo>
                    <a:cubicBezTo>
                      <a:pt x="166" y="0"/>
                      <a:pt x="0" y="129"/>
                      <a:pt x="0" y="182"/>
                    </a:cubicBezTo>
                    <a:cubicBezTo>
                      <a:pt x="0" y="235"/>
                      <a:pt x="174" y="265"/>
                      <a:pt x="181" y="318"/>
                    </a:cubicBezTo>
                    <a:cubicBezTo>
                      <a:pt x="188" y="371"/>
                      <a:pt x="30" y="499"/>
                      <a:pt x="45" y="499"/>
                    </a:cubicBezTo>
                    <a:cubicBezTo>
                      <a:pt x="60" y="499"/>
                      <a:pt x="264" y="371"/>
                      <a:pt x="272" y="318"/>
                    </a:cubicBezTo>
                    <a:cubicBezTo>
                      <a:pt x="280" y="265"/>
                      <a:pt x="106" y="235"/>
                      <a:pt x="91" y="182"/>
                    </a:cubicBezTo>
                    <a:cubicBezTo>
                      <a:pt x="76" y="129"/>
                      <a:pt x="196" y="0"/>
                      <a:pt x="18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829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4232160" y="907920"/>
            <a:ext cx="1439640" cy="1440000"/>
            <a:chOff x="4232160" y="907920"/>
            <a:chExt cx="1439640" cy="1440000"/>
          </a:xfrm>
        </p:grpSpPr>
        <p:grpSp>
          <p:nvGrpSpPr>
            <p:cNvPr id="527" name=""/>
            <p:cNvGrpSpPr/>
            <p:nvPr/>
          </p:nvGrpSpPr>
          <p:grpSpPr>
            <a:xfrm>
              <a:off x="4232160" y="907920"/>
              <a:ext cx="1439640" cy="1440000"/>
              <a:chOff x="4232160" y="907920"/>
              <a:chExt cx="1439640" cy="1440000"/>
            </a:xfrm>
          </p:grpSpPr>
          <p:sp>
            <p:nvSpPr>
              <p:cNvPr id="528" name=""/>
              <p:cNvSpPr/>
              <p:nvPr/>
            </p:nvSpPr>
            <p:spPr>
              <a:xfrm>
                <a:off x="4303440" y="979560"/>
                <a:ext cx="1297080" cy="1296720"/>
              </a:xfrm>
              <a:prstGeom prst="ellipse">
                <a:avLst/>
              </a:prstGeom>
              <a:gradFill rotWithShape="0">
                <a:gsLst>
                  <a:gs pos="0">
                    <a:srgbClr val="e4f2f3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32160" y="907920"/>
                <a:ext cx="1439640" cy="1440000"/>
              </a:xfrm>
              <a:prstGeom prst="donut">
                <a:avLst>
                  <a:gd name="adj" fmla="val 10472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4448160" y="1413000"/>
              <a:ext cx="1152360" cy="449280"/>
              <a:chOff x="4448160" y="1413000"/>
              <a:chExt cx="1152360" cy="449280"/>
            </a:xfrm>
          </p:grpSpPr>
          <p:sp>
            <p:nvSpPr>
              <p:cNvPr id="531" name=""/>
              <p:cNvSpPr/>
              <p:nvPr/>
            </p:nvSpPr>
            <p:spPr>
              <a:xfrm>
                <a:off x="5319360" y="1609200"/>
                <a:ext cx="281160" cy="55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35480" y="1581120"/>
                <a:ext cx="83880" cy="111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448160" y="1497240"/>
                <a:ext cx="252720" cy="277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48160" y="1749600"/>
                <a:ext cx="252720" cy="277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700880" y="1413000"/>
                <a:ext cx="534240" cy="449280"/>
              </a:xfrm>
              <a:custGeom>
                <a:avLst/>
                <a:gdLst/>
                <a:ahLst/>
                <a:rect l="l" t="t" r="r" b="b"/>
                <a:pathLst>
                  <a:path w="862" h="726">
                    <a:moveTo>
                      <a:pt x="0" y="0"/>
                    </a:moveTo>
                    <a:lnTo>
                      <a:pt x="0" y="726"/>
                    </a:lnTo>
                    <a:lnTo>
                      <a:pt x="681" y="726"/>
                    </a:lnTo>
                    <a:lnTo>
                      <a:pt x="862" y="453"/>
                    </a:lnTo>
                    <a:lnTo>
                      <a:pt x="862" y="272"/>
                    </a:lnTo>
                    <a:lnTo>
                      <a:pt x="68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23232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898160" y="1468440"/>
                <a:ext cx="168840" cy="337320"/>
              </a:xfrm>
              <a:custGeom>
                <a:avLst/>
                <a:gdLst>
                  <a:gd name="textAreaLeft" fmla="*/ 7920 w 168840"/>
                  <a:gd name="textAreaRight" fmla="*/ 160920 w 168840"/>
                  <a:gd name="textAreaTop" fmla="*/ 7920 h 337320"/>
                  <a:gd name="textAreaBottom" fmla="*/ 329400 h 337320"/>
                </a:gdLst>
                <a:ahLst/>
                <a:rect l="textAreaLeft" t="textAreaTop" r="textAreaRight" b="textAreaBottom"/>
                <a:pathLst>
                  <a:path w="21600" h="43108">
                    <a:moveTo>
                      <a:pt x="3600" y="0"/>
                    </a:moveTo>
                    <a:arcTo wR="3600" hR="3600" stAng="16200000" swAng="-5400000"/>
                    <a:lnTo>
                      <a:pt x="0" y="39508"/>
                    </a:lnTo>
                    <a:arcTo wR="3600" hR="3600" stAng="10800000" swAng="-5400000"/>
                    <a:lnTo>
                      <a:pt x="18000" y="4310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7" name=""/>
          <p:cNvGrpSpPr/>
          <p:nvPr/>
        </p:nvGrpSpPr>
        <p:grpSpPr>
          <a:xfrm>
            <a:off x="7977240" y="907920"/>
            <a:ext cx="1439640" cy="1440000"/>
            <a:chOff x="7977240" y="907920"/>
            <a:chExt cx="1439640" cy="1440000"/>
          </a:xfrm>
        </p:grpSpPr>
        <p:grpSp>
          <p:nvGrpSpPr>
            <p:cNvPr id="538" name=""/>
            <p:cNvGrpSpPr/>
            <p:nvPr/>
          </p:nvGrpSpPr>
          <p:grpSpPr>
            <a:xfrm>
              <a:off x="7977240" y="907920"/>
              <a:ext cx="1439640" cy="1440000"/>
              <a:chOff x="7977240" y="907920"/>
              <a:chExt cx="1439640" cy="1440000"/>
            </a:xfrm>
          </p:grpSpPr>
          <p:sp>
            <p:nvSpPr>
              <p:cNvPr id="539" name=""/>
              <p:cNvSpPr/>
              <p:nvPr/>
            </p:nvSpPr>
            <p:spPr>
              <a:xfrm>
                <a:off x="8048520" y="979560"/>
                <a:ext cx="1297080" cy="1296720"/>
              </a:xfrm>
              <a:prstGeom prst="ellipse">
                <a:avLst/>
              </a:prstGeom>
              <a:gradFill rotWithShape="0">
                <a:gsLst>
                  <a:gs pos="0">
                    <a:srgbClr val="e4f2f3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977240" y="907920"/>
                <a:ext cx="1439640" cy="1440000"/>
              </a:xfrm>
              <a:prstGeom prst="donut">
                <a:avLst>
                  <a:gd name="adj" fmla="val 10472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8193240" y="1268280"/>
              <a:ext cx="934920" cy="747720"/>
              <a:chOff x="8193240" y="1268280"/>
              <a:chExt cx="934920" cy="747720"/>
            </a:xfrm>
          </p:grpSpPr>
          <p:sp>
            <p:nvSpPr>
              <p:cNvPr id="542" name=""/>
              <p:cNvSpPr/>
              <p:nvPr/>
            </p:nvSpPr>
            <p:spPr>
              <a:xfrm>
                <a:off x="8193240" y="1268280"/>
                <a:ext cx="934920" cy="747720"/>
              </a:xfrm>
              <a:custGeom>
                <a:avLst/>
                <a:gdLst/>
                <a:ahLst/>
                <a:rect l="l" t="t" r="r" b="b"/>
                <a:pathLst>
                  <a:path w="3402" h="2721">
                    <a:moveTo>
                      <a:pt x="408" y="226"/>
                    </a:moveTo>
                    <a:lnTo>
                      <a:pt x="272" y="362"/>
                    </a:lnTo>
                    <a:lnTo>
                      <a:pt x="227" y="453"/>
                    </a:lnTo>
                    <a:lnTo>
                      <a:pt x="0" y="635"/>
                    </a:lnTo>
                    <a:lnTo>
                      <a:pt x="0" y="680"/>
                    </a:lnTo>
                    <a:lnTo>
                      <a:pt x="91" y="771"/>
                    </a:lnTo>
                    <a:lnTo>
                      <a:pt x="317" y="771"/>
                    </a:lnTo>
                    <a:lnTo>
                      <a:pt x="453" y="816"/>
                    </a:lnTo>
                    <a:lnTo>
                      <a:pt x="544" y="997"/>
                    </a:lnTo>
                    <a:lnTo>
                      <a:pt x="726" y="1315"/>
                    </a:lnTo>
                    <a:lnTo>
                      <a:pt x="1088" y="1769"/>
                    </a:lnTo>
                    <a:lnTo>
                      <a:pt x="1270" y="2222"/>
                    </a:lnTo>
                    <a:lnTo>
                      <a:pt x="1270" y="2540"/>
                    </a:lnTo>
                    <a:lnTo>
                      <a:pt x="1088" y="2676"/>
                    </a:lnTo>
                    <a:lnTo>
                      <a:pt x="1088" y="2721"/>
                    </a:lnTo>
                    <a:lnTo>
                      <a:pt x="1406" y="2721"/>
                    </a:lnTo>
                    <a:lnTo>
                      <a:pt x="1451" y="2630"/>
                    </a:lnTo>
                    <a:lnTo>
                      <a:pt x="1497" y="2313"/>
                    </a:lnTo>
                    <a:lnTo>
                      <a:pt x="1315" y="1723"/>
                    </a:lnTo>
                    <a:lnTo>
                      <a:pt x="1769" y="1769"/>
                    </a:lnTo>
                    <a:lnTo>
                      <a:pt x="2132" y="1587"/>
                    </a:lnTo>
                    <a:lnTo>
                      <a:pt x="2268" y="1496"/>
                    </a:lnTo>
                    <a:lnTo>
                      <a:pt x="2676" y="1587"/>
                    </a:lnTo>
                    <a:lnTo>
                      <a:pt x="2948" y="1950"/>
                    </a:lnTo>
                    <a:lnTo>
                      <a:pt x="3220" y="2222"/>
                    </a:lnTo>
                    <a:lnTo>
                      <a:pt x="3266" y="2540"/>
                    </a:lnTo>
                    <a:lnTo>
                      <a:pt x="3130" y="2630"/>
                    </a:lnTo>
                    <a:lnTo>
                      <a:pt x="3175" y="2721"/>
                    </a:lnTo>
                    <a:lnTo>
                      <a:pt x="3311" y="2676"/>
                    </a:lnTo>
                    <a:lnTo>
                      <a:pt x="3402" y="2540"/>
                    </a:lnTo>
                    <a:lnTo>
                      <a:pt x="3356" y="2222"/>
                    </a:lnTo>
                    <a:lnTo>
                      <a:pt x="3356" y="2041"/>
                    </a:lnTo>
                    <a:lnTo>
                      <a:pt x="3220" y="1859"/>
                    </a:lnTo>
                    <a:lnTo>
                      <a:pt x="3175" y="1315"/>
                    </a:lnTo>
                    <a:lnTo>
                      <a:pt x="2994" y="907"/>
                    </a:lnTo>
                    <a:lnTo>
                      <a:pt x="2948" y="816"/>
                    </a:lnTo>
                    <a:lnTo>
                      <a:pt x="2903" y="453"/>
                    </a:lnTo>
                    <a:lnTo>
                      <a:pt x="2767" y="317"/>
                    </a:lnTo>
                    <a:lnTo>
                      <a:pt x="2495" y="272"/>
                    </a:lnTo>
                    <a:lnTo>
                      <a:pt x="2222" y="362"/>
                    </a:lnTo>
                    <a:lnTo>
                      <a:pt x="2132" y="544"/>
                    </a:lnTo>
                    <a:lnTo>
                      <a:pt x="2177" y="725"/>
                    </a:lnTo>
                    <a:lnTo>
                      <a:pt x="2222" y="771"/>
                    </a:lnTo>
                    <a:lnTo>
                      <a:pt x="2404" y="635"/>
                    </a:lnTo>
                    <a:lnTo>
                      <a:pt x="2540" y="589"/>
                    </a:lnTo>
                    <a:lnTo>
                      <a:pt x="2631" y="680"/>
                    </a:lnTo>
                    <a:lnTo>
                      <a:pt x="2449" y="771"/>
                    </a:lnTo>
                    <a:lnTo>
                      <a:pt x="2041" y="816"/>
                    </a:lnTo>
                    <a:lnTo>
                      <a:pt x="1678" y="816"/>
                    </a:lnTo>
                    <a:lnTo>
                      <a:pt x="1134" y="725"/>
                    </a:lnTo>
                    <a:lnTo>
                      <a:pt x="1088" y="498"/>
                    </a:lnTo>
                    <a:lnTo>
                      <a:pt x="1043" y="362"/>
                    </a:lnTo>
                    <a:lnTo>
                      <a:pt x="907" y="272"/>
                    </a:lnTo>
                    <a:lnTo>
                      <a:pt x="771" y="136"/>
                    </a:lnTo>
                    <a:lnTo>
                      <a:pt x="635" y="136"/>
                    </a:lnTo>
                    <a:lnTo>
                      <a:pt x="453" y="0"/>
                    </a:lnTo>
                    <a:lnTo>
                      <a:pt x="453" y="136"/>
                    </a:lnTo>
                    <a:lnTo>
                      <a:pt x="317" y="0"/>
                    </a:lnTo>
                    <a:lnTo>
                      <a:pt x="408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193240" y="139212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39" y="0"/>
                    </a:moveTo>
                    <a:lnTo>
                      <a:pt x="0" y="32"/>
                    </a:lnTo>
                    <a:lnTo>
                      <a:pt x="0" y="40"/>
                    </a:lnTo>
                    <a:lnTo>
                      <a:pt x="16" y="55"/>
                    </a:lnTo>
                    <a:lnTo>
                      <a:pt x="55" y="55"/>
                    </a:lnTo>
                    <a:lnTo>
                      <a:pt x="51" y="25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67600">
                <a:off x="8294400" y="1371600"/>
                <a:ext cx="60120" cy="17640"/>
              </a:xfrm>
              <a:custGeom>
                <a:avLst/>
                <a:gdLst/>
                <a:ahLst/>
                <a:rect l="l" t="t" r="r" b="b"/>
                <a:pathLst>
                  <a:path w="227" h="45">
                    <a:moveTo>
                      <a:pt x="0" y="0"/>
                    </a:moveTo>
                    <a:lnTo>
                      <a:pt x="227" y="0"/>
                    </a:lnTo>
                    <a:lnTo>
                      <a:pt x="181" y="45"/>
                    </a:lnTo>
                    <a:lnTo>
                      <a:pt x="4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560520" y="4869000"/>
            <a:ext cx="1296720" cy="1296720"/>
          </a:xfrm>
          <a:prstGeom prst="ellipse">
            <a:avLst/>
          </a:prstGeom>
          <a:gradFill rotWithShape="0">
            <a:gsLst>
              <a:gs pos="0">
                <a:srgbClr val="e4f2f3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488880" y="4797360"/>
            <a:ext cx="1440000" cy="1440000"/>
            <a:chOff x="488880" y="4797360"/>
            <a:chExt cx="1440000" cy="1440000"/>
          </a:xfrm>
        </p:grpSpPr>
        <p:sp>
          <p:nvSpPr>
            <p:cNvPr id="547" name=""/>
            <p:cNvSpPr/>
            <p:nvPr/>
          </p:nvSpPr>
          <p:spPr>
            <a:xfrm>
              <a:off x="488880" y="4797360"/>
              <a:ext cx="144000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74720" y="5157720"/>
              <a:ext cx="863280" cy="725400"/>
              <a:chOff x="774720" y="5157720"/>
              <a:chExt cx="863280" cy="72540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1223640" y="5157720"/>
                <a:ext cx="414360" cy="725040"/>
                <a:chOff x="1223640" y="5157720"/>
                <a:chExt cx="414360" cy="7250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223640" y="5157720"/>
                  <a:ext cx="414360" cy="621720"/>
                </a:xfrm>
                <a:custGeom>
                  <a:avLst/>
                  <a:gdLst/>
                  <a:ahLst/>
                  <a:rect l="l" t="t" r="r" b="b"/>
                  <a:pathLst>
                    <a:path w="544" h="817">
                      <a:moveTo>
                        <a:pt x="0" y="0"/>
                      </a:moveTo>
                      <a:lnTo>
                        <a:pt x="544" y="0"/>
                      </a:lnTo>
                      <a:lnTo>
                        <a:pt x="544" y="817"/>
                      </a:lnTo>
                      <a:lnTo>
                        <a:pt x="408" y="817"/>
                      </a:lnTo>
                      <a:lnTo>
                        <a:pt x="408" y="137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23640" y="5261760"/>
                  <a:ext cx="414360" cy="621000"/>
                </a:xfrm>
                <a:custGeom>
                  <a:avLst/>
                  <a:gdLst/>
                  <a:ahLst/>
                  <a:rect l="l" t="t" r="r" b="b"/>
                  <a:pathLst>
                    <a:path w="544" h="816">
                      <a:moveTo>
                        <a:pt x="0" y="0"/>
                      </a:moveTo>
                      <a:lnTo>
                        <a:pt x="0" y="816"/>
                      </a:lnTo>
                      <a:lnTo>
                        <a:pt x="544" y="816"/>
                      </a:lnTo>
                      <a:lnTo>
                        <a:pt x="544" y="680"/>
                      </a:lnTo>
                      <a:lnTo>
                        <a:pt x="136" y="680"/>
                      </a:lnTo>
                      <a:lnTo>
                        <a:pt x="1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774720" y="5157720"/>
                <a:ext cx="414360" cy="725400"/>
              </a:xfrm>
              <a:custGeom>
                <a:avLst/>
                <a:gdLst/>
                <a:ahLst/>
                <a:rect l="l" t="t" r="r" b="b"/>
                <a:pathLst>
                  <a:path w="544" h="953">
                    <a:moveTo>
                      <a:pt x="0" y="0"/>
                    </a:moveTo>
                    <a:lnTo>
                      <a:pt x="544" y="0"/>
                    </a:lnTo>
                    <a:lnTo>
                      <a:pt x="544" y="545"/>
                    </a:lnTo>
                    <a:lnTo>
                      <a:pt x="136" y="545"/>
                    </a:lnTo>
                    <a:lnTo>
                      <a:pt x="136" y="817"/>
                    </a:lnTo>
                    <a:lnTo>
                      <a:pt x="544" y="817"/>
                    </a:lnTo>
                    <a:lnTo>
                      <a:pt x="544" y="953"/>
                    </a:lnTo>
                    <a:lnTo>
                      <a:pt x="0" y="953"/>
                    </a:lnTo>
                    <a:lnTo>
                      <a:pt x="0" y="409"/>
                    </a:lnTo>
                    <a:lnTo>
                      <a:pt x="408" y="409"/>
                    </a:lnTo>
                    <a:lnTo>
                      <a:pt x="408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2362320" y="4797360"/>
            <a:ext cx="1439640" cy="1440000"/>
            <a:chOff x="2362320" y="4797360"/>
            <a:chExt cx="1439640" cy="1440000"/>
          </a:xfrm>
        </p:grpSpPr>
        <p:grpSp>
          <p:nvGrpSpPr>
            <p:cNvPr id="554" name=""/>
            <p:cNvGrpSpPr/>
            <p:nvPr/>
          </p:nvGrpSpPr>
          <p:grpSpPr>
            <a:xfrm>
              <a:off x="2362320" y="4797360"/>
              <a:ext cx="1439640" cy="1440000"/>
              <a:chOff x="2362320" y="4797360"/>
              <a:chExt cx="1439640" cy="1440000"/>
            </a:xfrm>
          </p:grpSpPr>
          <p:sp>
            <p:nvSpPr>
              <p:cNvPr id="555" name=""/>
              <p:cNvSpPr/>
              <p:nvPr/>
            </p:nvSpPr>
            <p:spPr>
              <a:xfrm>
                <a:off x="2433600" y="4869000"/>
                <a:ext cx="1297080" cy="1296720"/>
              </a:xfrm>
              <a:prstGeom prst="ellipse">
                <a:avLst/>
              </a:prstGeom>
              <a:gradFill rotWithShape="0">
                <a:gsLst>
                  <a:gs pos="0">
                    <a:srgbClr val="e4f2f3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362320" y="4797360"/>
                <a:ext cx="1439640" cy="1440000"/>
              </a:xfrm>
              <a:prstGeom prst="donut">
                <a:avLst>
                  <a:gd name="adj" fmla="val 10472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649600" y="5118120"/>
              <a:ext cx="793800" cy="758880"/>
              <a:chOff x="2649600" y="5118120"/>
              <a:chExt cx="793800" cy="758880"/>
            </a:xfrm>
          </p:grpSpPr>
          <p:sp>
            <p:nvSpPr>
              <p:cNvPr id="558" name=""/>
              <p:cNvSpPr/>
              <p:nvPr/>
            </p:nvSpPr>
            <p:spPr>
              <a:xfrm>
                <a:off x="2649600" y="5118120"/>
                <a:ext cx="324720" cy="758880"/>
              </a:xfrm>
              <a:custGeom>
                <a:avLst/>
                <a:gdLst/>
                <a:ahLst/>
                <a:rect l="l" t="t" r="r" b="b"/>
                <a:pathLst>
                  <a:path w="408" h="953">
                    <a:moveTo>
                      <a:pt x="0" y="817"/>
                    </a:moveTo>
                    <a:lnTo>
                      <a:pt x="0" y="953"/>
                    </a:lnTo>
                    <a:lnTo>
                      <a:pt x="408" y="953"/>
                    </a:lnTo>
                    <a:lnTo>
                      <a:pt x="408" y="817"/>
                    </a:lnTo>
                    <a:lnTo>
                      <a:pt x="272" y="817"/>
                    </a:lnTo>
                    <a:lnTo>
                      <a:pt x="272" y="0"/>
                    </a:lnTo>
                    <a:lnTo>
                      <a:pt x="136" y="0"/>
                    </a:lnTo>
                    <a:lnTo>
                      <a:pt x="136" y="137"/>
                    </a:lnTo>
                    <a:lnTo>
                      <a:pt x="0" y="137"/>
                    </a:lnTo>
                    <a:lnTo>
                      <a:pt x="0" y="273"/>
                    </a:lnTo>
                    <a:lnTo>
                      <a:pt x="136" y="273"/>
                    </a:lnTo>
                    <a:lnTo>
                      <a:pt x="136" y="817"/>
                    </a:lnTo>
                    <a:lnTo>
                      <a:pt x="0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3010320" y="5118120"/>
                <a:ext cx="433080" cy="758880"/>
                <a:chOff x="3010320" y="5118120"/>
                <a:chExt cx="433080" cy="7588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010320" y="5118120"/>
                  <a:ext cx="433080" cy="650520"/>
                </a:xfrm>
                <a:custGeom>
                  <a:avLst/>
                  <a:gdLst/>
                  <a:ahLst/>
                  <a:rect l="l" t="t" r="r" b="b"/>
                  <a:pathLst>
                    <a:path w="544" h="817">
                      <a:moveTo>
                        <a:pt x="0" y="0"/>
                      </a:moveTo>
                      <a:lnTo>
                        <a:pt x="544" y="0"/>
                      </a:lnTo>
                      <a:lnTo>
                        <a:pt x="544" y="817"/>
                      </a:lnTo>
                      <a:lnTo>
                        <a:pt x="408" y="817"/>
                      </a:lnTo>
                      <a:lnTo>
                        <a:pt x="408" y="137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10320" y="5227200"/>
                  <a:ext cx="433080" cy="649800"/>
                </a:xfrm>
                <a:custGeom>
                  <a:avLst/>
                  <a:gdLst/>
                  <a:ahLst/>
                  <a:rect l="l" t="t" r="r" b="b"/>
                  <a:pathLst>
                    <a:path w="544" h="816">
                      <a:moveTo>
                        <a:pt x="0" y="0"/>
                      </a:moveTo>
                      <a:lnTo>
                        <a:pt x="0" y="816"/>
                      </a:lnTo>
                      <a:lnTo>
                        <a:pt x="544" y="816"/>
                      </a:lnTo>
                      <a:lnTo>
                        <a:pt x="544" y="680"/>
                      </a:lnTo>
                      <a:lnTo>
                        <a:pt x="136" y="680"/>
                      </a:lnTo>
                      <a:lnTo>
                        <a:pt x="1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18680" y="5442840"/>
                  <a:ext cx="2163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3" name=""/>
          <p:cNvGrpSpPr/>
          <p:nvPr/>
        </p:nvGrpSpPr>
        <p:grpSpPr>
          <a:xfrm>
            <a:off x="488880" y="2852640"/>
            <a:ext cx="1439640" cy="1440000"/>
            <a:chOff x="488880" y="2852640"/>
            <a:chExt cx="1439640" cy="1440000"/>
          </a:xfrm>
        </p:grpSpPr>
        <p:sp>
          <p:nvSpPr>
            <p:cNvPr id="564" name=""/>
            <p:cNvSpPr/>
            <p:nvPr/>
          </p:nvSpPr>
          <p:spPr>
            <a:xfrm>
              <a:off x="560160" y="2924280"/>
              <a:ext cx="1297080" cy="1296720"/>
            </a:xfrm>
            <a:prstGeom prst="ellipse">
              <a:avLst/>
            </a:prstGeom>
            <a:gradFill rotWithShape="0">
              <a:gsLst>
                <a:gs pos="0">
                  <a:srgbClr val="e4f2f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8880" y="2852640"/>
              <a:ext cx="143964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360520" y="2852640"/>
            <a:ext cx="1439640" cy="1440000"/>
            <a:chOff x="2360520" y="2852640"/>
            <a:chExt cx="1439640" cy="1440000"/>
          </a:xfrm>
        </p:grpSpPr>
        <p:sp>
          <p:nvSpPr>
            <p:cNvPr id="567" name=""/>
            <p:cNvSpPr/>
            <p:nvPr/>
          </p:nvSpPr>
          <p:spPr>
            <a:xfrm>
              <a:off x="2431800" y="2924280"/>
              <a:ext cx="1297080" cy="1296720"/>
            </a:xfrm>
            <a:prstGeom prst="ellipse">
              <a:avLst/>
            </a:prstGeom>
            <a:gradFill rotWithShape="0">
              <a:gsLst>
                <a:gs pos="0">
                  <a:srgbClr val="e4f2f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60520" y="2852640"/>
              <a:ext cx="143964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232160" y="2852640"/>
            <a:ext cx="1439640" cy="1440000"/>
            <a:chOff x="4232160" y="2852640"/>
            <a:chExt cx="1439640" cy="1440000"/>
          </a:xfrm>
        </p:grpSpPr>
        <p:sp>
          <p:nvSpPr>
            <p:cNvPr id="570" name=""/>
            <p:cNvSpPr/>
            <p:nvPr/>
          </p:nvSpPr>
          <p:spPr>
            <a:xfrm>
              <a:off x="4303440" y="2924280"/>
              <a:ext cx="1297080" cy="1296720"/>
            </a:xfrm>
            <a:prstGeom prst="ellipse">
              <a:avLst/>
            </a:prstGeom>
            <a:gradFill rotWithShape="0">
              <a:gsLst>
                <a:gs pos="0">
                  <a:srgbClr val="e4f2f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32160" y="2852640"/>
              <a:ext cx="143964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103800" y="2852640"/>
            <a:ext cx="1439640" cy="1440000"/>
            <a:chOff x="6103800" y="2852640"/>
            <a:chExt cx="1439640" cy="1440000"/>
          </a:xfrm>
        </p:grpSpPr>
        <p:sp>
          <p:nvSpPr>
            <p:cNvPr id="573" name=""/>
            <p:cNvSpPr/>
            <p:nvPr/>
          </p:nvSpPr>
          <p:spPr>
            <a:xfrm>
              <a:off x="6175080" y="2924280"/>
              <a:ext cx="1297080" cy="1296720"/>
            </a:xfrm>
            <a:prstGeom prst="ellipse">
              <a:avLst/>
            </a:prstGeom>
            <a:gradFill rotWithShape="0">
              <a:gsLst>
                <a:gs pos="0">
                  <a:srgbClr val="e4f2f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03800" y="2852640"/>
              <a:ext cx="143964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233960" y="4797360"/>
            <a:ext cx="1439640" cy="1440000"/>
            <a:chOff x="4233960" y="4797360"/>
            <a:chExt cx="1439640" cy="1440000"/>
          </a:xfrm>
        </p:grpSpPr>
        <p:sp>
          <p:nvSpPr>
            <p:cNvPr id="576" name=""/>
            <p:cNvSpPr/>
            <p:nvPr/>
          </p:nvSpPr>
          <p:spPr>
            <a:xfrm>
              <a:off x="4305240" y="4869000"/>
              <a:ext cx="1297080" cy="1296720"/>
            </a:xfrm>
            <a:prstGeom prst="ellipse">
              <a:avLst/>
            </a:prstGeom>
            <a:gradFill rotWithShape="0">
              <a:gsLst>
                <a:gs pos="0">
                  <a:srgbClr val="e4f2f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33960" y="4797360"/>
              <a:ext cx="143964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7977240" y="4797360"/>
            <a:ext cx="1439640" cy="1440000"/>
            <a:chOff x="7977240" y="4797360"/>
            <a:chExt cx="1439640" cy="1440000"/>
          </a:xfrm>
        </p:grpSpPr>
        <p:sp>
          <p:nvSpPr>
            <p:cNvPr id="579" name=""/>
            <p:cNvSpPr/>
            <p:nvPr/>
          </p:nvSpPr>
          <p:spPr>
            <a:xfrm>
              <a:off x="8048520" y="4869000"/>
              <a:ext cx="1297080" cy="1296720"/>
            </a:xfrm>
            <a:prstGeom prst="ellipse">
              <a:avLst/>
            </a:prstGeom>
            <a:gradFill rotWithShape="0">
              <a:gsLst>
                <a:gs pos="0">
                  <a:srgbClr val="e4f2f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77240" y="4797360"/>
              <a:ext cx="143964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7977240" y="2852640"/>
            <a:ext cx="1439640" cy="1440000"/>
            <a:chOff x="7977240" y="2852640"/>
            <a:chExt cx="1439640" cy="1440000"/>
          </a:xfrm>
        </p:grpSpPr>
        <p:sp>
          <p:nvSpPr>
            <p:cNvPr id="582" name=""/>
            <p:cNvSpPr/>
            <p:nvPr/>
          </p:nvSpPr>
          <p:spPr>
            <a:xfrm>
              <a:off x="8048520" y="2924280"/>
              <a:ext cx="1297080" cy="1296720"/>
            </a:xfrm>
            <a:prstGeom prst="ellipse">
              <a:avLst/>
            </a:prstGeom>
            <a:gradFill rotWithShape="0">
              <a:gsLst>
                <a:gs pos="0">
                  <a:srgbClr val="e4f2f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77240" y="2852640"/>
              <a:ext cx="143964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49520" y="3141720"/>
            <a:ext cx="909000" cy="864720"/>
            <a:chOff x="749520" y="3141720"/>
            <a:chExt cx="909000" cy="864720"/>
          </a:xfrm>
        </p:grpSpPr>
        <p:sp>
          <p:nvSpPr>
            <p:cNvPr id="585" name=""/>
            <p:cNvSpPr/>
            <p:nvPr/>
          </p:nvSpPr>
          <p:spPr>
            <a:xfrm>
              <a:off x="776160" y="3141720"/>
              <a:ext cx="863640" cy="86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065240" y="3429000"/>
              <a:ext cx="288720" cy="2746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9050000">
              <a:off x="812880" y="323388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5063000">
              <a:off x="694440" y="364392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0800000">
              <a:off x="1057320" y="391608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2549400">
              <a:off x="1320120" y="324612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6537000">
              <a:off x="1423800" y="3655800"/>
              <a:ext cx="289080" cy="910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521240" y="5157720"/>
            <a:ext cx="792000" cy="739800"/>
            <a:chOff x="4521240" y="5157720"/>
            <a:chExt cx="792000" cy="739800"/>
          </a:xfrm>
        </p:grpSpPr>
        <p:sp>
          <p:nvSpPr>
            <p:cNvPr id="593" name=""/>
            <p:cNvSpPr/>
            <p:nvPr/>
          </p:nvSpPr>
          <p:spPr>
            <a:xfrm>
              <a:off x="4521240" y="5157720"/>
              <a:ext cx="328320" cy="73872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817"/>
                  </a:moveTo>
                  <a:lnTo>
                    <a:pt x="0" y="953"/>
                  </a:lnTo>
                  <a:lnTo>
                    <a:pt x="408" y="953"/>
                  </a:lnTo>
                  <a:lnTo>
                    <a:pt x="408" y="817"/>
                  </a:lnTo>
                  <a:lnTo>
                    <a:pt x="272" y="817"/>
                  </a:lnTo>
                  <a:lnTo>
                    <a:pt x="272" y="0"/>
                  </a:lnTo>
                  <a:lnTo>
                    <a:pt x="136" y="0"/>
                  </a:lnTo>
                  <a:lnTo>
                    <a:pt x="136" y="137"/>
                  </a:lnTo>
                  <a:lnTo>
                    <a:pt x="0" y="137"/>
                  </a:lnTo>
                  <a:lnTo>
                    <a:pt x="0" y="273"/>
                  </a:lnTo>
                  <a:lnTo>
                    <a:pt x="136" y="273"/>
                  </a:lnTo>
                  <a:lnTo>
                    <a:pt x="136" y="817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90600" y="5157720"/>
              <a:ext cx="422640" cy="73980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363" y="0"/>
                  </a:moveTo>
                  <a:lnTo>
                    <a:pt x="0" y="0"/>
                  </a:lnTo>
                  <a:lnTo>
                    <a:pt x="0" y="635"/>
                  </a:lnTo>
                  <a:lnTo>
                    <a:pt x="363" y="635"/>
                  </a:lnTo>
                  <a:lnTo>
                    <a:pt x="363" y="272"/>
                  </a:lnTo>
                  <a:lnTo>
                    <a:pt x="91" y="272"/>
                  </a:lnTo>
                  <a:lnTo>
                    <a:pt x="91" y="363"/>
                  </a:lnTo>
                  <a:lnTo>
                    <a:pt x="272" y="363"/>
                  </a:lnTo>
                  <a:lnTo>
                    <a:pt x="272" y="544"/>
                  </a:lnTo>
                  <a:lnTo>
                    <a:pt x="91" y="544"/>
                  </a:lnTo>
                  <a:lnTo>
                    <a:pt x="91" y="91"/>
                  </a:lnTo>
                  <a:lnTo>
                    <a:pt x="363" y="91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2604960" y="3119400"/>
            <a:ext cx="934920" cy="933120"/>
            <a:chOff x="2604960" y="3119400"/>
            <a:chExt cx="934920" cy="933120"/>
          </a:xfrm>
        </p:grpSpPr>
        <p:sp>
          <p:nvSpPr>
            <p:cNvPr id="596" name=""/>
            <p:cNvSpPr/>
            <p:nvPr/>
          </p:nvSpPr>
          <p:spPr>
            <a:xfrm>
              <a:off x="2604960" y="3119400"/>
              <a:ext cx="719280" cy="3596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9b9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66400" y="3550320"/>
              <a:ext cx="357840" cy="357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81680" y="3334680"/>
              <a:ext cx="358200" cy="35820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64" y="7399"/>
                  </a:moveTo>
                  <a:arcTo wR="-5432" hR="-5432" stAng="-8474383" swAng="-8006188"/>
                  <a:lnTo>
                    <a:pt x="9920" y="36"/>
                  </a:lnTo>
                  <a:arcTo wR="10800" hR="10800" stAng="-5680571" swAng="8006188"/>
                  <a:lnTo>
                    <a:pt x="21327" y="19252"/>
                  </a:lnTo>
                  <a:lnTo>
                    <a:pt x="13758" y="20079"/>
                  </a:lnTo>
                  <a:lnTo>
                    <a:pt x="12930" y="125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9900000">
              <a:off x="2676960" y="3478320"/>
              <a:ext cx="366120" cy="366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64" y="7399"/>
                  </a:moveTo>
                  <a:arcTo wR="-5432" hR="-5432" stAng="-8474383" swAng="-8212766"/>
                  <a:lnTo>
                    <a:pt x="9275" y="108"/>
                  </a:lnTo>
                  <a:arcTo wR="10800" hR="10800" stAng="-5887149" swAng="8212766"/>
                  <a:lnTo>
                    <a:pt x="21327" y="19252"/>
                  </a:lnTo>
                  <a:lnTo>
                    <a:pt x="13758" y="20079"/>
                  </a:lnTo>
                  <a:lnTo>
                    <a:pt x="12930" y="125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748960" y="3192120"/>
              <a:ext cx="431280" cy="215280"/>
              <a:chOff x="2748960" y="3192120"/>
              <a:chExt cx="431280" cy="215280"/>
            </a:xfrm>
          </p:grpSpPr>
          <p:sp>
            <p:nvSpPr>
              <p:cNvPr id="601" name=""/>
              <p:cNvSpPr/>
              <p:nvPr/>
            </p:nvSpPr>
            <p:spPr>
              <a:xfrm>
                <a:off x="2748960" y="3192120"/>
                <a:ext cx="39600" cy="21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01520" y="3192120"/>
                <a:ext cx="117360" cy="21528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932200" y="3192120"/>
                <a:ext cx="117360" cy="21528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62880" y="3192120"/>
                <a:ext cx="117360" cy="21528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037680" y="3623400"/>
              <a:ext cx="215640" cy="214920"/>
              <a:chOff x="3037680" y="3623400"/>
              <a:chExt cx="215640" cy="214920"/>
            </a:xfrm>
          </p:grpSpPr>
          <p:sp>
            <p:nvSpPr>
              <p:cNvPr id="606" name=""/>
              <p:cNvSpPr/>
              <p:nvPr/>
            </p:nvSpPr>
            <p:spPr>
              <a:xfrm>
                <a:off x="3037680" y="3623400"/>
                <a:ext cx="6444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91" y="136"/>
                    </a:lnTo>
                    <a:lnTo>
                      <a:pt x="91" y="182"/>
                    </a:lnTo>
                    <a:lnTo>
                      <a:pt x="0" y="182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91"/>
                    </a:lnTo>
                    <a:lnTo>
                      <a:pt x="46" y="91"/>
                    </a:lnTo>
                    <a:lnTo>
                      <a:pt x="46" y="45"/>
                    </a:lnTo>
                    <a:lnTo>
                      <a:pt x="136" y="4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12920" y="3623400"/>
                <a:ext cx="6480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88520" y="3623400"/>
                <a:ext cx="6480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3181680" y="3694320"/>
              <a:ext cx="358200" cy="3582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3253320" y="3765960"/>
              <a:ext cx="214920" cy="214920"/>
              <a:chOff x="3253320" y="3765960"/>
              <a:chExt cx="214920" cy="214920"/>
            </a:xfrm>
          </p:grpSpPr>
          <p:sp>
            <p:nvSpPr>
              <p:cNvPr id="611" name=""/>
              <p:cNvSpPr/>
              <p:nvPr/>
            </p:nvSpPr>
            <p:spPr>
              <a:xfrm>
                <a:off x="3253320" y="3765960"/>
                <a:ext cx="6444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91" y="136"/>
                    </a:lnTo>
                    <a:lnTo>
                      <a:pt x="91" y="182"/>
                    </a:lnTo>
                    <a:lnTo>
                      <a:pt x="0" y="182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91"/>
                    </a:lnTo>
                    <a:lnTo>
                      <a:pt x="46" y="91"/>
                    </a:lnTo>
                    <a:lnTo>
                      <a:pt x="46" y="45"/>
                    </a:lnTo>
                    <a:lnTo>
                      <a:pt x="136" y="4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328200" y="3765960"/>
                <a:ext cx="6444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403800" y="3765960"/>
                <a:ext cx="64440" cy="21492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228924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両替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452840" y="3429000"/>
            <a:ext cx="1047960" cy="388800"/>
            <a:chOff x="4452840" y="3429000"/>
            <a:chExt cx="1047960" cy="388800"/>
          </a:xfrm>
        </p:grpSpPr>
        <p:sp>
          <p:nvSpPr>
            <p:cNvPr id="616" name=""/>
            <p:cNvSpPr/>
            <p:nvPr/>
          </p:nvSpPr>
          <p:spPr>
            <a:xfrm>
              <a:off x="4452840" y="3665520"/>
              <a:ext cx="1047960" cy="67680"/>
            </a:xfrm>
            <a:prstGeom prst="roundRect">
              <a:avLst>
                <a:gd name="adj" fmla="val 31718"/>
              </a:avLst>
            </a:prstGeom>
            <a:gradFill rotWithShape="0">
              <a:gsLst>
                <a:gs pos="0">
                  <a:srgbClr val="dddddd">
                    <a:alpha val="90196"/>
                  </a:srgbClr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69760" y="3733200"/>
              <a:ext cx="1013760" cy="16560"/>
            </a:xfrm>
            <a:prstGeom prst="roundRect">
              <a:avLst>
                <a:gd name="adj" fmla="val 31718"/>
              </a:avLst>
            </a:prstGeom>
            <a:gradFill rotWithShape="0">
              <a:gsLst>
                <a:gs pos="0">
                  <a:srgbClr val="dddddd">
                    <a:alpha val="90196"/>
                  </a:srgbClr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69760" y="3429000"/>
              <a:ext cx="1013760" cy="236520"/>
            </a:xfrm>
            <a:custGeom>
              <a:avLst/>
              <a:gdLst/>
              <a:ahLst/>
              <a:rect l="l" t="t" r="r" b="b"/>
              <a:pathLst>
                <a:path w="2721" h="635">
                  <a:moveTo>
                    <a:pt x="0" y="635"/>
                  </a:moveTo>
                  <a:lnTo>
                    <a:pt x="0" y="409"/>
                  </a:lnTo>
                  <a:lnTo>
                    <a:pt x="362" y="46"/>
                  </a:lnTo>
                  <a:lnTo>
                    <a:pt x="861" y="0"/>
                  </a:lnTo>
                  <a:lnTo>
                    <a:pt x="1406" y="46"/>
                  </a:lnTo>
                  <a:lnTo>
                    <a:pt x="1995" y="363"/>
                  </a:lnTo>
                  <a:lnTo>
                    <a:pt x="2630" y="499"/>
                  </a:lnTo>
                  <a:lnTo>
                    <a:pt x="2676" y="545"/>
                  </a:lnTo>
                  <a:lnTo>
                    <a:pt x="2721" y="635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00ff">
                    <a:alpha val="90196"/>
                  </a:srgbClr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03240" y="3632040"/>
              <a:ext cx="185760" cy="185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96600" y="3632040"/>
              <a:ext cx="185760" cy="185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03240" y="3632040"/>
              <a:ext cx="185760" cy="185760"/>
            </a:xfrm>
            <a:prstGeom prst="ellipse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537080" y="3665520"/>
              <a:ext cx="118440" cy="118440"/>
            </a:xfrm>
            <a:prstGeom prst="ellipse">
              <a:avLst/>
            </a:prstGeom>
            <a:solidFill>
              <a:srgbClr val="c0c0c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96600" y="3632040"/>
              <a:ext cx="185760" cy="185760"/>
            </a:xfrm>
            <a:prstGeom prst="ellipse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30440" y="3665520"/>
              <a:ext cx="118440" cy="118440"/>
            </a:xfrm>
            <a:prstGeom prst="ellipse">
              <a:avLst/>
            </a:prstGeom>
            <a:solidFill>
              <a:srgbClr val="c0c0c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69760" y="3581280"/>
              <a:ext cx="16560" cy="67320"/>
            </a:xfrm>
            <a:prstGeom prst="rect">
              <a:avLst/>
            </a:prstGeom>
            <a:gradFill rotWithShape="0">
              <a:gsLst>
                <a:gs pos="0">
                  <a:srgbClr val="feb03c"/>
                </a:gs>
                <a:gs pos="100000">
                  <a:srgbClr val="ff99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37080" y="3445920"/>
              <a:ext cx="253080" cy="118080"/>
            </a:xfrm>
            <a:custGeom>
              <a:avLst/>
              <a:gdLst/>
              <a:ahLst/>
              <a:rect l="l" t="t" r="r" b="b"/>
              <a:pathLst>
                <a:path w="680" h="317">
                  <a:moveTo>
                    <a:pt x="680" y="0"/>
                  </a:moveTo>
                  <a:lnTo>
                    <a:pt x="680" y="317"/>
                  </a:lnTo>
                  <a:lnTo>
                    <a:pt x="0" y="272"/>
                  </a:lnTo>
                  <a:lnTo>
                    <a:pt x="227" y="45"/>
                  </a:lnTo>
                  <a:lnTo>
                    <a:pt x="680" y="0"/>
                  </a:lnTo>
                  <a:close/>
                </a:path>
              </a:pathLst>
            </a:custGeom>
            <a:gradFill rotWithShape="0">
              <a:gsLst>
                <a:gs pos="0">
                  <a:srgbClr val="85e5fe"/>
                </a:gs>
                <a:gs pos="100000">
                  <a:srgbClr val="00cc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07800" y="3445920"/>
              <a:ext cx="303840" cy="118080"/>
            </a:xfrm>
            <a:custGeom>
              <a:avLst/>
              <a:gdLst/>
              <a:ahLst/>
              <a:rect l="l" t="t" r="r" b="b"/>
              <a:pathLst>
                <a:path w="816" h="317">
                  <a:moveTo>
                    <a:pt x="0" y="317"/>
                  </a:moveTo>
                  <a:lnTo>
                    <a:pt x="0" y="0"/>
                  </a:lnTo>
                  <a:lnTo>
                    <a:pt x="499" y="45"/>
                  </a:lnTo>
                  <a:lnTo>
                    <a:pt x="816" y="272"/>
                  </a:lnTo>
                  <a:lnTo>
                    <a:pt x="771" y="317"/>
                  </a:lnTo>
                  <a:lnTo>
                    <a:pt x="0" y="317"/>
                  </a:lnTo>
                  <a:close/>
                </a:path>
              </a:pathLst>
            </a:custGeom>
            <a:gradFill rotWithShape="0">
              <a:gsLst>
                <a:gs pos="0">
                  <a:srgbClr val="85e5fe"/>
                </a:gs>
                <a:gs pos="100000">
                  <a:srgbClr val="00cc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93920" y="3445920"/>
              <a:ext cx="219240" cy="118080"/>
            </a:xfrm>
            <a:custGeom>
              <a:avLst/>
              <a:gdLst/>
              <a:ahLst/>
              <a:rect l="l" t="t" r="r" b="b"/>
              <a:pathLst>
                <a:path w="589" h="317">
                  <a:moveTo>
                    <a:pt x="0" y="0"/>
                  </a:moveTo>
                  <a:lnTo>
                    <a:pt x="453" y="317"/>
                  </a:lnTo>
                  <a:lnTo>
                    <a:pt x="589" y="31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5e5fe"/>
                </a:gs>
                <a:gs pos="100000">
                  <a:srgbClr val="00cc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33120" y="3614760"/>
              <a:ext cx="50400" cy="5040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45" y="0"/>
                  </a:moveTo>
                  <a:lnTo>
                    <a:pt x="0" y="46"/>
                  </a:lnTo>
                  <a:lnTo>
                    <a:pt x="45" y="136"/>
                  </a:lnTo>
                  <a:lnTo>
                    <a:pt x="136" y="136"/>
                  </a:lnTo>
                  <a:lnTo>
                    <a:pt x="91" y="46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feb03c"/>
                </a:gs>
                <a:gs pos="100000">
                  <a:srgbClr val="ff99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07800" y="3581280"/>
              <a:ext cx="50400" cy="1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>
                    <a:alpha val="9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78520" y="3513240"/>
              <a:ext cx="33480" cy="50400"/>
            </a:xfrm>
            <a:custGeom>
              <a:avLst/>
              <a:gdLst>
                <a:gd name="textAreaLeft" fmla="*/ 4680 w 33480"/>
                <a:gd name="textAreaRight" fmla="*/ 28800 w 33480"/>
                <a:gd name="textAreaTop" fmla="*/ 4680 h 50400"/>
                <a:gd name="textAreaBottom" fmla="*/ 45720 h 50400"/>
              </a:gdLst>
              <a:ahLst/>
              <a:rect l="textAreaLeft" t="textAreaTop" r="textAreaRight" b="textAreaBottom"/>
              <a:pathLst>
                <a:path w="21600" h="32400">
                  <a:moveTo>
                    <a:pt x="10800" y="0"/>
                  </a:moveTo>
                  <a:arcTo wR="10800" hR="10800" stAng="16200000" swAng="-5400000"/>
                  <a:lnTo>
                    <a:pt x="0" y="21600"/>
                  </a:lnTo>
                  <a:arcTo wR="10800" hR="10800" stAng="10800000" swAng="-5400000"/>
                  <a:lnTo>
                    <a:pt x="10800" y="324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0000ff">
                    <a:alpha val="90196"/>
                  </a:srgbClr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952880" y="3103560"/>
            <a:ext cx="287280" cy="287280"/>
            <a:chOff x="4952880" y="3103560"/>
            <a:chExt cx="287280" cy="287280"/>
          </a:xfrm>
        </p:grpSpPr>
        <p:sp>
          <p:nvSpPr>
            <p:cNvPr id="633" name=""/>
            <p:cNvSpPr/>
            <p:nvPr/>
          </p:nvSpPr>
          <p:spPr>
            <a:xfrm>
              <a:off x="4952880" y="3103560"/>
              <a:ext cx="287280" cy="287280"/>
            </a:xfrm>
            <a:prstGeom prst="roundRect">
              <a:avLst>
                <a:gd name="adj" fmla="val 16667"/>
              </a:avLst>
            </a:prstGeom>
            <a:solidFill>
              <a:srgbClr val="0000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91760" y="3132360"/>
              <a:ext cx="210240" cy="229320"/>
            </a:xfrm>
            <a:custGeom>
              <a:avLst/>
              <a:gdLst/>
              <a:ahLst/>
              <a:rect l="l" t="t" r="r" b="b"/>
              <a:pathLst>
                <a:path w="499" h="545">
                  <a:moveTo>
                    <a:pt x="0" y="545"/>
                  </a:moveTo>
                  <a:lnTo>
                    <a:pt x="90" y="545"/>
                  </a:lnTo>
                  <a:lnTo>
                    <a:pt x="90" y="91"/>
                  </a:lnTo>
                  <a:lnTo>
                    <a:pt x="408" y="91"/>
                  </a:lnTo>
                  <a:lnTo>
                    <a:pt x="408" y="272"/>
                  </a:lnTo>
                  <a:lnTo>
                    <a:pt x="90" y="272"/>
                  </a:lnTo>
                  <a:lnTo>
                    <a:pt x="90" y="363"/>
                  </a:lnTo>
                  <a:lnTo>
                    <a:pt x="408" y="363"/>
                  </a:lnTo>
                  <a:lnTo>
                    <a:pt x="408" y="272"/>
                  </a:lnTo>
                  <a:lnTo>
                    <a:pt x="499" y="272"/>
                  </a:lnTo>
                  <a:lnTo>
                    <a:pt x="499" y="91"/>
                  </a:lnTo>
                  <a:lnTo>
                    <a:pt x="408" y="91"/>
                  </a:lnTo>
                  <a:lnTo>
                    <a:pt x="408" y="0"/>
                  </a:lnTo>
                  <a:lnTo>
                    <a:pt x="0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392880" y="3213000"/>
            <a:ext cx="936360" cy="677520"/>
            <a:chOff x="6392880" y="3213000"/>
            <a:chExt cx="936360" cy="677520"/>
          </a:xfrm>
        </p:grpSpPr>
        <p:grpSp>
          <p:nvGrpSpPr>
            <p:cNvPr id="636" name=""/>
            <p:cNvGrpSpPr/>
            <p:nvPr/>
          </p:nvGrpSpPr>
          <p:grpSpPr>
            <a:xfrm>
              <a:off x="6746040" y="3290040"/>
              <a:ext cx="583200" cy="600480"/>
              <a:chOff x="6746040" y="3290040"/>
              <a:chExt cx="583200" cy="600480"/>
            </a:xfrm>
          </p:grpSpPr>
          <p:sp>
            <p:nvSpPr>
              <p:cNvPr id="637" name=""/>
              <p:cNvSpPr/>
              <p:nvPr/>
            </p:nvSpPr>
            <p:spPr>
              <a:xfrm>
                <a:off x="6747840" y="3290040"/>
                <a:ext cx="573480" cy="600480"/>
              </a:xfrm>
              <a:custGeom>
                <a:avLst/>
                <a:gdLst/>
                <a:ahLst/>
                <a:rect l="l" t="t" r="r" b="b"/>
                <a:pathLst>
                  <a:path w="960" h="747">
                    <a:moveTo>
                      <a:pt x="53" y="97"/>
                    </a:moveTo>
                    <a:cubicBezTo>
                      <a:pt x="106" y="22"/>
                      <a:pt x="257" y="14"/>
                      <a:pt x="370" y="7"/>
                    </a:cubicBezTo>
                    <a:cubicBezTo>
                      <a:pt x="483" y="0"/>
                      <a:pt x="673" y="22"/>
                      <a:pt x="733" y="52"/>
                    </a:cubicBezTo>
                    <a:cubicBezTo>
                      <a:pt x="793" y="82"/>
                      <a:pt x="725" y="128"/>
                      <a:pt x="733" y="188"/>
                    </a:cubicBezTo>
                    <a:cubicBezTo>
                      <a:pt x="741" y="248"/>
                      <a:pt x="748" y="347"/>
                      <a:pt x="778" y="415"/>
                    </a:cubicBezTo>
                    <a:cubicBezTo>
                      <a:pt x="808" y="483"/>
                      <a:pt x="960" y="543"/>
                      <a:pt x="915" y="596"/>
                    </a:cubicBezTo>
                    <a:cubicBezTo>
                      <a:pt x="870" y="649"/>
                      <a:pt x="627" y="717"/>
                      <a:pt x="506" y="732"/>
                    </a:cubicBezTo>
                    <a:cubicBezTo>
                      <a:pt x="385" y="747"/>
                      <a:pt x="264" y="732"/>
                      <a:pt x="189" y="687"/>
                    </a:cubicBezTo>
                    <a:cubicBezTo>
                      <a:pt x="114" y="642"/>
                      <a:pt x="76" y="558"/>
                      <a:pt x="53" y="460"/>
                    </a:cubicBezTo>
                    <a:cubicBezTo>
                      <a:pt x="30" y="362"/>
                      <a:pt x="0" y="172"/>
                      <a:pt x="53" y="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746040" y="3314160"/>
                <a:ext cx="583200" cy="552240"/>
              </a:xfrm>
              <a:custGeom>
                <a:avLst/>
                <a:gdLst/>
                <a:ahLst/>
                <a:rect l="l" t="t" r="r" b="b"/>
                <a:pathLst>
                  <a:path w="960" h="747">
                    <a:moveTo>
                      <a:pt x="53" y="97"/>
                    </a:moveTo>
                    <a:cubicBezTo>
                      <a:pt x="106" y="22"/>
                      <a:pt x="257" y="14"/>
                      <a:pt x="370" y="7"/>
                    </a:cubicBezTo>
                    <a:cubicBezTo>
                      <a:pt x="483" y="0"/>
                      <a:pt x="673" y="22"/>
                      <a:pt x="733" y="52"/>
                    </a:cubicBezTo>
                    <a:cubicBezTo>
                      <a:pt x="793" y="82"/>
                      <a:pt x="725" y="128"/>
                      <a:pt x="733" y="188"/>
                    </a:cubicBezTo>
                    <a:cubicBezTo>
                      <a:pt x="741" y="248"/>
                      <a:pt x="748" y="347"/>
                      <a:pt x="778" y="415"/>
                    </a:cubicBezTo>
                    <a:cubicBezTo>
                      <a:pt x="808" y="483"/>
                      <a:pt x="960" y="543"/>
                      <a:pt x="915" y="596"/>
                    </a:cubicBezTo>
                    <a:cubicBezTo>
                      <a:pt x="870" y="649"/>
                      <a:pt x="627" y="717"/>
                      <a:pt x="506" y="732"/>
                    </a:cubicBezTo>
                    <a:cubicBezTo>
                      <a:pt x="385" y="747"/>
                      <a:pt x="264" y="732"/>
                      <a:pt x="189" y="687"/>
                    </a:cubicBezTo>
                    <a:cubicBezTo>
                      <a:pt x="114" y="642"/>
                      <a:pt x="76" y="558"/>
                      <a:pt x="53" y="460"/>
                    </a:cubicBezTo>
                    <a:cubicBezTo>
                      <a:pt x="30" y="362"/>
                      <a:pt x="0" y="172"/>
                      <a:pt x="53" y="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836800">
                <a:off x="6809760" y="3463920"/>
                <a:ext cx="368640" cy="240120"/>
              </a:xfrm>
              <a:prstGeom prst="ellipse">
                <a:avLst/>
              </a:prstGeom>
              <a:solidFill>
                <a:srgbClr val="ffff99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809760" y="3494880"/>
                <a:ext cx="378000" cy="171360"/>
                <a:chOff x="6809760" y="3494880"/>
                <a:chExt cx="378000" cy="171360"/>
              </a:xfrm>
            </p:grpSpPr>
            <p:sp>
              <p:nvSpPr>
                <p:cNvPr id="641" name=""/>
                <p:cNvSpPr/>
                <p:nvPr/>
              </p:nvSpPr>
              <p:spPr>
                <a:xfrm rot="21128400">
                  <a:off x="6811200" y="3567600"/>
                  <a:ext cx="1548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rot="21128400">
                  <a:off x="6822720" y="3539520"/>
                  <a:ext cx="4788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rot="21128400">
                  <a:off x="6820920" y="3638880"/>
                  <a:ext cx="4788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21128400">
                  <a:off x="6865200" y="3610080"/>
                  <a:ext cx="15480" cy="2448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21128400">
                  <a:off x="6829560" y="3588480"/>
                  <a:ext cx="32040" cy="2448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21128400">
                  <a:off x="7150680" y="3571200"/>
                  <a:ext cx="1620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21128400">
                  <a:off x="7143840" y="3522240"/>
                  <a:ext cx="16200" cy="2448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21128400">
                  <a:off x="7169760" y="3593160"/>
                  <a:ext cx="16200" cy="2448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21128400">
                  <a:off x="7156080" y="3495600"/>
                  <a:ext cx="16200" cy="24120"/>
                </a:xfrm>
                <a:prstGeom prst="rect">
                  <a:avLst/>
                </a:pr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21128400">
                  <a:off x="6892920" y="3531240"/>
                  <a:ext cx="32040" cy="1231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6" y="227"/>
                      </a:moveTo>
                      <a:lnTo>
                        <a:pt x="46" y="91"/>
                      </a:lnTo>
                      <a:lnTo>
                        <a:pt x="91" y="91"/>
                      </a:lnTo>
                      <a:lnTo>
                        <a:pt x="91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6" y="227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21128400">
                  <a:off x="6924960" y="3526920"/>
                  <a:ext cx="32040" cy="1231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5" y="91"/>
                      </a:moveTo>
                      <a:lnTo>
                        <a:pt x="45" y="0"/>
                      </a:lnTo>
                      <a:lnTo>
                        <a:pt x="91" y="0"/>
                      </a:lnTo>
                      <a:lnTo>
                        <a:pt x="91" y="227"/>
                      </a:lnTo>
                      <a:lnTo>
                        <a:pt x="45" y="227"/>
                      </a:lnTo>
                      <a:lnTo>
                        <a:pt x="45" y="182"/>
                      </a:lnTo>
                      <a:lnTo>
                        <a:pt x="0" y="182"/>
                      </a:lnTo>
                      <a:lnTo>
                        <a:pt x="0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rot="21128400">
                  <a:off x="7115040" y="3500640"/>
                  <a:ext cx="32040" cy="1231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5" y="91"/>
                      </a:moveTo>
                      <a:lnTo>
                        <a:pt x="45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5" y="227"/>
                      </a:lnTo>
                      <a:lnTo>
                        <a:pt x="45" y="137"/>
                      </a:lnTo>
                      <a:lnTo>
                        <a:pt x="91" y="137"/>
                      </a:lnTo>
                      <a:lnTo>
                        <a:pt x="91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21128400">
                  <a:off x="7051680" y="3508200"/>
                  <a:ext cx="47880" cy="12312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136" y="0"/>
                      </a:move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136" y="227"/>
                      </a:lnTo>
                      <a:lnTo>
                        <a:pt x="136" y="182"/>
                      </a:lnTo>
                      <a:lnTo>
                        <a:pt x="45" y="182"/>
                      </a:lnTo>
                      <a:lnTo>
                        <a:pt x="45" y="46"/>
                      </a:lnTo>
                      <a:lnTo>
                        <a:pt x="136" y="46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21128400">
                  <a:off x="6972120" y="3518280"/>
                  <a:ext cx="64080" cy="122400"/>
                </a:xfrm>
                <a:custGeom>
                  <a:avLst/>
                  <a:gdLst/>
                  <a:ahLst/>
                  <a:rect l="l" t="t" r="r" b="b"/>
                  <a:pathLst>
                    <a:path w="182" h="226">
                      <a:moveTo>
                        <a:pt x="46" y="45"/>
                      </a:moveTo>
                      <a:lnTo>
                        <a:pt x="46" y="90"/>
                      </a:lnTo>
                      <a:lnTo>
                        <a:pt x="136" y="90"/>
                      </a:lnTo>
                      <a:lnTo>
                        <a:pt x="136" y="136"/>
                      </a:lnTo>
                      <a:lnTo>
                        <a:pt x="46" y="136"/>
                      </a:lnTo>
                      <a:lnTo>
                        <a:pt x="46" y="226"/>
                      </a:lnTo>
                      <a:lnTo>
                        <a:pt x="0" y="226"/>
                      </a:lnTo>
                      <a:lnTo>
                        <a:pt x="0" y="0"/>
                      </a:lnTo>
                      <a:lnTo>
                        <a:pt x="182" y="0"/>
                      </a:lnTo>
                      <a:lnTo>
                        <a:pt x="182" y="226"/>
                      </a:lnTo>
                      <a:lnTo>
                        <a:pt x="136" y="226"/>
                      </a:lnTo>
                      <a:lnTo>
                        <a:pt x="136" y="45"/>
                      </a:lnTo>
                      <a:lnTo>
                        <a:pt x="46" y="45"/>
                      </a:lnTo>
                      <a:close/>
                    </a:path>
                  </a:pathLst>
                </a:custGeom>
                <a:solidFill>
                  <a:srgbClr val="ff6600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5" name=""/>
            <p:cNvGrpSpPr/>
            <p:nvPr/>
          </p:nvGrpSpPr>
          <p:grpSpPr>
            <a:xfrm>
              <a:off x="6392880" y="3213000"/>
              <a:ext cx="369000" cy="675720"/>
              <a:chOff x="6392880" y="3213000"/>
              <a:chExt cx="369000" cy="675720"/>
            </a:xfrm>
          </p:grpSpPr>
          <p:sp>
            <p:nvSpPr>
              <p:cNvPr id="656" name=""/>
              <p:cNvSpPr/>
              <p:nvPr/>
            </p:nvSpPr>
            <p:spPr>
              <a:xfrm>
                <a:off x="6408360" y="3243240"/>
                <a:ext cx="338400" cy="614160"/>
              </a:xfrm>
              <a:prstGeom prst="rect">
                <a:avLst/>
              </a:pr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6530400" y="3318480"/>
                <a:ext cx="108720" cy="460080"/>
                <a:chOff x="6530400" y="3318480"/>
                <a:chExt cx="108720" cy="460080"/>
              </a:xfrm>
            </p:grpSpPr>
            <p:sp>
              <p:nvSpPr>
                <p:cNvPr id="658" name=""/>
                <p:cNvSpPr/>
                <p:nvPr/>
              </p:nvSpPr>
              <p:spPr>
                <a:xfrm rot="5400000">
                  <a:off x="6573960" y="3494160"/>
                  <a:ext cx="216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5400000">
                  <a:off x="6552000" y="3735360"/>
                  <a:ext cx="21960" cy="2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5400000">
                  <a:off x="6595560" y="3735360"/>
                  <a:ext cx="21960" cy="2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5400000">
                  <a:off x="6573600" y="3362040"/>
                  <a:ext cx="21600" cy="6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rot="5400000">
                  <a:off x="6540840" y="3483000"/>
                  <a:ext cx="21960" cy="4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rot="5400000">
                  <a:off x="6530040" y="3756600"/>
                  <a:ext cx="2196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rot="5400000">
                  <a:off x="6617520" y="3756960"/>
                  <a:ext cx="21960" cy="2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5400000">
                  <a:off x="6552000" y="3296880"/>
                  <a:ext cx="65520" cy="10872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136" y="0"/>
                      </a:move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136" y="227"/>
                      </a:lnTo>
                      <a:lnTo>
                        <a:pt x="136" y="182"/>
                      </a:lnTo>
                      <a:lnTo>
                        <a:pt x="45" y="182"/>
                      </a:lnTo>
                      <a:lnTo>
                        <a:pt x="45" y="46"/>
                      </a:lnTo>
                      <a:lnTo>
                        <a:pt x="136" y="46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rot="5400000">
                  <a:off x="6540840" y="3417120"/>
                  <a:ext cx="87480" cy="108720"/>
                </a:xfrm>
                <a:custGeom>
                  <a:avLst/>
                  <a:gdLst/>
                  <a:ahLst/>
                  <a:rect l="l" t="t" r="r" b="b"/>
                  <a:pathLst>
                    <a:path w="181" h="227">
                      <a:moveTo>
                        <a:pt x="45" y="91"/>
                      </a:moveTo>
                      <a:lnTo>
                        <a:pt x="45" y="46"/>
                      </a:lnTo>
                      <a:lnTo>
                        <a:pt x="136" y="46"/>
                      </a:lnTo>
                      <a:lnTo>
                        <a:pt x="136" y="91"/>
                      </a:lnTo>
                      <a:lnTo>
                        <a:pt x="181" y="91"/>
                      </a:lnTo>
                      <a:lnTo>
                        <a:pt x="181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5" y="227"/>
                      </a:lnTo>
                      <a:lnTo>
                        <a:pt x="45" y="137"/>
                      </a:lnTo>
                      <a:lnTo>
                        <a:pt x="136" y="137"/>
                      </a:lnTo>
                      <a:lnTo>
                        <a:pt x="136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5400000">
                  <a:off x="6562800" y="3548880"/>
                  <a:ext cx="43920" cy="1087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6" y="227"/>
                      </a:moveTo>
                      <a:lnTo>
                        <a:pt x="46" y="91"/>
                      </a:lnTo>
                      <a:lnTo>
                        <a:pt x="91" y="91"/>
                      </a:lnTo>
                      <a:lnTo>
                        <a:pt x="91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6" y="2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5400000">
                  <a:off x="6562800" y="3592800"/>
                  <a:ext cx="43920" cy="1087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5" y="91"/>
                      </a:moveTo>
                      <a:lnTo>
                        <a:pt x="45" y="0"/>
                      </a:lnTo>
                      <a:lnTo>
                        <a:pt x="91" y="0"/>
                      </a:lnTo>
                      <a:lnTo>
                        <a:pt x="91" y="227"/>
                      </a:lnTo>
                      <a:lnTo>
                        <a:pt x="45" y="227"/>
                      </a:lnTo>
                      <a:lnTo>
                        <a:pt x="45" y="182"/>
                      </a:lnTo>
                      <a:lnTo>
                        <a:pt x="0" y="182"/>
                      </a:lnTo>
                      <a:lnTo>
                        <a:pt x="0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rot="5400000">
                  <a:off x="6562800" y="3658680"/>
                  <a:ext cx="43920" cy="108720"/>
                </a:xfrm>
                <a:custGeom>
                  <a:avLst/>
                  <a:gdLst/>
                  <a:ahLst/>
                  <a:rect l="l" t="t" r="r" b="b"/>
                  <a:pathLst>
                    <a:path w="91" h="227">
                      <a:moveTo>
                        <a:pt x="45" y="91"/>
                      </a:moveTo>
                      <a:lnTo>
                        <a:pt x="45" y="0"/>
                      </a:lnTo>
                      <a:lnTo>
                        <a:pt x="0" y="0"/>
                      </a:lnTo>
                      <a:lnTo>
                        <a:pt x="0" y="227"/>
                      </a:lnTo>
                      <a:lnTo>
                        <a:pt x="45" y="227"/>
                      </a:lnTo>
                      <a:lnTo>
                        <a:pt x="45" y="137"/>
                      </a:lnTo>
                      <a:lnTo>
                        <a:pt x="91" y="137"/>
                      </a:lnTo>
                      <a:lnTo>
                        <a:pt x="91" y="91"/>
                      </a:lnTo>
                      <a:lnTo>
                        <a:pt x="45" y="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6392880" y="3213000"/>
                <a:ext cx="369000" cy="3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392880" y="3857760"/>
                <a:ext cx="369000" cy="3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39680" y="3273840"/>
                <a:ext cx="60840" cy="553320"/>
              </a:xfrm>
              <a:custGeom>
                <a:avLst/>
                <a:gdLst/>
                <a:ahLst/>
                <a:rect l="l" t="t" r="r" b="b"/>
                <a:pathLst>
                  <a:path w="104" h="907">
                    <a:moveTo>
                      <a:pt x="52" y="0"/>
                    </a:moveTo>
                    <a:cubicBezTo>
                      <a:pt x="45" y="0"/>
                      <a:pt x="7" y="129"/>
                      <a:pt x="7" y="227"/>
                    </a:cubicBezTo>
                    <a:cubicBezTo>
                      <a:pt x="7" y="325"/>
                      <a:pt x="52" y="477"/>
                      <a:pt x="52" y="590"/>
                    </a:cubicBezTo>
                    <a:cubicBezTo>
                      <a:pt x="52" y="703"/>
                      <a:pt x="0" y="907"/>
                      <a:pt x="7" y="907"/>
                    </a:cubicBezTo>
                    <a:cubicBezTo>
                      <a:pt x="14" y="907"/>
                      <a:pt x="90" y="703"/>
                      <a:pt x="97" y="590"/>
                    </a:cubicBezTo>
                    <a:cubicBezTo>
                      <a:pt x="104" y="477"/>
                      <a:pt x="59" y="325"/>
                      <a:pt x="52" y="227"/>
                    </a:cubicBezTo>
                    <a:cubicBezTo>
                      <a:pt x="45" y="129"/>
                      <a:pt x="59" y="0"/>
                      <a:pt x="52" y="0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41580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球技でき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265960" y="3068640"/>
            <a:ext cx="827280" cy="1008000"/>
            <a:chOff x="8265960" y="3068640"/>
            <a:chExt cx="827280" cy="1008000"/>
          </a:xfrm>
        </p:grpSpPr>
        <p:grpSp>
          <p:nvGrpSpPr>
            <p:cNvPr id="675" name=""/>
            <p:cNvGrpSpPr/>
            <p:nvPr/>
          </p:nvGrpSpPr>
          <p:grpSpPr>
            <a:xfrm>
              <a:off x="8669160" y="3068640"/>
              <a:ext cx="424080" cy="1008000"/>
              <a:chOff x="8669160" y="3068640"/>
              <a:chExt cx="424080" cy="1008000"/>
            </a:xfrm>
          </p:grpSpPr>
          <p:sp>
            <p:nvSpPr>
              <p:cNvPr id="676" name=""/>
              <p:cNvSpPr/>
              <p:nvPr/>
            </p:nvSpPr>
            <p:spPr>
              <a:xfrm>
                <a:off x="8748000" y="3068640"/>
                <a:ext cx="264960" cy="264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0800000">
                <a:off x="8669160" y="3333960"/>
                <a:ext cx="424080" cy="450720"/>
              </a:xfrm>
              <a:custGeom>
                <a:avLst/>
                <a:gdLst>
                  <a:gd name="textAreaLeft" fmla="*/ 93240 w 424080"/>
                  <a:gd name="textAreaRight" fmla="*/ 330840 w 424080"/>
                  <a:gd name="textAreaTop" fmla="*/ 99360 h 450720"/>
                  <a:gd name="textAreaBottom" fmla="*/ 35136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178" y="21600"/>
                    </a:lnTo>
                    <a:lnTo>
                      <a:pt x="5422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e7474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775360" y="3785040"/>
                <a:ext cx="106560" cy="291600"/>
              </a:xfrm>
              <a:custGeom>
                <a:avLst/>
                <a:gdLst>
                  <a:gd name="textAreaLeft" fmla="*/ 29880 w 106560"/>
                  <a:gd name="textAreaRight" fmla="*/ 76680 w 106560"/>
                  <a:gd name="textAreaTop" fmla="*/ 82440 h 291600"/>
                  <a:gd name="textAreaBottom" fmla="*/ 209160 h 29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767" y="21600"/>
                    </a:lnTo>
                    <a:lnTo>
                      <a:pt x="783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e7474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881560" y="3785040"/>
                <a:ext cx="106200" cy="291600"/>
              </a:xfrm>
              <a:custGeom>
                <a:avLst/>
                <a:gdLst>
                  <a:gd name="textAreaLeft" fmla="*/ 29880 w 106200"/>
                  <a:gd name="textAreaRight" fmla="*/ 76320 w 106200"/>
                  <a:gd name="textAreaTop" fmla="*/ 82440 h 291600"/>
                  <a:gd name="textAreaBottom" fmla="*/ 209160 h 29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767" y="21600"/>
                    </a:lnTo>
                    <a:lnTo>
                      <a:pt x="783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e7474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8265960" y="3068640"/>
              <a:ext cx="424080" cy="1008000"/>
              <a:chOff x="8265960" y="3068640"/>
              <a:chExt cx="424080" cy="1008000"/>
            </a:xfrm>
          </p:grpSpPr>
          <p:sp>
            <p:nvSpPr>
              <p:cNvPr id="681" name=""/>
              <p:cNvSpPr/>
              <p:nvPr/>
            </p:nvSpPr>
            <p:spPr>
              <a:xfrm>
                <a:off x="8345880" y="3068640"/>
                <a:ext cx="264960" cy="2646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acacd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265960" y="3333960"/>
                <a:ext cx="424080" cy="450720"/>
              </a:xfrm>
              <a:custGeom>
                <a:avLst/>
                <a:gdLst>
                  <a:gd name="textAreaLeft" fmla="*/ 82440 w 424080"/>
                  <a:gd name="textAreaRight" fmla="*/ 341640 w 424080"/>
                  <a:gd name="textAreaTop" fmla="*/ 87480 h 450720"/>
                  <a:gd name="textAreaBottom" fmla="*/ 36324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191" y="21600"/>
                    </a:lnTo>
                    <a:lnTo>
                      <a:pt x="440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acacd5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8385120" y="3785040"/>
                <a:ext cx="185400" cy="291600"/>
                <a:chOff x="8385120" y="3785040"/>
                <a:chExt cx="185400" cy="2916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8385120" y="3785040"/>
                  <a:ext cx="79200" cy="29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99"/>
                    </a:gs>
                    <a:gs pos="50000">
                      <a:srgbClr val="acacd5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490960" y="3785040"/>
                  <a:ext cx="79560" cy="29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99"/>
                    </a:gs>
                    <a:gs pos="50000">
                      <a:srgbClr val="acacd5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"/>
          <p:cNvGrpSpPr/>
          <p:nvPr/>
        </p:nvGrpSpPr>
        <p:grpSpPr>
          <a:xfrm>
            <a:off x="8337600" y="4941720"/>
            <a:ext cx="853560" cy="1150920"/>
            <a:chOff x="8337600" y="4941720"/>
            <a:chExt cx="853560" cy="1150920"/>
          </a:xfrm>
        </p:grpSpPr>
        <p:sp>
          <p:nvSpPr>
            <p:cNvPr id="687" name=""/>
            <p:cNvSpPr/>
            <p:nvPr/>
          </p:nvSpPr>
          <p:spPr>
            <a:xfrm>
              <a:off x="8913240" y="4941720"/>
              <a:ext cx="277920" cy="764640"/>
            </a:xfrm>
            <a:custGeom>
              <a:avLst/>
              <a:gdLst/>
              <a:ahLst/>
              <a:rect l="l" t="t" r="r" b="b"/>
              <a:pathLst>
                <a:path w="559" h="1807">
                  <a:moveTo>
                    <a:pt x="53" y="1580"/>
                  </a:moveTo>
                  <a:cubicBezTo>
                    <a:pt x="106" y="1361"/>
                    <a:pt x="340" y="491"/>
                    <a:pt x="415" y="264"/>
                  </a:cubicBezTo>
                  <a:cubicBezTo>
                    <a:pt x="490" y="37"/>
                    <a:pt x="559" y="0"/>
                    <a:pt x="506" y="219"/>
                  </a:cubicBezTo>
                  <a:cubicBezTo>
                    <a:pt x="453" y="438"/>
                    <a:pt x="173" y="1353"/>
                    <a:pt x="98" y="1580"/>
                  </a:cubicBezTo>
                  <a:cubicBezTo>
                    <a:pt x="23" y="1807"/>
                    <a:pt x="0" y="1799"/>
                    <a:pt x="53" y="15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371080" y="5070240"/>
              <a:ext cx="677520" cy="706320"/>
            </a:xfrm>
            <a:custGeom>
              <a:avLst/>
              <a:gdLst/>
              <a:ahLst/>
              <a:rect l="l" t="t" r="r" b="b"/>
              <a:pathLst>
                <a:path w="1466" h="1482">
                  <a:moveTo>
                    <a:pt x="680" y="15"/>
                  </a:moveTo>
                  <a:cubicBezTo>
                    <a:pt x="657" y="8"/>
                    <a:pt x="619" y="0"/>
                    <a:pt x="589" y="15"/>
                  </a:cubicBezTo>
                  <a:cubicBezTo>
                    <a:pt x="559" y="30"/>
                    <a:pt x="522" y="83"/>
                    <a:pt x="499" y="106"/>
                  </a:cubicBezTo>
                  <a:cubicBezTo>
                    <a:pt x="476" y="129"/>
                    <a:pt x="476" y="128"/>
                    <a:pt x="453" y="151"/>
                  </a:cubicBezTo>
                  <a:cubicBezTo>
                    <a:pt x="430" y="174"/>
                    <a:pt x="386" y="204"/>
                    <a:pt x="363" y="242"/>
                  </a:cubicBezTo>
                  <a:cubicBezTo>
                    <a:pt x="340" y="280"/>
                    <a:pt x="347" y="355"/>
                    <a:pt x="317" y="378"/>
                  </a:cubicBezTo>
                  <a:cubicBezTo>
                    <a:pt x="287" y="401"/>
                    <a:pt x="211" y="355"/>
                    <a:pt x="181" y="378"/>
                  </a:cubicBezTo>
                  <a:cubicBezTo>
                    <a:pt x="151" y="401"/>
                    <a:pt x="151" y="484"/>
                    <a:pt x="136" y="514"/>
                  </a:cubicBezTo>
                  <a:cubicBezTo>
                    <a:pt x="121" y="544"/>
                    <a:pt x="106" y="552"/>
                    <a:pt x="91" y="559"/>
                  </a:cubicBezTo>
                  <a:cubicBezTo>
                    <a:pt x="76" y="566"/>
                    <a:pt x="53" y="544"/>
                    <a:pt x="45" y="559"/>
                  </a:cubicBezTo>
                  <a:cubicBezTo>
                    <a:pt x="37" y="574"/>
                    <a:pt x="52" y="620"/>
                    <a:pt x="45" y="650"/>
                  </a:cubicBezTo>
                  <a:cubicBezTo>
                    <a:pt x="38" y="680"/>
                    <a:pt x="0" y="681"/>
                    <a:pt x="0" y="741"/>
                  </a:cubicBezTo>
                  <a:cubicBezTo>
                    <a:pt x="0" y="801"/>
                    <a:pt x="30" y="945"/>
                    <a:pt x="45" y="1013"/>
                  </a:cubicBezTo>
                  <a:cubicBezTo>
                    <a:pt x="60" y="1081"/>
                    <a:pt x="46" y="1089"/>
                    <a:pt x="91" y="1149"/>
                  </a:cubicBezTo>
                  <a:cubicBezTo>
                    <a:pt x="136" y="1209"/>
                    <a:pt x="241" y="1323"/>
                    <a:pt x="317" y="1376"/>
                  </a:cubicBezTo>
                  <a:cubicBezTo>
                    <a:pt x="393" y="1429"/>
                    <a:pt x="484" y="1452"/>
                    <a:pt x="544" y="1467"/>
                  </a:cubicBezTo>
                  <a:cubicBezTo>
                    <a:pt x="604" y="1482"/>
                    <a:pt x="642" y="1467"/>
                    <a:pt x="680" y="1467"/>
                  </a:cubicBezTo>
                  <a:cubicBezTo>
                    <a:pt x="718" y="1467"/>
                    <a:pt x="718" y="1475"/>
                    <a:pt x="771" y="1467"/>
                  </a:cubicBezTo>
                  <a:cubicBezTo>
                    <a:pt x="824" y="1459"/>
                    <a:pt x="922" y="1451"/>
                    <a:pt x="998" y="1421"/>
                  </a:cubicBezTo>
                  <a:cubicBezTo>
                    <a:pt x="1074" y="1391"/>
                    <a:pt x="1180" y="1323"/>
                    <a:pt x="1225" y="1285"/>
                  </a:cubicBezTo>
                  <a:cubicBezTo>
                    <a:pt x="1270" y="1247"/>
                    <a:pt x="1247" y="1224"/>
                    <a:pt x="1270" y="1194"/>
                  </a:cubicBezTo>
                  <a:cubicBezTo>
                    <a:pt x="1293" y="1164"/>
                    <a:pt x="1346" y="1134"/>
                    <a:pt x="1361" y="1104"/>
                  </a:cubicBezTo>
                  <a:cubicBezTo>
                    <a:pt x="1376" y="1074"/>
                    <a:pt x="1354" y="1043"/>
                    <a:pt x="1361" y="1013"/>
                  </a:cubicBezTo>
                  <a:cubicBezTo>
                    <a:pt x="1368" y="983"/>
                    <a:pt x="1391" y="960"/>
                    <a:pt x="1406" y="922"/>
                  </a:cubicBezTo>
                  <a:cubicBezTo>
                    <a:pt x="1421" y="884"/>
                    <a:pt x="1444" y="824"/>
                    <a:pt x="1451" y="786"/>
                  </a:cubicBezTo>
                  <a:cubicBezTo>
                    <a:pt x="1458" y="748"/>
                    <a:pt x="1466" y="718"/>
                    <a:pt x="1451" y="695"/>
                  </a:cubicBezTo>
                  <a:cubicBezTo>
                    <a:pt x="1436" y="672"/>
                    <a:pt x="1391" y="673"/>
                    <a:pt x="1361" y="650"/>
                  </a:cubicBezTo>
                  <a:cubicBezTo>
                    <a:pt x="1331" y="627"/>
                    <a:pt x="1293" y="589"/>
                    <a:pt x="1270" y="559"/>
                  </a:cubicBezTo>
                  <a:cubicBezTo>
                    <a:pt x="1247" y="529"/>
                    <a:pt x="1248" y="499"/>
                    <a:pt x="1225" y="469"/>
                  </a:cubicBezTo>
                  <a:cubicBezTo>
                    <a:pt x="1202" y="439"/>
                    <a:pt x="1149" y="408"/>
                    <a:pt x="1134" y="378"/>
                  </a:cubicBezTo>
                  <a:cubicBezTo>
                    <a:pt x="1119" y="348"/>
                    <a:pt x="1149" y="310"/>
                    <a:pt x="1134" y="287"/>
                  </a:cubicBezTo>
                  <a:cubicBezTo>
                    <a:pt x="1119" y="264"/>
                    <a:pt x="1073" y="265"/>
                    <a:pt x="1043" y="242"/>
                  </a:cubicBezTo>
                  <a:cubicBezTo>
                    <a:pt x="1013" y="219"/>
                    <a:pt x="975" y="159"/>
                    <a:pt x="952" y="151"/>
                  </a:cubicBezTo>
                  <a:cubicBezTo>
                    <a:pt x="929" y="143"/>
                    <a:pt x="922" y="211"/>
                    <a:pt x="907" y="196"/>
                  </a:cubicBezTo>
                  <a:cubicBezTo>
                    <a:pt x="892" y="181"/>
                    <a:pt x="892" y="83"/>
                    <a:pt x="862" y="60"/>
                  </a:cubicBezTo>
                  <a:cubicBezTo>
                    <a:pt x="832" y="37"/>
                    <a:pt x="756" y="67"/>
                    <a:pt x="726" y="60"/>
                  </a:cubicBezTo>
                  <a:cubicBezTo>
                    <a:pt x="696" y="53"/>
                    <a:pt x="703" y="22"/>
                    <a:pt x="680" y="15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8529480" y="5279760"/>
              <a:ext cx="349560" cy="73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ff">
                    <a:alpha val="50196"/>
                  </a:srgbClr>
                </a:gs>
                <a:gs pos="50000">
                  <a:srgbClr val="fefefe"/>
                </a:gs>
                <a:gs pos="100000">
                  <a:srgbClr val="99ccff">
                    <a:alpha val="50196"/>
                  </a:srgbClr>
                </a:gs>
              </a:gsLst>
              <a:lin ang="108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5400000">
              <a:off x="8681760" y="5872320"/>
              <a:ext cx="45000" cy="395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ff">
                    <a:alpha val="50196"/>
                  </a:srgbClr>
                </a:gs>
                <a:gs pos="50000">
                  <a:srgbClr val="fefefe"/>
                </a:gs>
                <a:gs pos="100000">
                  <a:srgbClr val="99ccff">
                    <a:alpha val="50196"/>
                  </a:srgbClr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687160" y="5821920"/>
              <a:ext cx="45000" cy="225720"/>
            </a:xfrm>
            <a:prstGeom prst="rect">
              <a:avLst/>
            </a:prstGeom>
            <a:gradFill rotWithShape="0">
              <a:gsLst>
                <a:gs pos="0">
                  <a:srgbClr val="99ccff">
                    <a:alpha val="50196"/>
                  </a:srgbClr>
                </a:gs>
                <a:gs pos="50000">
                  <a:srgbClr val="f1f7fe"/>
                </a:gs>
                <a:gs pos="100000">
                  <a:srgbClr val="99ccff">
                    <a:alpha val="50196"/>
                  </a:srgbClr>
                </a:gs>
              </a:gsLst>
              <a:lin ang="108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68560" y="5047560"/>
              <a:ext cx="608040" cy="315720"/>
            </a:xfrm>
            <a:custGeom>
              <a:avLst/>
              <a:gdLst/>
              <a:ahLst/>
              <a:rect l="l" t="t" r="r" b="b"/>
              <a:pathLst>
                <a:path w="1189" h="624">
                  <a:moveTo>
                    <a:pt x="630" y="14"/>
                  </a:moveTo>
                  <a:cubicBezTo>
                    <a:pt x="609" y="8"/>
                    <a:pt x="574" y="0"/>
                    <a:pt x="546" y="14"/>
                  </a:cubicBezTo>
                  <a:cubicBezTo>
                    <a:pt x="518" y="29"/>
                    <a:pt x="484" y="80"/>
                    <a:pt x="462" y="102"/>
                  </a:cubicBezTo>
                  <a:cubicBezTo>
                    <a:pt x="441" y="124"/>
                    <a:pt x="441" y="123"/>
                    <a:pt x="420" y="145"/>
                  </a:cubicBezTo>
                  <a:cubicBezTo>
                    <a:pt x="398" y="167"/>
                    <a:pt x="357" y="196"/>
                    <a:pt x="336" y="232"/>
                  </a:cubicBezTo>
                  <a:cubicBezTo>
                    <a:pt x="315" y="268"/>
                    <a:pt x="321" y="340"/>
                    <a:pt x="293" y="362"/>
                  </a:cubicBezTo>
                  <a:cubicBezTo>
                    <a:pt x="265" y="384"/>
                    <a:pt x="195" y="340"/>
                    <a:pt x="167" y="362"/>
                  </a:cubicBezTo>
                  <a:cubicBezTo>
                    <a:pt x="139" y="384"/>
                    <a:pt x="139" y="464"/>
                    <a:pt x="125" y="493"/>
                  </a:cubicBezTo>
                  <a:cubicBezTo>
                    <a:pt x="111" y="522"/>
                    <a:pt x="97" y="529"/>
                    <a:pt x="83" y="536"/>
                  </a:cubicBezTo>
                  <a:cubicBezTo>
                    <a:pt x="70" y="543"/>
                    <a:pt x="48" y="522"/>
                    <a:pt x="41" y="536"/>
                  </a:cubicBezTo>
                  <a:cubicBezTo>
                    <a:pt x="33" y="550"/>
                    <a:pt x="0" y="622"/>
                    <a:pt x="41" y="623"/>
                  </a:cubicBezTo>
                  <a:cubicBezTo>
                    <a:pt x="82" y="624"/>
                    <a:pt x="220" y="552"/>
                    <a:pt x="290" y="545"/>
                  </a:cubicBezTo>
                  <a:cubicBezTo>
                    <a:pt x="360" y="538"/>
                    <a:pt x="398" y="585"/>
                    <a:pt x="464" y="581"/>
                  </a:cubicBezTo>
                  <a:cubicBezTo>
                    <a:pt x="530" y="577"/>
                    <a:pt x="622" y="517"/>
                    <a:pt x="686" y="521"/>
                  </a:cubicBezTo>
                  <a:cubicBezTo>
                    <a:pt x="750" y="525"/>
                    <a:pt x="801" y="608"/>
                    <a:pt x="848" y="605"/>
                  </a:cubicBezTo>
                  <a:cubicBezTo>
                    <a:pt x="895" y="602"/>
                    <a:pt x="931" y="517"/>
                    <a:pt x="968" y="503"/>
                  </a:cubicBezTo>
                  <a:cubicBezTo>
                    <a:pt x="1005" y="489"/>
                    <a:pt x="1035" y="515"/>
                    <a:pt x="1070" y="521"/>
                  </a:cubicBezTo>
                  <a:cubicBezTo>
                    <a:pt x="1105" y="527"/>
                    <a:pt x="1167" y="548"/>
                    <a:pt x="1178" y="536"/>
                  </a:cubicBezTo>
                  <a:cubicBezTo>
                    <a:pt x="1189" y="524"/>
                    <a:pt x="1158" y="478"/>
                    <a:pt x="1136" y="450"/>
                  </a:cubicBezTo>
                  <a:cubicBezTo>
                    <a:pt x="1115" y="421"/>
                    <a:pt x="1066" y="391"/>
                    <a:pt x="1052" y="362"/>
                  </a:cubicBezTo>
                  <a:cubicBezTo>
                    <a:pt x="1038" y="334"/>
                    <a:pt x="1066" y="297"/>
                    <a:pt x="1052" y="275"/>
                  </a:cubicBezTo>
                  <a:cubicBezTo>
                    <a:pt x="1038" y="253"/>
                    <a:pt x="995" y="254"/>
                    <a:pt x="967" y="232"/>
                  </a:cubicBezTo>
                  <a:cubicBezTo>
                    <a:pt x="939" y="210"/>
                    <a:pt x="904" y="152"/>
                    <a:pt x="883" y="145"/>
                  </a:cubicBezTo>
                  <a:cubicBezTo>
                    <a:pt x="861" y="137"/>
                    <a:pt x="855" y="202"/>
                    <a:pt x="841" y="188"/>
                  </a:cubicBezTo>
                  <a:cubicBezTo>
                    <a:pt x="827" y="174"/>
                    <a:pt x="827" y="80"/>
                    <a:pt x="799" y="58"/>
                  </a:cubicBezTo>
                  <a:cubicBezTo>
                    <a:pt x="771" y="35"/>
                    <a:pt x="701" y="64"/>
                    <a:pt x="673" y="58"/>
                  </a:cubicBezTo>
                  <a:cubicBezTo>
                    <a:pt x="645" y="51"/>
                    <a:pt x="652" y="21"/>
                    <a:pt x="630" y="14"/>
                  </a:cubicBezTo>
                  <a:close/>
                </a:path>
              </a:pathLst>
            </a:cu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105600" y="4797360"/>
            <a:ext cx="1439640" cy="1440000"/>
            <a:chOff x="6105600" y="4797360"/>
            <a:chExt cx="1439640" cy="1440000"/>
          </a:xfrm>
        </p:grpSpPr>
        <p:sp>
          <p:nvSpPr>
            <p:cNvPr id="694" name=""/>
            <p:cNvSpPr/>
            <p:nvPr/>
          </p:nvSpPr>
          <p:spPr>
            <a:xfrm>
              <a:off x="6176880" y="4869000"/>
              <a:ext cx="1297080" cy="1296720"/>
            </a:xfrm>
            <a:prstGeom prst="ellipse">
              <a:avLst/>
            </a:prstGeom>
            <a:gradFill rotWithShape="0">
              <a:gsLst>
                <a:gs pos="0">
                  <a:srgbClr val="e4f2f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05600" y="4797360"/>
              <a:ext cx="1439640" cy="1440000"/>
            </a:xfrm>
            <a:prstGeom prst="donut">
              <a:avLst>
                <a:gd name="adj" fmla="val 1047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260760" y="5109480"/>
            <a:ext cx="1127880" cy="842760"/>
            <a:chOff x="6260760" y="5109480"/>
            <a:chExt cx="1127880" cy="842760"/>
          </a:xfrm>
        </p:grpSpPr>
        <p:grpSp>
          <p:nvGrpSpPr>
            <p:cNvPr id="697" name=""/>
            <p:cNvGrpSpPr/>
            <p:nvPr/>
          </p:nvGrpSpPr>
          <p:grpSpPr>
            <a:xfrm>
              <a:off x="6260760" y="5109480"/>
              <a:ext cx="1127880" cy="842760"/>
              <a:chOff x="6260760" y="5109480"/>
              <a:chExt cx="1127880" cy="842760"/>
            </a:xfrm>
          </p:grpSpPr>
          <p:sp>
            <p:nvSpPr>
              <p:cNvPr id="698" name=""/>
              <p:cNvSpPr/>
              <p:nvPr/>
            </p:nvSpPr>
            <p:spPr>
              <a:xfrm rot="20700000">
                <a:off x="6321600" y="5229000"/>
                <a:ext cx="1006200" cy="603000"/>
              </a:xfrm>
              <a:prstGeom prst="roundRect">
                <a:avLst>
                  <a:gd name="adj" fmla="val 5454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e8e8e8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"/>
              <p:cNvGrpSpPr/>
              <p:nvPr/>
            </p:nvGrpSpPr>
            <p:grpSpPr>
              <a:xfrm>
                <a:off x="6414120" y="5499000"/>
                <a:ext cx="180720" cy="165960"/>
                <a:chOff x="6414120" y="5499000"/>
                <a:chExt cx="180720" cy="165960"/>
              </a:xfrm>
            </p:grpSpPr>
            <p:sp>
              <p:nvSpPr>
                <p:cNvPr id="700" name=""/>
                <p:cNvSpPr/>
                <p:nvPr/>
              </p:nvSpPr>
              <p:spPr>
                <a:xfrm rot="20700000">
                  <a:off x="6428160" y="5516640"/>
                  <a:ext cx="151920" cy="130680"/>
                </a:xfrm>
                <a:prstGeom prst="roundRect">
                  <a:avLst>
                    <a:gd name="adj" fmla="val 17847"/>
                  </a:avLst>
                </a:prstGeom>
                <a:gradFill rotWithShape="0">
                  <a:gsLst>
                    <a:gs pos="0">
                      <a:srgbClr val="ffcc66"/>
                    </a:gs>
                    <a:gs pos="50000">
                      <a:srgbClr val="feecca"/>
                    </a:gs>
                    <a:gs pos="100000">
                      <a:srgbClr val="ffcc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rot="20700000">
                  <a:off x="6475680" y="5510160"/>
                  <a:ext cx="101160" cy="110880"/>
                </a:xfrm>
                <a:custGeom>
                  <a:avLst/>
                  <a:gdLst/>
                  <a:ahLst/>
                  <a:rect l="l" t="t" r="r" b="b"/>
                  <a:pathLst>
                    <a:path w="1087" h="1271">
                      <a:moveTo>
                        <a:pt x="271" y="0"/>
                      </a:moveTo>
                      <a:lnTo>
                        <a:pt x="271" y="227"/>
                      </a:lnTo>
                      <a:lnTo>
                        <a:pt x="44" y="227"/>
                      </a:lnTo>
                      <a:lnTo>
                        <a:pt x="0" y="279"/>
                      </a:lnTo>
                      <a:lnTo>
                        <a:pt x="0" y="1219"/>
                      </a:lnTo>
                      <a:lnTo>
                        <a:pt x="56" y="1271"/>
                      </a:lnTo>
                      <a:lnTo>
                        <a:pt x="488" y="1271"/>
                      </a:lnTo>
                      <a:lnTo>
                        <a:pt x="544" y="1219"/>
                      </a:lnTo>
                      <a:lnTo>
                        <a:pt x="543" y="499"/>
                      </a:lnTo>
                      <a:lnTo>
                        <a:pt x="589" y="454"/>
                      </a:lnTo>
                      <a:lnTo>
                        <a:pt x="1087" y="454"/>
                      </a:lnTo>
                    </a:path>
                  </a:pathLst>
                </a:custGeom>
                <a:noFill/>
                <a:ln w="1260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>
                  <a:off x="6438600" y="5617440"/>
                  <a:ext cx="4860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>
                  <a:off x="6431400" y="5590440"/>
                  <a:ext cx="4860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6424200" y="5563800"/>
                  <a:ext cx="4896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6536520" y="5591160"/>
                  <a:ext cx="4860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>
                  <a:off x="6529320" y="5564520"/>
                  <a:ext cx="48600" cy="1296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516000" y="5626080"/>
                  <a:ext cx="5400" cy="19080"/>
                </a:xfrm>
                <a:prstGeom prst="line">
                  <a:avLst/>
                </a:prstGeom>
                <a:ln w="1260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rot="20700000">
                  <a:off x="6475680" y="5510160"/>
                  <a:ext cx="101160" cy="110880"/>
                </a:xfrm>
                <a:custGeom>
                  <a:avLst/>
                  <a:gdLst/>
                  <a:ahLst/>
                  <a:rect l="l" t="t" r="r" b="b"/>
                  <a:pathLst>
                    <a:path w="1087" h="1271">
                      <a:moveTo>
                        <a:pt x="271" y="0"/>
                      </a:moveTo>
                      <a:lnTo>
                        <a:pt x="271" y="227"/>
                      </a:lnTo>
                      <a:lnTo>
                        <a:pt x="44" y="227"/>
                      </a:lnTo>
                      <a:lnTo>
                        <a:pt x="0" y="279"/>
                      </a:lnTo>
                      <a:lnTo>
                        <a:pt x="0" y="1219"/>
                      </a:lnTo>
                      <a:lnTo>
                        <a:pt x="56" y="1271"/>
                      </a:lnTo>
                      <a:lnTo>
                        <a:pt x="488" y="1271"/>
                      </a:lnTo>
                      <a:lnTo>
                        <a:pt x="544" y="1219"/>
                      </a:lnTo>
                      <a:lnTo>
                        <a:pt x="543" y="499"/>
                      </a:lnTo>
                      <a:lnTo>
                        <a:pt x="589" y="454"/>
                      </a:lnTo>
                      <a:lnTo>
                        <a:pt x="1087" y="454"/>
                      </a:lnTo>
                    </a:path>
                  </a:pathLst>
                </a:custGeom>
                <a:noFill/>
                <a:ln w="32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>
                  <a:off x="6438600" y="5617440"/>
                  <a:ext cx="4860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6431400" y="5590440"/>
                  <a:ext cx="4860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>
                  <a:off x="6424200" y="5563800"/>
                  <a:ext cx="4896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6536520" y="5591160"/>
                  <a:ext cx="4860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6529320" y="5564520"/>
                  <a:ext cx="48600" cy="1296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516000" y="5626080"/>
                  <a:ext cx="5400" cy="19080"/>
                </a:xfrm>
                <a:prstGeom prst="line">
                  <a:avLst/>
                </a:prstGeom>
                <a:ln w="32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5" name=""/>
            <p:cNvSpPr/>
            <p:nvPr/>
          </p:nvSpPr>
          <p:spPr>
            <a:xfrm rot="20700000">
              <a:off x="6679440" y="5320080"/>
              <a:ext cx="362520" cy="453240"/>
            </a:xfrm>
            <a:custGeom>
              <a:avLst/>
              <a:gdLst/>
              <a:ahLst/>
              <a:rect l="l" t="t" r="r" b="b"/>
              <a:pathLst>
                <a:path w="726" h="907">
                  <a:moveTo>
                    <a:pt x="363" y="318"/>
                  </a:moveTo>
                  <a:lnTo>
                    <a:pt x="182" y="0"/>
                  </a:lnTo>
                  <a:lnTo>
                    <a:pt x="0" y="0"/>
                  </a:lnTo>
                  <a:lnTo>
                    <a:pt x="273" y="454"/>
                  </a:lnTo>
                  <a:lnTo>
                    <a:pt x="46" y="454"/>
                  </a:lnTo>
                  <a:lnTo>
                    <a:pt x="46" y="590"/>
                  </a:lnTo>
                  <a:lnTo>
                    <a:pt x="273" y="590"/>
                  </a:lnTo>
                  <a:lnTo>
                    <a:pt x="273" y="635"/>
                  </a:lnTo>
                  <a:lnTo>
                    <a:pt x="46" y="635"/>
                  </a:lnTo>
                  <a:lnTo>
                    <a:pt x="46" y="771"/>
                  </a:lnTo>
                  <a:lnTo>
                    <a:pt x="273" y="771"/>
                  </a:lnTo>
                  <a:lnTo>
                    <a:pt x="273" y="907"/>
                  </a:lnTo>
                  <a:lnTo>
                    <a:pt x="454" y="907"/>
                  </a:lnTo>
                  <a:lnTo>
                    <a:pt x="454" y="771"/>
                  </a:lnTo>
                  <a:lnTo>
                    <a:pt x="681" y="771"/>
                  </a:lnTo>
                  <a:lnTo>
                    <a:pt x="681" y="635"/>
                  </a:lnTo>
                  <a:lnTo>
                    <a:pt x="454" y="635"/>
                  </a:lnTo>
                  <a:lnTo>
                    <a:pt x="454" y="590"/>
                  </a:lnTo>
                  <a:lnTo>
                    <a:pt x="681" y="590"/>
                  </a:lnTo>
                  <a:lnTo>
                    <a:pt x="681" y="454"/>
                  </a:lnTo>
                  <a:lnTo>
                    <a:pt x="454" y="454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363" y="3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603252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カード利用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マークいろいろ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8" name=""/>
          <p:cNvSpPr/>
          <p:nvPr/>
        </p:nvSpPr>
        <p:spPr>
          <a:xfrm>
            <a:off x="228924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両替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16088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駐車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16088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メイリオ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歳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90560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カキ氷あり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977240" y="907920"/>
            <a:ext cx="1439640" cy="1440000"/>
            <a:chOff x="7977240" y="907920"/>
            <a:chExt cx="1439640" cy="1440000"/>
          </a:xfrm>
        </p:grpSpPr>
        <p:sp>
          <p:nvSpPr>
            <p:cNvPr id="723" name=""/>
            <p:cNvSpPr/>
            <p:nvPr/>
          </p:nvSpPr>
          <p:spPr>
            <a:xfrm>
              <a:off x="7977240" y="907920"/>
              <a:ext cx="1439640" cy="1440000"/>
            </a:xfrm>
            <a:prstGeom prst="donut">
              <a:avLst>
                <a:gd name="adj" fmla="val 104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93240" y="1268280"/>
              <a:ext cx="934920" cy="747720"/>
            </a:xfrm>
            <a:custGeom>
              <a:avLst/>
              <a:gdLst/>
              <a:ahLst/>
              <a:rect l="l" t="t" r="r" b="b"/>
              <a:pathLst>
                <a:path w="3402" h="2721">
                  <a:moveTo>
                    <a:pt x="408" y="226"/>
                  </a:moveTo>
                  <a:lnTo>
                    <a:pt x="272" y="362"/>
                  </a:lnTo>
                  <a:lnTo>
                    <a:pt x="227" y="453"/>
                  </a:lnTo>
                  <a:lnTo>
                    <a:pt x="0" y="635"/>
                  </a:lnTo>
                  <a:lnTo>
                    <a:pt x="0" y="680"/>
                  </a:lnTo>
                  <a:lnTo>
                    <a:pt x="91" y="771"/>
                  </a:lnTo>
                  <a:lnTo>
                    <a:pt x="317" y="771"/>
                  </a:lnTo>
                  <a:lnTo>
                    <a:pt x="453" y="816"/>
                  </a:lnTo>
                  <a:lnTo>
                    <a:pt x="544" y="997"/>
                  </a:lnTo>
                  <a:lnTo>
                    <a:pt x="726" y="1315"/>
                  </a:lnTo>
                  <a:lnTo>
                    <a:pt x="1088" y="1769"/>
                  </a:lnTo>
                  <a:lnTo>
                    <a:pt x="1270" y="2222"/>
                  </a:lnTo>
                  <a:lnTo>
                    <a:pt x="1270" y="2540"/>
                  </a:lnTo>
                  <a:lnTo>
                    <a:pt x="1088" y="2676"/>
                  </a:lnTo>
                  <a:lnTo>
                    <a:pt x="1088" y="2721"/>
                  </a:lnTo>
                  <a:lnTo>
                    <a:pt x="1406" y="2721"/>
                  </a:lnTo>
                  <a:lnTo>
                    <a:pt x="1451" y="2630"/>
                  </a:lnTo>
                  <a:lnTo>
                    <a:pt x="1497" y="2313"/>
                  </a:lnTo>
                  <a:lnTo>
                    <a:pt x="1315" y="1723"/>
                  </a:lnTo>
                  <a:lnTo>
                    <a:pt x="1769" y="1769"/>
                  </a:lnTo>
                  <a:lnTo>
                    <a:pt x="2132" y="1587"/>
                  </a:lnTo>
                  <a:lnTo>
                    <a:pt x="2268" y="1496"/>
                  </a:lnTo>
                  <a:lnTo>
                    <a:pt x="2676" y="1587"/>
                  </a:lnTo>
                  <a:lnTo>
                    <a:pt x="2948" y="1950"/>
                  </a:lnTo>
                  <a:lnTo>
                    <a:pt x="3220" y="2222"/>
                  </a:lnTo>
                  <a:lnTo>
                    <a:pt x="3266" y="2540"/>
                  </a:lnTo>
                  <a:lnTo>
                    <a:pt x="3130" y="2630"/>
                  </a:lnTo>
                  <a:lnTo>
                    <a:pt x="3175" y="2721"/>
                  </a:lnTo>
                  <a:lnTo>
                    <a:pt x="3311" y="2676"/>
                  </a:lnTo>
                  <a:lnTo>
                    <a:pt x="3402" y="2540"/>
                  </a:lnTo>
                  <a:lnTo>
                    <a:pt x="3356" y="2222"/>
                  </a:lnTo>
                  <a:lnTo>
                    <a:pt x="3356" y="2041"/>
                  </a:lnTo>
                  <a:lnTo>
                    <a:pt x="3220" y="1859"/>
                  </a:lnTo>
                  <a:lnTo>
                    <a:pt x="3175" y="1315"/>
                  </a:lnTo>
                  <a:lnTo>
                    <a:pt x="2994" y="907"/>
                  </a:lnTo>
                  <a:lnTo>
                    <a:pt x="2948" y="816"/>
                  </a:lnTo>
                  <a:lnTo>
                    <a:pt x="2903" y="453"/>
                  </a:lnTo>
                  <a:lnTo>
                    <a:pt x="2767" y="317"/>
                  </a:lnTo>
                  <a:lnTo>
                    <a:pt x="2495" y="272"/>
                  </a:lnTo>
                  <a:lnTo>
                    <a:pt x="2222" y="362"/>
                  </a:lnTo>
                  <a:lnTo>
                    <a:pt x="2132" y="544"/>
                  </a:lnTo>
                  <a:lnTo>
                    <a:pt x="2177" y="725"/>
                  </a:lnTo>
                  <a:lnTo>
                    <a:pt x="2222" y="771"/>
                  </a:lnTo>
                  <a:lnTo>
                    <a:pt x="2404" y="635"/>
                  </a:lnTo>
                  <a:lnTo>
                    <a:pt x="2540" y="589"/>
                  </a:lnTo>
                  <a:lnTo>
                    <a:pt x="2631" y="680"/>
                  </a:lnTo>
                  <a:lnTo>
                    <a:pt x="2449" y="771"/>
                  </a:lnTo>
                  <a:lnTo>
                    <a:pt x="2041" y="816"/>
                  </a:lnTo>
                  <a:lnTo>
                    <a:pt x="1678" y="816"/>
                  </a:lnTo>
                  <a:lnTo>
                    <a:pt x="1134" y="725"/>
                  </a:lnTo>
                  <a:lnTo>
                    <a:pt x="1088" y="498"/>
                  </a:lnTo>
                  <a:lnTo>
                    <a:pt x="1043" y="362"/>
                  </a:lnTo>
                  <a:lnTo>
                    <a:pt x="907" y="272"/>
                  </a:lnTo>
                  <a:lnTo>
                    <a:pt x="771" y="136"/>
                  </a:lnTo>
                  <a:lnTo>
                    <a:pt x="635" y="136"/>
                  </a:lnTo>
                  <a:lnTo>
                    <a:pt x="453" y="0"/>
                  </a:lnTo>
                  <a:lnTo>
                    <a:pt x="453" y="136"/>
                  </a:lnTo>
                  <a:lnTo>
                    <a:pt x="317" y="0"/>
                  </a:lnTo>
                  <a:lnTo>
                    <a:pt x="408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88880" y="907920"/>
            <a:ext cx="1440000" cy="1440000"/>
            <a:chOff x="488880" y="907920"/>
            <a:chExt cx="1440000" cy="1440000"/>
          </a:xfrm>
        </p:grpSpPr>
        <p:sp>
          <p:nvSpPr>
            <p:cNvPr id="726" name=""/>
            <p:cNvSpPr/>
            <p:nvPr/>
          </p:nvSpPr>
          <p:spPr>
            <a:xfrm>
              <a:off x="488880" y="907920"/>
              <a:ext cx="1440000" cy="1440000"/>
            </a:xfrm>
            <a:prstGeom prst="donut">
              <a:avLst>
                <a:gd name="adj" fmla="val 104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704880" y="1035720"/>
              <a:ext cx="1008720" cy="807480"/>
              <a:chOff x="704880" y="1035720"/>
              <a:chExt cx="1008720" cy="807480"/>
            </a:xfrm>
          </p:grpSpPr>
          <p:sp>
            <p:nvSpPr>
              <p:cNvPr id="728" name=""/>
              <p:cNvSpPr/>
              <p:nvPr/>
            </p:nvSpPr>
            <p:spPr>
              <a:xfrm>
                <a:off x="704880" y="1698480"/>
                <a:ext cx="863640" cy="14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585800" y="1698480"/>
                <a:ext cx="54000" cy="14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9309800">
                <a:off x="1396800" y="1014120"/>
                <a:ext cx="142560" cy="612720"/>
              </a:xfrm>
              <a:custGeom>
                <a:avLst/>
                <a:gdLst/>
                <a:ahLst/>
                <a:rect l="l" t="t" r="r" b="b"/>
                <a:pathLst>
                  <a:path w="280" h="499">
                    <a:moveTo>
                      <a:pt x="181" y="0"/>
                    </a:moveTo>
                    <a:cubicBezTo>
                      <a:pt x="166" y="0"/>
                      <a:pt x="0" y="129"/>
                      <a:pt x="0" y="182"/>
                    </a:cubicBezTo>
                    <a:cubicBezTo>
                      <a:pt x="0" y="235"/>
                      <a:pt x="174" y="265"/>
                      <a:pt x="181" y="318"/>
                    </a:cubicBezTo>
                    <a:cubicBezTo>
                      <a:pt x="188" y="371"/>
                      <a:pt x="30" y="499"/>
                      <a:pt x="45" y="499"/>
                    </a:cubicBezTo>
                    <a:cubicBezTo>
                      <a:pt x="60" y="499"/>
                      <a:pt x="264" y="371"/>
                      <a:pt x="272" y="318"/>
                    </a:cubicBezTo>
                    <a:cubicBezTo>
                      <a:pt x="280" y="265"/>
                      <a:pt x="106" y="235"/>
                      <a:pt x="91" y="182"/>
                    </a:cubicBezTo>
                    <a:cubicBezTo>
                      <a:pt x="76" y="129"/>
                      <a:pt x="196" y="0"/>
                      <a:pt x="18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8703800">
                <a:off x="1339560" y="1131480"/>
                <a:ext cx="142920" cy="612720"/>
              </a:xfrm>
              <a:custGeom>
                <a:avLst/>
                <a:gdLst/>
                <a:ahLst/>
                <a:rect l="l" t="t" r="r" b="b"/>
                <a:pathLst>
                  <a:path w="280" h="499">
                    <a:moveTo>
                      <a:pt x="181" y="0"/>
                    </a:moveTo>
                    <a:cubicBezTo>
                      <a:pt x="166" y="0"/>
                      <a:pt x="0" y="129"/>
                      <a:pt x="0" y="182"/>
                    </a:cubicBezTo>
                    <a:cubicBezTo>
                      <a:pt x="0" y="235"/>
                      <a:pt x="174" y="265"/>
                      <a:pt x="181" y="318"/>
                    </a:cubicBezTo>
                    <a:cubicBezTo>
                      <a:pt x="188" y="371"/>
                      <a:pt x="30" y="499"/>
                      <a:pt x="45" y="499"/>
                    </a:cubicBezTo>
                    <a:cubicBezTo>
                      <a:pt x="60" y="499"/>
                      <a:pt x="264" y="371"/>
                      <a:pt x="272" y="318"/>
                    </a:cubicBezTo>
                    <a:cubicBezTo>
                      <a:pt x="280" y="265"/>
                      <a:pt x="106" y="235"/>
                      <a:pt x="91" y="182"/>
                    </a:cubicBezTo>
                    <a:cubicBezTo>
                      <a:pt x="76" y="129"/>
                      <a:pt x="196" y="0"/>
                      <a:pt x="18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2360520" y="907920"/>
            <a:ext cx="1440000" cy="1440000"/>
            <a:chOff x="2360520" y="907920"/>
            <a:chExt cx="1440000" cy="1440000"/>
          </a:xfrm>
        </p:grpSpPr>
        <p:sp>
          <p:nvSpPr>
            <p:cNvPr id="733" name=""/>
            <p:cNvSpPr/>
            <p:nvPr/>
          </p:nvSpPr>
          <p:spPr>
            <a:xfrm>
              <a:off x="2360520" y="907920"/>
              <a:ext cx="1440000" cy="1440000"/>
            </a:xfrm>
            <a:prstGeom prst="donut">
              <a:avLst>
                <a:gd name="adj" fmla="val 104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2773440" y="1075320"/>
              <a:ext cx="689760" cy="1082880"/>
              <a:chOff x="2773440" y="1075320"/>
              <a:chExt cx="689760" cy="1082880"/>
            </a:xfrm>
          </p:grpSpPr>
          <p:sp>
            <p:nvSpPr>
              <p:cNvPr id="735" name=""/>
              <p:cNvSpPr/>
              <p:nvPr/>
            </p:nvSpPr>
            <p:spPr>
              <a:xfrm rot="900000">
                <a:off x="2895120" y="1115640"/>
                <a:ext cx="445680" cy="1001520"/>
              </a:xfrm>
              <a:custGeom>
                <a:avLst/>
                <a:gdLst>
                  <a:gd name="textAreaLeft" fmla="*/ 15840 w 445680"/>
                  <a:gd name="textAreaRight" fmla="*/ 429840 w 445680"/>
                  <a:gd name="textAreaTop" fmla="*/ 15840 h 1001520"/>
                  <a:gd name="textAreaBottom" fmla="*/ 985680 h 1001520"/>
                </a:gdLst>
                <a:ahLst/>
                <a:rect l="textAreaLeft" t="textAreaTop" r="textAreaRight" b="textAreaBottom"/>
                <a:pathLst>
                  <a:path w="21600" h="48517">
                    <a:moveTo>
                      <a:pt x="2678" y="0"/>
                    </a:moveTo>
                    <a:arcTo wR="2678" hR="2678" stAng="16200000" swAng="-5400000"/>
                    <a:lnTo>
                      <a:pt x="0" y="45839"/>
                    </a:lnTo>
                    <a:arcTo wR="2678" hR="2678" stAng="10800000" swAng="-5400000"/>
                    <a:lnTo>
                      <a:pt x="18922" y="48517"/>
                    </a:lnTo>
                    <a:arcTo wR="2678" hR="2678" stAng="5400000" swAng="-5400000"/>
                    <a:lnTo>
                      <a:pt x="21600" y="2678"/>
                    </a:lnTo>
                    <a:arcTo wR="2678" hR="2678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900000">
                <a:off x="2980800" y="1179000"/>
                <a:ext cx="390240" cy="44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2836800" y="1766160"/>
                <a:ext cx="389880" cy="341280"/>
                <a:chOff x="2836800" y="1766160"/>
                <a:chExt cx="389880" cy="341280"/>
              </a:xfrm>
            </p:grpSpPr>
            <p:grpSp>
              <p:nvGrpSpPr>
                <p:cNvPr id="738" name=""/>
                <p:cNvGrpSpPr/>
                <p:nvPr/>
              </p:nvGrpSpPr>
              <p:grpSpPr>
                <a:xfrm>
                  <a:off x="2891160" y="1766160"/>
                  <a:ext cx="335520" cy="139320"/>
                  <a:chOff x="2891160" y="1766160"/>
                  <a:chExt cx="335520" cy="13932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rot="900000">
                    <a:off x="2896560" y="1776960"/>
                    <a:ext cx="90720" cy="550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900000">
                    <a:off x="3013200" y="1808280"/>
                    <a:ext cx="90720" cy="550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rot="900000">
                    <a:off x="3130200" y="1839600"/>
                    <a:ext cx="90720" cy="550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2873520" y="1833480"/>
                  <a:ext cx="335160" cy="138960"/>
                  <a:chOff x="2873520" y="1833480"/>
                  <a:chExt cx="335160" cy="13896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rot="900000">
                    <a:off x="2878920" y="1844280"/>
                    <a:ext cx="90720" cy="54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rot="900000">
                    <a:off x="2995560" y="1875600"/>
                    <a:ext cx="90720" cy="54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900000">
                    <a:off x="3112560" y="1906920"/>
                    <a:ext cx="90720" cy="54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2855160" y="1901160"/>
                  <a:ext cx="335160" cy="138960"/>
                  <a:chOff x="2855160" y="1901160"/>
                  <a:chExt cx="335160" cy="13896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 rot="900000">
                    <a:off x="2860560" y="1911960"/>
                    <a:ext cx="90720" cy="54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rot="900000">
                    <a:off x="2977560" y="1943280"/>
                    <a:ext cx="90720" cy="54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rot="900000">
                    <a:off x="3094200" y="1974600"/>
                    <a:ext cx="90720" cy="54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2836800" y="1968120"/>
                  <a:ext cx="335520" cy="139320"/>
                  <a:chOff x="2836800" y="1968120"/>
                  <a:chExt cx="335520" cy="13932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rot="900000">
                    <a:off x="2842200" y="1978920"/>
                    <a:ext cx="90720" cy="550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rot="900000">
                    <a:off x="2959200" y="2010240"/>
                    <a:ext cx="90720" cy="550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rot="900000">
                    <a:off x="3075840" y="2041560"/>
                    <a:ext cx="90720" cy="550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4" name=""/>
              <p:cNvSpPr/>
              <p:nvPr/>
            </p:nvSpPr>
            <p:spPr>
              <a:xfrm rot="900000">
                <a:off x="3009600" y="1628280"/>
                <a:ext cx="168120" cy="16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2889000" y="1600920"/>
                <a:ext cx="409320" cy="221400"/>
                <a:chOff x="2889000" y="1600920"/>
                <a:chExt cx="409320" cy="221400"/>
              </a:xfrm>
            </p:grpSpPr>
            <p:sp>
              <p:nvSpPr>
                <p:cNvPr id="756" name=""/>
                <p:cNvSpPr/>
                <p:nvPr/>
              </p:nvSpPr>
              <p:spPr>
                <a:xfrm rot="900000">
                  <a:off x="2912400" y="161172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900000">
                  <a:off x="3201840" y="168912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900000">
                  <a:off x="2894400" y="167904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900000">
                  <a:off x="3183840" y="1756440"/>
                  <a:ext cx="9072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0" name=""/>
          <p:cNvGrpSpPr/>
          <p:nvPr/>
        </p:nvGrpSpPr>
        <p:grpSpPr>
          <a:xfrm>
            <a:off x="6105600" y="907920"/>
            <a:ext cx="1439640" cy="1440000"/>
            <a:chOff x="6105600" y="907920"/>
            <a:chExt cx="1439640" cy="1440000"/>
          </a:xfrm>
        </p:grpSpPr>
        <p:sp>
          <p:nvSpPr>
            <p:cNvPr id="761" name=""/>
            <p:cNvSpPr/>
            <p:nvPr/>
          </p:nvSpPr>
          <p:spPr>
            <a:xfrm>
              <a:off x="6105600" y="907920"/>
              <a:ext cx="1439640" cy="1440000"/>
            </a:xfrm>
            <a:prstGeom prst="donut">
              <a:avLst>
                <a:gd name="adj" fmla="val 104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283080" y="1136160"/>
              <a:ext cx="845280" cy="1065600"/>
              <a:chOff x="6283080" y="1136160"/>
              <a:chExt cx="845280" cy="1065600"/>
            </a:xfrm>
          </p:grpSpPr>
          <p:sp>
            <p:nvSpPr>
              <p:cNvPr id="763" name=""/>
              <p:cNvSpPr/>
              <p:nvPr/>
            </p:nvSpPr>
            <p:spPr>
              <a:xfrm rot="900000">
                <a:off x="6317280" y="1770120"/>
                <a:ext cx="667080" cy="351360"/>
              </a:xfrm>
              <a:custGeom>
                <a:avLst/>
                <a:gdLst/>
                <a:ahLst/>
                <a:rect l="l" t="t" r="r" b="b"/>
                <a:pathLst>
                  <a:path w="772" h="311">
                    <a:moveTo>
                      <a:pt x="749" y="46"/>
                    </a:moveTo>
                    <a:cubicBezTo>
                      <a:pt x="726" y="1"/>
                      <a:pt x="507" y="0"/>
                      <a:pt x="386" y="0"/>
                    </a:cubicBezTo>
                    <a:cubicBezTo>
                      <a:pt x="265" y="0"/>
                      <a:pt x="46" y="1"/>
                      <a:pt x="23" y="46"/>
                    </a:cubicBezTo>
                    <a:cubicBezTo>
                      <a:pt x="0" y="91"/>
                      <a:pt x="167" y="235"/>
                      <a:pt x="250" y="273"/>
                    </a:cubicBezTo>
                    <a:cubicBezTo>
                      <a:pt x="333" y="311"/>
                      <a:pt x="439" y="311"/>
                      <a:pt x="522" y="273"/>
                    </a:cubicBezTo>
                    <a:cubicBezTo>
                      <a:pt x="605" y="235"/>
                      <a:pt x="772" y="91"/>
                      <a:pt x="749" y="4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900000">
                <a:off x="6879960" y="1631880"/>
                <a:ext cx="102960" cy="30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900000">
                <a:off x="7004160" y="1132920"/>
                <a:ext cx="51840" cy="56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4232160" y="907920"/>
            <a:ext cx="1440000" cy="1440000"/>
            <a:chOff x="4232160" y="907920"/>
            <a:chExt cx="1440000" cy="1440000"/>
          </a:xfrm>
        </p:grpSpPr>
        <p:sp>
          <p:nvSpPr>
            <p:cNvPr id="767" name=""/>
            <p:cNvSpPr/>
            <p:nvPr/>
          </p:nvSpPr>
          <p:spPr>
            <a:xfrm>
              <a:off x="4232160" y="907920"/>
              <a:ext cx="1440000" cy="1440000"/>
            </a:xfrm>
            <a:prstGeom prst="donut">
              <a:avLst>
                <a:gd name="adj" fmla="val 104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48160" y="1413000"/>
              <a:ext cx="1216080" cy="474480"/>
            </a:xfrm>
            <a:custGeom>
              <a:avLst/>
              <a:gdLst/>
              <a:ahLst/>
              <a:rect l="l" t="t" r="r" b="b"/>
              <a:pathLst>
                <a:path w="1860" h="725">
                  <a:moveTo>
                    <a:pt x="1860" y="317"/>
                  </a:moveTo>
                  <a:lnTo>
                    <a:pt x="1860" y="408"/>
                  </a:lnTo>
                  <a:lnTo>
                    <a:pt x="1406" y="408"/>
                  </a:lnTo>
                  <a:lnTo>
                    <a:pt x="1406" y="453"/>
                  </a:lnTo>
                  <a:lnTo>
                    <a:pt x="1270" y="453"/>
                  </a:lnTo>
                  <a:lnTo>
                    <a:pt x="1089" y="725"/>
                  </a:lnTo>
                  <a:lnTo>
                    <a:pt x="408" y="725"/>
                  </a:lnTo>
                  <a:lnTo>
                    <a:pt x="408" y="589"/>
                  </a:lnTo>
                  <a:lnTo>
                    <a:pt x="0" y="589"/>
                  </a:lnTo>
                  <a:lnTo>
                    <a:pt x="0" y="544"/>
                  </a:lnTo>
                  <a:lnTo>
                    <a:pt x="408" y="544"/>
                  </a:lnTo>
                  <a:lnTo>
                    <a:pt x="408" y="181"/>
                  </a:lnTo>
                  <a:lnTo>
                    <a:pt x="0" y="181"/>
                  </a:lnTo>
                  <a:lnTo>
                    <a:pt x="0" y="136"/>
                  </a:lnTo>
                  <a:lnTo>
                    <a:pt x="408" y="136"/>
                  </a:lnTo>
                  <a:lnTo>
                    <a:pt x="408" y="0"/>
                  </a:lnTo>
                  <a:lnTo>
                    <a:pt x="1089" y="0"/>
                  </a:lnTo>
                  <a:lnTo>
                    <a:pt x="1270" y="272"/>
                  </a:lnTo>
                  <a:lnTo>
                    <a:pt x="1406" y="272"/>
                  </a:lnTo>
                  <a:lnTo>
                    <a:pt x="1406" y="317"/>
                  </a:lnTo>
                  <a:lnTo>
                    <a:pt x="186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88880" y="4797360"/>
            <a:ext cx="1440000" cy="1440000"/>
            <a:chOff x="488880" y="4797360"/>
            <a:chExt cx="1440000" cy="1440000"/>
          </a:xfrm>
        </p:grpSpPr>
        <p:sp>
          <p:nvSpPr>
            <p:cNvPr id="770" name=""/>
            <p:cNvSpPr/>
            <p:nvPr/>
          </p:nvSpPr>
          <p:spPr>
            <a:xfrm>
              <a:off x="488880" y="4797360"/>
              <a:ext cx="1440000" cy="1440000"/>
            </a:xfrm>
            <a:prstGeom prst="donut">
              <a:avLst>
                <a:gd name="adj" fmla="val 104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776160" y="5157720"/>
              <a:ext cx="863280" cy="725400"/>
              <a:chOff x="776160" y="5157720"/>
              <a:chExt cx="863280" cy="72540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1225080" y="5157720"/>
                <a:ext cx="414360" cy="725040"/>
                <a:chOff x="1225080" y="5157720"/>
                <a:chExt cx="414360" cy="7250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1225080" y="5157720"/>
                  <a:ext cx="414360" cy="621720"/>
                </a:xfrm>
                <a:custGeom>
                  <a:avLst/>
                  <a:gdLst/>
                  <a:ahLst/>
                  <a:rect l="l" t="t" r="r" b="b"/>
                  <a:pathLst>
                    <a:path w="544" h="817">
                      <a:moveTo>
                        <a:pt x="0" y="0"/>
                      </a:moveTo>
                      <a:lnTo>
                        <a:pt x="544" y="0"/>
                      </a:lnTo>
                      <a:lnTo>
                        <a:pt x="544" y="817"/>
                      </a:lnTo>
                      <a:lnTo>
                        <a:pt x="408" y="817"/>
                      </a:lnTo>
                      <a:lnTo>
                        <a:pt x="408" y="137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225080" y="5261760"/>
                  <a:ext cx="414360" cy="621000"/>
                </a:xfrm>
                <a:custGeom>
                  <a:avLst/>
                  <a:gdLst/>
                  <a:ahLst/>
                  <a:rect l="l" t="t" r="r" b="b"/>
                  <a:pathLst>
                    <a:path w="544" h="816">
                      <a:moveTo>
                        <a:pt x="0" y="0"/>
                      </a:moveTo>
                      <a:lnTo>
                        <a:pt x="0" y="816"/>
                      </a:lnTo>
                      <a:lnTo>
                        <a:pt x="544" y="816"/>
                      </a:lnTo>
                      <a:lnTo>
                        <a:pt x="544" y="680"/>
                      </a:lnTo>
                      <a:lnTo>
                        <a:pt x="136" y="680"/>
                      </a:lnTo>
                      <a:lnTo>
                        <a:pt x="1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"/>
              <p:cNvSpPr/>
              <p:nvPr/>
            </p:nvSpPr>
            <p:spPr>
              <a:xfrm>
                <a:off x="776160" y="5157720"/>
                <a:ext cx="414360" cy="725400"/>
              </a:xfrm>
              <a:custGeom>
                <a:avLst/>
                <a:gdLst/>
                <a:ahLst/>
                <a:rect l="l" t="t" r="r" b="b"/>
                <a:pathLst>
                  <a:path w="544" h="953">
                    <a:moveTo>
                      <a:pt x="0" y="0"/>
                    </a:moveTo>
                    <a:lnTo>
                      <a:pt x="544" y="0"/>
                    </a:lnTo>
                    <a:lnTo>
                      <a:pt x="544" y="545"/>
                    </a:lnTo>
                    <a:lnTo>
                      <a:pt x="136" y="545"/>
                    </a:lnTo>
                    <a:lnTo>
                      <a:pt x="136" y="817"/>
                    </a:lnTo>
                    <a:lnTo>
                      <a:pt x="544" y="817"/>
                    </a:lnTo>
                    <a:lnTo>
                      <a:pt x="544" y="953"/>
                    </a:lnTo>
                    <a:lnTo>
                      <a:pt x="0" y="953"/>
                    </a:lnTo>
                    <a:lnTo>
                      <a:pt x="0" y="409"/>
                    </a:lnTo>
                    <a:lnTo>
                      <a:pt x="408" y="409"/>
                    </a:lnTo>
                    <a:lnTo>
                      <a:pt x="408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2360520" y="4797360"/>
            <a:ext cx="1440000" cy="1440000"/>
            <a:chOff x="2360520" y="4797360"/>
            <a:chExt cx="1440000" cy="1440000"/>
          </a:xfrm>
        </p:grpSpPr>
        <p:sp>
          <p:nvSpPr>
            <p:cNvPr id="777" name=""/>
            <p:cNvSpPr/>
            <p:nvPr/>
          </p:nvSpPr>
          <p:spPr>
            <a:xfrm>
              <a:off x="2360520" y="4797360"/>
              <a:ext cx="1440000" cy="1440000"/>
            </a:xfrm>
            <a:prstGeom prst="donut">
              <a:avLst>
                <a:gd name="adj" fmla="val 104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2683080" y="5137200"/>
              <a:ext cx="793080" cy="758880"/>
              <a:chOff x="2683080" y="5137200"/>
              <a:chExt cx="793080" cy="758880"/>
            </a:xfrm>
          </p:grpSpPr>
          <p:sp>
            <p:nvSpPr>
              <p:cNvPr id="779" name=""/>
              <p:cNvSpPr/>
              <p:nvPr/>
            </p:nvSpPr>
            <p:spPr>
              <a:xfrm>
                <a:off x="2683080" y="5137200"/>
                <a:ext cx="324720" cy="758880"/>
              </a:xfrm>
              <a:custGeom>
                <a:avLst/>
                <a:gdLst/>
                <a:ahLst/>
                <a:rect l="l" t="t" r="r" b="b"/>
                <a:pathLst>
                  <a:path w="408" h="953">
                    <a:moveTo>
                      <a:pt x="0" y="817"/>
                    </a:moveTo>
                    <a:lnTo>
                      <a:pt x="0" y="953"/>
                    </a:lnTo>
                    <a:lnTo>
                      <a:pt x="408" y="953"/>
                    </a:lnTo>
                    <a:lnTo>
                      <a:pt x="408" y="817"/>
                    </a:lnTo>
                    <a:lnTo>
                      <a:pt x="272" y="817"/>
                    </a:lnTo>
                    <a:lnTo>
                      <a:pt x="272" y="0"/>
                    </a:lnTo>
                    <a:lnTo>
                      <a:pt x="136" y="0"/>
                    </a:lnTo>
                    <a:lnTo>
                      <a:pt x="136" y="137"/>
                    </a:lnTo>
                    <a:lnTo>
                      <a:pt x="0" y="137"/>
                    </a:lnTo>
                    <a:lnTo>
                      <a:pt x="0" y="273"/>
                    </a:lnTo>
                    <a:lnTo>
                      <a:pt x="136" y="273"/>
                    </a:lnTo>
                    <a:lnTo>
                      <a:pt x="136" y="817"/>
                    </a:lnTo>
                    <a:lnTo>
                      <a:pt x="0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" name=""/>
              <p:cNvGrpSpPr/>
              <p:nvPr/>
            </p:nvGrpSpPr>
            <p:grpSpPr>
              <a:xfrm>
                <a:off x="3043440" y="5137200"/>
                <a:ext cx="432720" cy="758880"/>
                <a:chOff x="3043440" y="5137200"/>
                <a:chExt cx="432720" cy="75888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3043440" y="5137200"/>
                  <a:ext cx="432720" cy="650520"/>
                </a:xfrm>
                <a:custGeom>
                  <a:avLst/>
                  <a:gdLst/>
                  <a:ahLst/>
                  <a:rect l="l" t="t" r="r" b="b"/>
                  <a:pathLst>
                    <a:path w="544" h="817">
                      <a:moveTo>
                        <a:pt x="0" y="0"/>
                      </a:moveTo>
                      <a:lnTo>
                        <a:pt x="544" y="0"/>
                      </a:lnTo>
                      <a:lnTo>
                        <a:pt x="544" y="817"/>
                      </a:lnTo>
                      <a:lnTo>
                        <a:pt x="408" y="817"/>
                      </a:lnTo>
                      <a:lnTo>
                        <a:pt x="408" y="137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043440" y="5246280"/>
                  <a:ext cx="432720" cy="649800"/>
                </a:xfrm>
                <a:custGeom>
                  <a:avLst/>
                  <a:gdLst/>
                  <a:ahLst/>
                  <a:rect l="l" t="t" r="r" b="b"/>
                  <a:pathLst>
                    <a:path w="544" h="816">
                      <a:moveTo>
                        <a:pt x="0" y="0"/>
                      </a:moveTo>
                      <a:lnTo>
                        <a:pt x="0" y="816"/>
                      </a:lnTo>
                      <a:lnTo>
                        <a:pt x="544" y="816"/>
                      </a:lnTo>
                      <a:lnTo>
                        <a:pt x="544" y="680"/>
                      </a:lnTo>
                      <a:lnTo>
                        <a:pt x="136" y="680"/>
                      </a:lnTo>
                      <a:lnTo>
                        <a:pt x="1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151440" y="5461920"/>
                  <a:ext cx="21600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4" name=""/>
          <p:cNvSpPr/>
          <p:nvPr/>
        </p:nvSpPr>
        <p:spPr>
          <a:xfrm>
            <a:off x="488880" y="2852640"/>
            <a:ext cx="1440000" cy="1440000"/>
          </a:xfrm>
          <a:prstGeom prst="donut">
            <a:avLst>
              <a:gd name="adj" fmla="val 10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60520" y="2852640"/>
            <a:ext cx="1440000" cy="1440000"/>
          </a:xfrm>
          <a:prstGeom prst="donut">
            <a:avLst>
              <a:gd name="adj" fmla="val 10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232160" y="2852640"/>
            <a:ext cx="1440000" cy="1440000"/>
          </a:xfrm>
          <a:prstGeom prst="donut">
            <a:avLst>
              <a:gd name="adj" fmla="val 10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103800" y="2852640"/>
            <a:ext cx="1440000" cy="1440000"/>
          </a:xfrm>
          <a:prstGeom prst="donut">
            <a:avLst>
              <a:gd name="adj" fmla="val 10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33960" y="4797360"/>
            <a:ext cx="1439640" cy="1440000"/>
          </a:xfrm>
          <a:prstGeom prst="donut">
            <a:avLst>
              <a:gd name="adj" fmla="val 10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977240" y="4797360"/>
            <a:ext cx="1439640" cy="1440000"/>
          </a:xfrm>
          <a:prstGeom prst="donut">
            <a:avLst>
              <a:gd name="adj" fmla="val 10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977240" y="2852640"/>
            <a:ext cx="1439640" cy="1440000"/>
          </a:xfrm>
          <a:prstGeom prst="donut">
            <a:avLst>
              <a:gd name="adj" fmla="val 10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1580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喫煙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8924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携帯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16088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電源有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3396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ゴルフ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905600" y="242100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ペット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1580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２０歳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28924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１８歳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749520" y="3141720"/>
            <a:ext cx="909000" cy="864720"/>
            <a:chOff x="749520" y="3141720"/>
            <a:chExt cx="909000" cy="864720"/>
          </a:xfrm>
        </p:grpSpPr>
        <p:sp>
          <p:nvSpPr>
            <p:cNvPr id="799" name=""/>
            <p:cNvSpPr/>
            <p:nvPr/>
          </p:nvSpPr>
          <p:spPr>
            <a:xfrm>
              <a:off x="1065240" y="3429000"/>
              <a:ext cx="288720" cy="2746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9050000">
              <a:off x="812880" y="323388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5063000">
              <a:off x="694440" y="364392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0800000">
              <a:off x="1057320" y="391608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rot="2549400">
              <a:off x="1320120" y="3246120"/>
              <a:ext cx="288720" cy="90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rot="6537000">
              <a:off x="1423800" y="3655800"/>
              <a:ext cx="289080" cy="910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6160" y="3141720"/>
              <a:ext cx="863640" cy="863640"/>
            </a:xfrm>
            <a:prstGeom prst="donut">
              <a:avLst>
                <a:gd name="adj" fmla="val 238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521240" y="5157720"/>
            <a:ext cx="792000" cy="739800"/>
            <a:chOff x="4521240" y="5157720"/>
            <a:chExt cx="792000" cy="739800"/>
          </a:xfrm>
        </p:grpSpPr>
        <p:sp>
          <p:nvSpPr>
            <p:cNvPr id="807" name=""/>
            <p:cNvSpPr/>
            <p:nvPr/>
          </p:nvSpPr>
          <p:spPr>
            <a:xfrm>
              <a:off x="4521240" y="5157720"/>
              <a:ext cx="328320" cy="73872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817"/>
                  </a:moveTo>
                  <a:lnTo>
                    <a:pt x="0" y="953"/>
                  </a:lnTo>
                  <a:lnTo>
                    <a:pt x="408" y="953"/>
                  </a:lnTo>
                  <a:lnTo>
                    <a:pt x="408" y="817"/>
                  </a:lnTo>
                  <a:lnTo>
                    <a:pt x="272" y="817"/>
                  </a:lnTo>
                  <a:lnTo>
                    <a:pt x="272" y="0"/>
                  </a:lnTo>
                  <a:lnTo>
                    <a:pt x="136" y="0"/>
                  </a:lnTo>
                  <a:lnTo>
                    <a:pt x="136" y="137"/>
                  </a:lnTo>
                  <a:lnTo>
                    <a:pt x="0" y="137"/>
                  </a:lnTo>
                  <a:lnTo>
                    <a:pt x="0" y="273"/>
                  </a:lnTo>
                  <a:lnTo>
                    <a:pt x="136" y="273"/>
                  </a:lnTo>
                  <a:lnTo>
                    <a:pt x="136" y="817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90600" y="5157720"/>
              <a:ext cx="422640" cy="73980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363" y="0"/>
                  </a:moveTo>
                  <a:lnTo>
                    <a:pt x="0" y="0"/>
                  </a:lnTo>
                  <a:lnTo>
                    <a:pt x="0" y="635"/>
                  </a:lnTo>
                  <a:lnTo>
                    <a:pt x="363" y="635"/>
                  </a:lnTo>
                  <a:lnTo>
                    <a:pt x="363" y="272"/>
                  </a:lnTo>
                  <a:lnTo>
                    <a:pt x="91" y="272"/>
                  </a:lnTo>
                  <a:lnTo>
                    <a:pt x="91" y="363"/>
                  </a:lnTo>
                  <a:lnTo>
                    <a:pt x="272" y="363"/>
                  </a:lnTo>
                  <a:lnTo>
                    <a:pt x="272" y="544"/>
                  </a:lnTo>
                  <a:lnTo>
                    <a:pt x="91" y="544"/>
                  </a:lnTo>
                  <a:lnTo>
                    <a:pt x="91" y="91"/>
                  </a:lnTo>
                  <a:lnTo>
                    <a:pt x="363" y="91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649600" y="3164040"/>
            <a:ext cx="890280" cy="888480"/>
            <a:chOff x="2649600" y="3164040"/>
            <a:chExt cx="890280" cy="888480"/>
          </a:xfrm>
        </p:grpSpPr>
        <p:sp>
          <p:nvSpPr>
            <p:cNvPr id="810" name=""/>
            <p:cNvSpPr/>
            <p:nvPr/>
          </p:nvSpPr>
          <p:spPr>
            <a:xfrm>
              <a:off x="2649600" y="3164040"/>
              <a:ext cx="685080" cy="34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93760" y="3574440"/>
              <a:ext cx="340920" cy="340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98960" y="3369240"/>
              <a:ext cx="340920" cy="3409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64" y="7399"/>
                  </a:moveTo>
                  <a:arcTo wR="-5432" hR="-5432" stAng="-8474383" swAng="-8006188"/>
                  <a:lnTo>
                    <a:pt x="9920" y="36"/>
                  </a:lnTo>
                  <a:arcTo wR="10800" hR="10800" stAng="-5680571" swAng="8006188"/>
                  <a:lnTo>
                    <a:pt x="21327" y="19252"/>
                  </a:lnTo>
                  <a:lnTo>
                    <a:pt x="13758" y="20079"/>
                  </a:lnTo>
                  <a:lnTo>
                    <a:pt x="12930" y="125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9900000">
              <a:off x="2719080" y="3506040"/>
              <a:ext cx="348480" cy="3484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64" y="7399"/>
                  </a:moveTo>
                  <a:arcTo wR="-5432" hR="-5432" stAng="-8474383" swAng="-8212766"/>
                  <a:lnTo>
                    <a:pt x="9275" y="108"/>
                  </a:lnTo>
                  <a:arcTo wR="10800" hR="10800" stAng="-5887149" swAng="8212766"/>
                  <a:lnTo>
                    <a:pt x="21327" y="19252"/>
                  </a:lnTo>
                  <a:lnTo>
                    <a:pt x="13758" y="20079"/>
                  </a:lnTo>
                  <a:lnTo>
                    <a:pt x="12930" y="125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2786760" y="3233160"/>
              <a:ext cx="410040" cy="205200"/>
              <a:chOff x="2786760" y="3233160"/>
              <a:chExt cx="410040" cy="205200"/>
            </a:xfrm>
          </p:grpSpPr>
          <p:sp>
            <p:nvSpPr>
              <p:cNvPr id="815" name=""/>
              <p:cNvSpPr/>
              <p:nvPr/>
            </p:nvSpPr>
            <p:spPr>
              <a:xfrm>
                <a:off x="2786760" y="3233160"/>
                <a:ext cx="37800" cy="20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836800" y="3233160"/>
                <a:ext cx="111960" cy="2052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961000" y="3233160"/>
                <a:ext cx="111600" cy="2052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085200" y="3233160"/>
                <a:ext cx="111600" cy="2052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3061440" y="3643920"/>
              <a:ext cx="205200" cy="204840"/>
              <a:chOff x="3061440" y="3643920"/>
              <a:chExt cx="205200" cy="204840"/>
            </a:xfrm>
          </p:grpSpPr>
          <p:sp>
            <p:nvSpPr>
              <p:cNvPr id="820" name=""/>
              <p:cNvSpPr/>
              <p:nvPr/>
            </p:nvSpPr>
            <p:spPr>
              <a:xfrm>
                <a:off x="3061440" y="364392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91" y="136"/>
                    </a:lnTo>
                    <a:lnTo>
                      <a:pt x="91" y="182"/>
                    </a:lnTo>
                    <a:lnTo>
                      <a:pt x="0" y="182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91"/>
                    </a:lnTo>
                    <a:lnTo>
                      <a:pt x="46" y="91"/>
                    </a:lnTo>
                    <a:lnTo>
                      <a:pt x="46" y="45"/>
                    </a:lnTo>
                    <a:lnTo>
                      <a:pt x="136" y="4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32720" y="364392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205080" y="364392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198960" y="3711600"/>
              <a:ext cx="340920" cy="340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3267000" y="3779640"/>
              <a:ext cx="204840" cy="204840"/>
              <a:chOff x="3267000" y="3779640"/>
              <a:chExt cx="204840" cy="204840"/>
            </a:xfrm>
          </p:grpSpPr>
          <p:sp>
            <p:nvSpPr>
              <p:cNvPr id="825" name=""/>
              <p:cNvSpPr/>
              <p:nvPr/>
            </p:nvSpPr>
            <p:spPr>
              <a:xfrm>
                <a:off x="3267000" y="3779640"/>
                <a:ext cx="6120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91" y="136"/>
                    </a:lnTo>
                    <a:lnTo>
                      <a:pt x="91" y="182"/>
                    </a:lnTo>
                    <a:lnTo>
                      <a:pt x="0" y="182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91"/>
                    </a:lnTo>
                    <a:lnTo>
                      <a:pt x="46" y="91"/>
                    </a:lnTo>
                    <a:lnTo>
                      <a:pt x="46" y="45"/>
                    </a:lnTo>
                    <a:lnTo>
                      <a:pt x="136" y="4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338280" y="377964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410280" y="3779640"/>
                <a:ext cx="61560" cy="20484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lnTo>
                      <a:pt x="136" y="0"/>
                    </a:lnTo>
                    <a:lnTo>
                      <a:pt x="136" y="227"/>
                    </a:lnTo>
                    <a:lnTo>
                      <a:pt x="0" y="227"/>
                    </a:lnTo>
                    <a:lnTo>
                      <a:pt x="0" y="45"/>
                    </a:lnTo>
                    <a:lnTo>
                      <a:pt x="46" y="45"/>
                    </a:lnTo>
                    <a:lnTo>
                      <a:pt x="46" y="182"/>
                    </a:lnTo>
                    <a:lnTo>
                      <a:pt x="91" y="182"/>
                    </a:lnTo>
                    <a:lnTo>
                      <a:pt x="9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"/>
          <p:cNvGrpSpPr/>
          <p:nvPr/>
        </p:nvGrpSpPr>
        <p:grpSpPr>
          <a:xfrm>
            <a:off x="4448160" y="3429000"/>
            <a:ext cx="1012680" cy="388800"/>
            <a:chOff x="4448160" y="3429000"/>
            <a:chExt cx="1012680" cy="388800"/>
          </a:xfrm>
        </p:grpSpPr>
        <p:sp>
          <p:nvSpPr>
            <p:cNvPr id="829" name=""/>
            <p:cNvSpPr/>
            <p:nvPr/>
          </p:nvSpPr>
          <p:spPr>
            <a:xfrm>
              <a:off x="4448160" y="3665520"/>
              <a:ext cx="1012680" cy="67680"/>
            </a:xfrm>
            <a:prstGeom prst="roundRect">
              <a:avLst>
                <a:gd name="adj" fmla="val 317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65080" y="3733200"/>
              <a:ext cx="979560" cy="16560"/>
            </a:xfrm>
            <a:prstGeom prst="roundRect">
              <a:avLst>
                <a:gd name="adj" fmla="val 317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65080" y="3429000"/>
              <a:ext cx="979560" cy="236520"/>
            </a:xfrm>
            <a:custGeom>
              <a:avLst/>
              <a:gdLst/>
              <a:ahLst/>
              <a:rect l="l" t="t" r="r" b="b"/>
              <a:pathLst>
                <a:path w="2721" h="635">
                  <a:moveTo>
                    <a:pt x="0" y="635"/>
                  </a:moveTo>
                  <a:lnTo>
                    <a:pt x="0" y="409"/>
                  </a:lnTo>
                  <a:lnTo>
                    <a:pt x="362" y="46"/>
                  </a:lnTo>
                  <a:lnTo>
                    <a:pt x="861" y="0"/>
                  </a:lnTo>
                  <a:lnTo>
                    <a:pt x="1406" y="46"/>
                  </a:lnTo>
                  <a:lnTo>
                    <a:pt x="1995" y="363"/>
                  </a:lnTo>
                  <a:lnTo>
                    <a:pt x="2630" y="499"/>
                  </a:lnTo>
                  <a:lnTo>
                    <a:pt x="2676" y="545"/>
                  </a:lnTo>
                  <a:lnTo>
                    <a:pt x="2721" y="635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98560" y="3632040"/>
              <a:ext cx="185760" cy="185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91200" y="3632040"/>
              <a:ext cx="185760" cy="185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98560" y="3632040"/>
              <a:ext cx="185760" cy="185760"/>
            </a:xfrm>
            <a:prstGeom prst="ellipse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32400" y="366552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91200" y="3632040"/>
              <a:ext cx="185760" cy="185760"/>
            </a:xfrm>
            <a:prstGeom prst="ellipse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25400" y="366552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532400" y="3445920"/>
              <a:ext cx="253080" cy="117720"/>
            </a:xfrm>
            <a:custGeom>
              <a:avLst/>
              <a:gdLst/>
              <a:ahLst/>
              <a:rect l="l" t="t" r="r" b="b"/>
              <a:pathLst>
                <a:path w="680" h="317">
                  <a:moveTo>
                    <a:pt x="680" y="0"/>
                  </a:moveTo>
                  <a:lnTo>
                    <a:pt x="680" y="317"/>
                  </a:lnTo>
                  <a:lnTo>
                    <a:pt x="0" y="272"/>
                  </a:lnTo>
                  <a:lnTo>
                    <a:pt x="227" y="45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02760" y="3445920"/>
              <a:ext cx="303840" cy="117720"/>
            </a:xfrm>
            <a:custGeom>
              <a:avLst/>
              <a:gdLst/>
              <a:ahLst/>
              <a:rect l="l" t="t" r="r" b="b"/>
              <a:pathLst>
                <a:path w="816" h="317">
                  <a:moveTo>
                    <a:pt x="0" y="317"/>
                  </a:moveTo>
                  <a:lnTo>
                    <a:pt x="0" y="0"/>
                  </a:lnTo>
                  <a:lnTo>
                    <a:pt x="499" y="45"/>
                  </a:lnTo>
                  <a:lnTo>
                    <a:pt x="816" y="272"/>
                  </a:lnTo>
                  <a:lnTo>
                    <a:pt x="771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88880" y="3445920"/>
              <a:ext cx="219240" cy="117720"/>
            </a:xfrm>
            <a:custGeom>
              <a:avLst/>
              <a:gdLst/>
              <a:ahLst/>
              <a:rect l="l" t="t" r="r" b="b"/>
              <a:pathLst>
                <a:path w="589" h="317">
                  <a:moveTo>
                    <a:pt x="0" y="0"/>
                  </a:moveTo>
                  <a:lnTo>
                    <a:pt x="453" y="317"/>
                  </a:lnTo>
                  <a:lnTo>
                    <a:pt x="589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4952880" y="3103560"/>
            <a:ext cx="287280" cy="287280"/>
            <a:chOff x="4952880" y="3103560"/>
            <a:chExt cx="287280" cy="287280"/>
          </a:xfrm>
        </p:grpSpPr>
        <p:sp>
          <p:nvSpPr>
            <p:cNvPr id="842" name=""/>
            <p:cNvSpPr/>
            <p:nvPr/>
          </p:nvSpPr>
          <p:spPr>
            <a:xfrm>
              <a:off x="4952880" y="3103560"/>
              <a:ext cx="287280" cy="287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991760" y="3132360"/>
              <a:ext cx="210240" cy="229320"/>
            </a:xfrm>
            <a:custGeom>
              <a:avLst/>
              <a:gdLst/>
              <a:ahLst/>
              <a:rect l="l" t="t" r="r" b="b"/>
              <a:pathLst>
                <a:path w="499" h="545">
                  <a:moveTo>
                    <a:pt x="0" y="545"/>
                  </a:moveTo>
                  <a:lnTo>
                    <a:pt x="90" y="545"/>
                  </a:lnTo>
                  <a:lnTo>
                    <a:pt x="90" y="91"/>
                  </a:lnTo>
                  <a:lnTo>
                    <a:pt x="408" y="91"/>
                  </a:lnTo>
                  <a:lnTo>
                    <a:pt x="408" y="272"/>
                  </a:lnTo>
                  <a:lnTo>
                    <a:pt x="90" y="272"/>
                  </a:lnTo>
                  <a:lnTo>
                    <a:pt x="90" y="363"/>
                  </a:lnTo>
                  <a:lnTo>
                    <a:pt x="408" y="363"/>
                  </a:lnTo>
                  <a:lnTo>
                    <a:pt x="408" y="272"/>
                  </a:lnTo>
                  <a:lnTo>
                    <a:pt x="499" y="272"/>
                  </a:lnTo>
                  <a:lnTo>
                    <a:pt x="499" y="91"/>
                  </a:lnTo>
                  <a:lnTo>
                    <a:pt x="408" y="91"/>
                  </a:lnTo>
                  <a:lnTo>
                    <a:pt x="408" y="0"/>
                  </a:lnTo>
                  <a:lnTo>
                    <a:pt x="0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392880" y="3213000"/>
            <a:ext cx="966600" cy="676440"/>
            <a:chOff x="6392880" y="3213000"/>
            <a:chExt cx="966600" cy="676440"/>
          </a:xfrm>
        </p:grpSpPr>
        <p:sp>
          <p:nvSpPr>
            <p:cNvPr id="845" name=""/>
            <p:cNvSpPr/>
            <p:nvPr/>
          </p:nvSpPr>
          <p:spPr>
            <a:xfrm>
              <a:off x="6407280" y="3244680"/>
              <a:ext cx="338040" cy="613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6522840" y="3336840"/>
              <a:ext cx="108000" cy="460080"/>
              <a:chOff x="6522840" y="3336840"/>
              <a:chExt cx="108000" cy="460080"/>
            </a:xfrm>
          </p:grpSpPr>
          <p:sp>
            <p:nvSpPr>
              <p:cNvPr id="847" name=""/>
              <p:cNvSpPr/>
              <p:nvPr/>
            </p:nvSpPr>
            <p:spPr>
              <a:xfrm rot="5400000">
                <a:off x="6566040" y="3512880"/>
                <a:ext cx="21600" cy="10800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5400000">
                <a:off x="6544080" y="3753720"/>
                <a:ext cx="21960" cy="212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5400000">
                <a:off x="6587640" y="3753720"/>
                <a:ext cx="21960" cy="212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5400000">
                <a:off x="6566040" y="3380760"/>
                <a:ext cx="21600" cy="644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5400000">
                <a:off x="6533280" y="3501720"/>
                <a:ext cx="21960" cy="428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5400000">
                <a:off x="6522840" y="3775320"/>
                <a:ext cx="21960" cy="212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5400000">
                <a:off x="6609240" y="3775320"/>
                <a:ext cx="21960" cy="2124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5400000">
                <a:off x="6544080" y="3315600"/>
                <a:ext cx="65520" cy="1080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182"/>
                    </a:lnTo>
                    <a:lnTo>
                      <a:pt x="45" y="182"/>
                    </a:lnTo>
                    <a:lnTo>
                      <a:pt x="45" y="46"/>
                    </a:lnTo>
                    <a:lnTo>
                      <a:pt x="136" y="4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5400000">
                <a:off x="6532920" y="3435840"/>
                <a:ext cx="87480" cy="108000"/>
              </a:xfrm>
              <a:custGeom>
                <a:avLst/>
                <a:gdLst/>
                <a:ahLst/>
                <a:rect l="l" t="t" r="r" b="b"/>
                <a:pathLst>
                  <a:path w="181" h="227">
                    <a:moveTo>
                      <a:pt x="45" y="91"/>
                    </a:moveTo>
                    <a:lnTo>
                      <a:pt x="45" y="46"/>
                    </a:lnTo>
                    <a:lnTo>
                      <a:pt x="136" y="46"/>
                    </a:lnTo>
                    <a:lnTo>
                      <a:pt x="136" y="91"/>
                    </a:lnTo>
                    <a:lnTo>
                      <a:pt x="181" y="91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7"/>
                    </a:lnTo>
                    <a:lnTo>
                      <a:pt x="136" y="137"/>
                    </a:lnTo>
                    <a:lnTo>
                      <a:pt x="136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5400000">
                <a:off x="6554880" y="3567600"/>
                <a:ext cx="43920" cy="1080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6" y="227"/>
                    </a:moveTo>
                    <a:lnTo>
                      <a:pt x="46" y="91"/>
                    </a:lnTo>
                    <a:lnTo>
                      <a:pt x="91" y="91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6" y="227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5400000">
                <a:off x="6554880" y="3611520"/>
                <a:ext cx="43920" cy="1080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5" y="91"/>
                    </a:moveTo>
                    <a:lnTo>
                      <a:pt x="45" y="0"/>
                    </a:lnTo>
                    <a:lnTo>
                      <a:pt x="91" y="0"/>
                    </a:lnTo>
                    <a:lnTo>
                      <a:pt x="91" y="227"/>
                    </a:lnTo>
                    <a:lnTo>
                      <a:pt x="45" y="227"/>
                    </a:lnTo>
                    <a:lnTo>
                      <a:pt x="45" y="182"/>
                    </a:lnTo>
                    <a:lnTo>
                      <a:pt x="0" y="182"/>
                    </a:lnTo>
                    <a:lnTo>
                      <a:pt x="0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5400000">
                <a:off x="6554880" y="3677400"/>
                <a:ext cx="43920" cy="1080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5" y="91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7"/>
                    </a:lnTo>
                    <a:lnTo>
                      <a:pt x="91" y="137"/>
                    </a:lnTo>
                    <a:lnTo>
                      <a:pt x="91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>
              <a:off x="6777000" y="3305160"/>
              <a:ext cx="582480" cy="552600"/>
            </a:xfrm>
            <a:custGeom>
              <a:avLst/>
              <a:gdLst/>
              <a:ahLst/>
              <a:rect l="l" t="t" r="r" b="b"/>
              <a:pathLst>
                <a:path w="960" h="747">
                  <a:moveTo>
                    <a:pt x="53" y="97"/>
                  </a:moveTo>
                  <a:cubicBezTo>
                    <a:pt x="106" y="22"/>
                    <a:pt x="257" y="14"/>
                    <a:pt x="370" y="7"/>
                  </a:cubicBezTo>
                  <a:cubicBezTo>
                    <a:pt x="483" y="0"/>
                    <a:pt x="673" y="22"/>
                    <a:pt x="733" y="52"/>
                  </a:cubicBezTo>
                  <a:cubicBezTo>
                    <a:pt x="793" y="82"/>
                    <a:pt x="725" y="128"/>
                    <a:pt x="733" y="188"/>
                  </a:cubicBezTo>
                  <a:cubicBezTo>
                    <a:pt x="741" y="248"/>
                    <a:pt x="748" y="347"/>
                    <a:pt x="778" y="415"/>
                  </a:cubicBezTo>
                  <a:cubicBezTo>
                    <a:pt x="808" y="483"/>
                    <a:pt x="960" y="543"/>
                    <a:pt x="915" y="596"/>
                  </a:cubicBezTo>
                  <a:cubicBezTo>
                    <a:pt x="870" y="649"/>
                    <a:pt x="627" y="717"/>
                    <a:pt x="506" y="732"/>
                  </a:cubicBezTo>
                  <a:cubicBezTo>
                    <a:pt x="385" y="747"/>
                    <a:pt x="264" y="732"/>
                    <a:pt x="189" y="687"/>
                  </a:cubicBezTo>
                  <a:cubicBezTo>
                    <a:pt x="114" y="642"/>
                    <a:pt x="76" y="558"/>
                    <a:pt x="53" y="460"/>
                  </a:cubicBezTo>
                  <a:cubicBezTo>
                    <a:pt x="30" y="362"/>
                    <a:pt x="0" y="172"/>
                    <a:pt x="53" y="9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6840360" y="3486960"/>
              <a:ext cx="378360" cy="170640"/>
              <a:chOff x="6840360" y="3486960"/>
              <a:chExt cx="378360" cy="170640"/>
            </a:xfrm>
          </p:grpSpPr>
          <p:sp>
            <p:nvSpPr>
              <p:cNvPr id="861" name=""/>
              <p:cNvSpPr/>
              <p:nvPr/>
            </p:nvSpPr>
            <p:spPr>
              <a:xfrm rot="21128400">
                <a:off x="6841800" y="3559680"/>
                <a:ext cx="1584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1128400">
                <a:off x="6853680" y="3531240"/>
                <a:ext cx="4788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1128400">
                <a:off x="6851520" y="3630240"/>
                <a:ext cx="4788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128400">
                <a:off x="6895800" y="3601440"/>
                <a:ext cx="1584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1128400">
                <a:off x="6860520" y="3580200"/>
                <a:ext cx="3204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1128400">
                <a:off x="7181640" y="3562920"/>
                <a:ext cx="1620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1128400">
                <a:off x="7174800" y="3513960"/>
                <a:ext cx="1620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1128400">
                <a:off x="7200720" y="3584520"/>
                <a:ext cx="1620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1128400">
                <a:off x="7187040" y="3487680"/>
                <a:ext cx="16200" cy="2412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1128400">
                <a:off x="6923520" y="3523320"/>
                <a:ext cx="32040" cy="1224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6" y="227"/>
                    </a:moveTo>
                    <a:lnTo>
                      <a:pt x="46" y="91"/>
                    </a:lnTo>
                    <a:lnTo>
                      <a:pt x="91" y="91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6" y="227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1128400">
                <a:off x="6955560" y="3519000"/>
                <a:ext cx="32040" cy="1224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5" y="91"/>
                    </a:moveTo>
                    <a:lnTo>
                      <a:pt x="45" y="0"/>
                    </a:lnTo>
                    <a:lnTo>
                      <a:pt x="91" y="0"/>
                    </a:lnTo>
                    <a:lnTo>
                      <a:pt x="91" y="227"/>
                    </a:lnTo>
                    <a:lnTo>
                      <a:pt x="45" y="227"/>
                    </a:lnTo>
                    <a:lnTo>
                      <a:pt x="45" y="182"/>
                    </a:lnTo>
                    <a:lnTo>
                      <a:pt x="0" y="182"/>
                    </a:lnTo>
                    <a:lnTo>
                      <a:pt x="0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1128400">
                <a:off x="7146360" y="3492720"/>
                <a:ext cx="32040" cy="122400"/>
              </a:xfrm>
              <a:custGeom>
                <a:avLst/>
                <a:gdLst/>
                <a:ahLst/>
                <a:rect l="l" t="t" r="r" b="b"/>
                <a:pathLst>
                  <a:path w="91" h="227">
                    <a:moveTo>
                      <a:pt x="45" y="91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7"/>
                    </a:lnTo>
                    <a:lnTo>
                      <a:pt x="91" y="137"/>
                    </a:lnTo>
                    <a:lnTo>
                      <a:pt x="91" y="91"/>
                    </a:lnTo>
                    <a:lnTo>
                      <a:pt x="45" y="91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1128400">
                <a:off x="7082280" y="3500280"/>
                <a:ext cx="47880" cy="12240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136" y="0"/>
                    </a:moveTo>
                    <a:lnTo>
                      <a:pt x="0" y="0"/>
                    </a:lnTo>
                    <a:lnTo>
                      <a:pt x="0" y="227"/>
                    </a:lnTo>
                    <a:lnTo>
                      <a:pt x="136" y="227"/>
                    </a:lnTo>
                    <a:lnTo>
                      <a:pt x="136" y="182"/>
                    </a:lnTo>
                    <a:lnTo>
                      <a:pt x="45" y="182"/>
                    </a:lnTo>
                    <a:lnTo>
                      <a:pt x="45" y="46"/>
                    </a:lnTo>
                    <a:lnTo>
                      <a:pt x="136" y="4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1128400">
                <a:off x="7003080" y="3510360"/>
                <a:ext cx="64080" cy="121680"/>
              </a:xfrm>
              <a:custGeom>
                <a:avLst/>
                <a:gdLst/>
                <a:ahLst/>
                <a:rect l="l" t="t" r="r" b="b"/>
                <a:pathLst>
                  <a:path w="182" h="226">
                    <a:moveTo>
                      <a:pt x="46" y="45"/>
                    </a:moveTo>
                    <a:lnTo>
                      <a:pt x="46" y="90"/>
                    </a:lnTo>
                    <a:lnTo>
                      <a:pt x="136" y="90"/>
                    </a:lnTo>
                    <a:lnTo>
                      <a:pt x="136" y="136"/>
                    </a:lnTo>
                    <a:lnTo>
                      <a:pt x="46" y="136"/>
                    </a:lnTo>
                    <a:lnTo>
                      <a:pt x="46" y="226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82" y="0"/>
                    </a:lnTo>
                    <a:lnTo>
                      <a:pt x="182" y="226"/>
                    </a:lnTo>
                    <a:lnTo>
                      <a:pt x="136" y="226"/>
                    </a:lnTo>
                    <a:lnTo>
                      <a:pt x="136" y="45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0000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6392880" y="3213000"/>
              <a:ext cx="368280" cy="3168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9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92880" y="3857760"/>
              <a:ext cx="368280" cy="3168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9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603396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飲食可・持ち込み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1580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球技でき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8265960" y="3068640"/>
            <a:ext cx="828360" cy="1008000"/>
            <a:chOff x="8265960" y="3068640"/>
            <a:chExt cx="828360" cy="1008000"/>
          </a:xfrm>
        </p:grpSpPr>
        <p:grpSp>
          <p:nvGrpSpPr>
            <p:cNvPr id="880" name=""/>
            <p:cNvGrpSpPr/>
            <p:nvPr/>
          </p:nvGrpSpPr>
          <p:grpSpPr>
            <a:xfrm>
              <a:off x="8669880" y="3068640"/>
              <a:ext cx="424440" cy="1008000"/>
              <a:chOff x="8669880" y="3068640"/>
              <a:chExt cx="424440" cy="1008000"/>
            </a:xfrm>
          </p:grpSpPr>
          <p:sp>
            <p:nvSpPr>
              <p:cNvPr id="881" name=""/>
              <p:cNvSpPr/>
              <p:nvPr/>
            </p:nvSpPr>
            <p:spPr>
              <a:xfrm>
                <a:off x="8749080" y="3068640"/>
                <a:ext cx="265320" cy="264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0800000">
                <a:off x="8669880" y="3333960"/>
                <a:ext cx="424440" cy="450720"/>
              </a:xfrm>
              <a:custGeom>
                <a:avLst/>
                <a:gdLst>
                  <a:gd name="textAreaLeft" fmla="*/ 93600 w 424440"/>
                  <a:gd name="textAreaRight" fmla="*/ 330840 w 424440"/>
                  <a:gd name="textAreaTop" fmla="*/ 99360 h 450720"/>
                  <a:gd name="textAreaBottom" fmla="*/ 35136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178" y="21600"/>
                    </a:lnTo>
                    <a:lnTo>
                      <a:pt x="5422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776440" y="3785040"/>
                <a:ext cx="106560" cy="291600"/>
              </a:xfrm>
              <a:custGeom>
                <a:avLst/>
                <a:gdLst>
                  <a:gd name="textAreaLeft" fmla="*/ 29880 w 106560"/>
                  <a:gd name="textAreaRight" fmla="*/ 76680 w 106560"/>
                  <a:gd name="textAreaTop" fmla="*/ 82440 h 291600"/>
                  <a:gd name="textAreaBottom" fmla="*/ 209160 h 29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767" y="21600"/>
                    </a:lnTo>
                    <a:lnTo>
                      <a:pt x="7833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882640" y="3785040"/>
                <a:ext cx="106200" cy="291600"/>
              </a:xfrm>
              <a:custGeom>
                <a:avLst/>
                <a:gdLst>
                  <a:gd name="textAreaLeft" fmla="*/ 29880 w 106200"/>
                  <a:gd name="textAreaRight" fmla="*/ 76320 w 106200"/>
                  <a:gd name="textAreaTop" fmla="*/ 82440 h 291600"/>
                  <a:gd name="textAreaBottom" fmla="*/ 209160 h 29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767" y="21600"/>
                    </a:lnTo>
                    <a:lnTo>
                      <a:pt x="7833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8265960" y="3068640"/>
              <a:ext cx="424440" cy="1008000"/>
              <a:chOff x="8265960" y="3068640"/>
              <a:chExt cx="424440" cy="1008000"/>
            </a:xfrm>
          </p:grpSpPr>
          <p:sp>
            <p:nvSpPr>
              <p:cNvPr id="886" name=""/>
              <p:cNvSpPr/>
              <p:nvPr/>
            </p:nvSpPr>
            <p:spPr>
              <a:xfrm>
                <a:off x="8345880" y="3068640"/>
                <a:ext cx="265320" cy="264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265960" y="3333960"/>
                <a:ext cx="424440" cy="450720"/>
              </a:xfrm>
              <a:custGeom>
                <a:avLst/>
                <a:gdLst>
                  <a:gd name="textAreaLeft" fmla="*/ 82440 w 424440"/>
                  <a:gd name="textAreaRight" fmla="*/ 342000 w 424440"/>
                  <a:gd name="textAreaTop" fmla="*/ 87480 h 450720"/>
                  <a:gd name="textAreaBottom" fmla="*/ 36324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191" y="21600"/>
                    </a:lnTo>
                    <a:lnTo>
                      <a:pt x="440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8385480" y="3785040"/>
                <a:ext cx="185400" cy="291600"/>
                <a:chOff x="8385480" y="3785040"/>
                <a:chExt cx="185400" cy="2916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8385480" y="3785040"/>
                  <a:ext cx="79200" cy="291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8491320" y="3785040"/>
                  <a:ext cx="79560" cy="291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"/>
          <p:cNvSpPr/>
          <p:nvPr/>
        </p:nvSpPr>
        <p:spPr>
          <a:xfrm>
            <a:off x="7905600" y="436572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トイレ使え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8317080" y="5013360"/>
            <a:ext cx="801360" cy="1079280"/>
            <a:chOff x="8317080" y="5013360"/>
            <a:chExt cx="801360" cy="1079280"/>
          </a:xfrm>
        </p:grpSpPr>
        <p:sp>
          <p:nvSpPr>
            <p:cNvPr id="893" name=""/>
            <p:cNvSpPr/>
            <p:nvPr/>
          </p:nvSpPr>
          <p:spPr>
            <a:xfrm>
              <a:off x="8857440" y="5013360"/>
              <a:ext cx="261000" cy="717120"/>
            </a:xfrm>
            <a:custGeom>
              <a:avLst/>
              <a:gdLst/>
              <a:ahLst/>
              <a:rect l="l" t="t" r="r" b="b"/>
              <a:pathLst>
                <a:path w="559" h="1807">
                  <a:moveTo>
                    <a:pt x="53" y="1580"/>
                  </a:moveTo>
                  <a:cubicBezTo>
                    <a:pt x="106" y="1361"/>
                    <a:pt x="340" y="491"/>
                    <a:pt x="415" y="264"/>
                  </a:cubicBezTo>
                  <a:cubicBezTo>
                    <a:pt x="490" y="37"/>
                    <a:pt x="559" y="0"/>
                    <a:pt x="506" y="219"/>
                  </a:cubicBezTo>
                  <a:cubicBezTo>
                    <a:pt x="453" y="438"/>
                    <a:pt x="173" y="1353"/>
                    <a:pt x="98" y="1580"/>
                  </a:cubicBezTo>
                  <a:cubicBezTo>
                    <a:pt x="23" y="1807"/>
                    <a:pt x="0" y="1799"/>
                    <a:pt x="53" y="158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348400" y="5133960"/>
              <a:ext cx="635760" cy="662400"/>
            </a:xfrm>
            <a:custGeom>
              <a:avLst/>
              <a:gdLst/>
              <a:ahLst/>
              <a:rect l="l" t="t" r="r" b="b"/>
              <a:pathLst>
                <a:path w="1466" h="1482">
                  <a:moveTo>
                    <a:pt x="680" y="15"/>
                  </a:moveTo>
                  <a:cubicBezTo>
                    <a:pt x="657" y="8"/>
                    <a:pt x="619" y="0"/>
                    <a:pt x="589" y="15"/>
                  </a:cubicBezTo>
                  <a:cubicBezTo>
                    <a:pt x="559" y="30"/>
                    <a:pt x="522" y="83"/>
                    <a:pt x="499" y="106"/>
                  </a:cubicBezTo>
                  <a:cubicBezTo>
                    <a:pt x="476" y="129"/>
                    <a:pt x="476" y="128"/>
                    <a:pt x="453" y="151"/>
                  </a:cubicBezTo>
                  <a:cubicBezTo>
                    <a:pt x="430" y="174"/>
                    <a:pt x="386" y="204"/>
                    <a:pt x="363" y="242"/>
                  </a:cubicBezTo>
                  <a:cubicBezTo>
                    <a:pt x="340" y="280"/>
                    <a:pt x="347" y="355"/>
                    <a:pt x="317" y="378"/>
                  </a:cubicBezTo>
                  <a:cubicBezTo>
                    <a:pt x="287" y="401"/>
                    <a:pt x="211" y="355"/>
                    <a:pt x="181" y="378"/>
                  </a:cubicBezTo>
                  <a:cubicBezTo>
                    <a:pt x="151" y="401"/>
                    <a:pt x="151" y="484"/>
                    <a:pt x="136" y="514"/>
                  </a:cubicBezTo>
                  <a:cubicBezTo>
                    <a:pt x="121" y="544"/>
                    <a:pt x="106" y="552"/>
                    <a:pt x="91" y="559"/>
                  </a:cubicBezTo>
                  <a:cubicBezTo>
                    <a:pt x="76" y="566"/>
                    <a:pt x="53" y="544"/>
                    <a:pt x="45" y="559"/>
                  </a:cubicBezTo>
                  <a:cubicBezTo>
                    <a:pt x="37" y="574"/>
                    <a:pt x="52" y="620"/>
                    <a:pt x="45" y="650"/>
                  </a:cubicBezTo>
                  <a:cubicBezTo>
                    <a:pt x="38" y="680"/>
                    <a:pt x="0" y="681"/>
                    <a:pt x="0" y="741"/>
                  </a:cubicBezTo>
                  <a:cubicBezTo>
                    <a:pt x="0" y="801"/>
                    <a:pt x="30" y="945"/>
                    <a:pt x="45" y="1013"/>
                  </a:cubicBezTo>
                  <a:cubicBezTo>
                    <a:pt x="60" y="1081"/>
                    <a:pt x="46" y="1089"/>
                    <a:pt x="91" y="1149"/>
                  </a:cubicBezTo>
                  <a:cubicBezTo>
                    <a:pt x="136" y="1209"/>
                    <a:pt x="241" y="1323"/>
                    <a:pt x="317" y="1376"/>
                  </a:cubicBezTo>
                  <a:cubicBezTo>
                    <a:pt x="393" y="1429"/>
                    <a:pt x="484" y="1452"/>
                    <a:pt x="544" y="1467"/>
                  </a:cubicBezTo>
                  <a:cubicBezTo>
                    <a:pt x="604" y="1482"/>
                    <a:pt x="642" y="1467"/>
                    <a:pt x="680" y="1467"/>
                  </a:cubicBezTo>
                  <a:cubicBezTo>
                    <a:pt x="718" y="1467"/>
                    <a:pt x="718" y="1475"/>
                    <a:pt x="771" y="1467"/>
                  </a:cubicBezTo>
                  <a:cubicBezTo>
                    <a:pt x="824" y="1459"/>
                    <a:pt x="922" y="1451"/>
                    <a:pt x="998" y="1421"/>
                  </a:cubicBezTo>
                  <a:cubicBezTo>
                    <a:pt x="1074" y="1391"/>
                    <a:pt x="1180" y="1323"/>
                    <a:pt x="1225" y="1285"/>
                  </a:cubicBezTo>
                  <a:cubicBezTo>
                    <a:pt x="1270" y="1247"/>
                    <a:pt x="1247" y="1224"/>
                    <a:pt x="1270" y="1194"/>
                  </a:cubicBezTo>
                  <a:cubicBezTo>
                    <a:pt x="1293" y="1164"/>
                    <a:pt x="1346" y="1134"/>
                    <a:pt x="1361" y="1104"/>
                  </a:cubicBezTo>
                  <a:cubicBezTo>
                    <a:pt x="1376" y="1074"/>
                    <a:pt x="1354" y="1043"/>
                    <a:pt x="1361" y="1013"/>
                  </a:cubicBezTo>
                  <a:cubicBezTo>
                    <a:pt x="1368" y="983"/>
                    <a:pt x="1391" y="960"/>
                    <a:pt x="1406" y="922"/>
                  </a:cubicBezTo>
                  <a:cubicBezTo>
                    <a:pt x="1421" y="884"/>
                    <a:pt x="1444" y="824"/>
                    <a:pt x="1451" y="786"/>
                  </a:cubicBezTo>
                  <a:cubicBezTo>
                    <a:pt x="1458" y="748"/>
                    <a:pt x="1466" y="718"/>
                    <a:pt x="1451" y="695"/>
                  </a:cubicBezTo>
                  <a:cubicBezTo>
                    <a:pt x="1436" y="672"/>
                    <a:pt x="1391" y="673"/>
                    <a:pt x="1361" y="650"/>
                  </a:cubicBezTo>
                  <a:cubicBezTo>
                    <a:pt x="1331" y="627"/>
                    <a:pt x="1293" y="589"/>
                    <a:pt x="1270" y="559"/>
                  </a:cubicBezTo>
                  <a:cubicBezTo>
                    <a:pt x="1247" y="529"/>
                    <a:pt x="1248" y="499"/>
                    <a:pt x="1225" y="469"/>
                  </a:cubicBezTo>
                  <a:cubicBezTo>
                    <a:pt x="1202" y="439"/>
                    <a:pt x="1149" y="408"/>
                    <a:pt x="1134" y="378"/>
                  </a:cubicBezTo>
                  <a:cubicBezTo>
                    <a:pt x="1119" y="348"/>
                    <a:pt x="1149" y="310"/>
                    <a:pt x="1134" y="287"/>
                  </a:cubicBezTo>
                  <a:cubicBezTo>
                    <a:pt x="1119" y="264"/>
                    <a:pt x="1073" y="265"/>
                    <a:pt x="1043" y="242"/>
                  </a:cubicBezTo>
                  <a:cubicBezTo>
                    <a:pt x="1013" y="219"/>
                    <a:pt x="975" y="159"/>
                    <a:pt x="952" y="151"/>
                  </a:cubicBezTo>
                  <a:cubicBezTo>
                    <a:pt x="929" y="143"/>
                    <a:pt x="922" y="211"/>
                    <a:pt x="907" y="196"/>
                  </a:cubicBezTo>
                  <a:cubicBezTo>
                    <a:pt x="892" y="181"/>
                    <a:pt x="892" y="83"/>
                    <a:pt x="862" y="60"/>
                  </a:cubicBezTo>
                  <a:cubicBezTo>
                    <a:pt x="832" y="37"/>
                    <a:pt x="756" y="67"/>
                    <a:pt x="726" y="60"/>
                  </a:cubicBezTo>
                  <a:cubicBezTo>
                    <a:pt x="696" y="53"/>
                    <a:pt x="703" y="22"/>
                    <a:pt x="68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200000">
              <a:off x="8497440" y="5330160"/>
              <a:ext cx="327600" cy="68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5400000">
              <a:off x="8640000" y="5886000"/>
              <a:ext cx="42120" cy="37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45040" y="5838840"/>
              <a:ext cx="42120" cy="21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45880" y="5112360"/>
              <a:ext cx="570600" cy="296280"/>
            </a:xfrm>
            <a:custGeom>
              <a:avLst/>
              <a:gdLst/>
              <a:ahLst/>
              <a:rect l="l" t="t" r="r" b="b"/>
              <a:pathLst>
                <a:path w="1189" h="624">
                  <a:moveTo>
                    <a:pt x="630" y="14"/>
                  </a:moveTo>
                  <a:cubicBezTo>
                    <a:pt x="609" y="8"/>
                    <a:pt x="574" y="0"/>
                    <a:pt x="546" y="14"/>
                  </a:cubicBezTo>
                  <a:cubicBezTo>
                    <a:pt x="518" y="29"/>
                    <a:pt x="484" y="80"/>
                    <a:pt x="462" y="102"/>
                  </a:cubicBezTo>
                  <a:cubicBezTo>
                    <a:pt x="441" y="124"/>
                    <a:pt x="441" y="123"/>
                    <a:pt x="420" y="145"/>
                  </a:cubicBezTo>
                  <a:cubicBezTo>
                    <a:pt x="398" y="167"/>
                    <a:pt x="357" y="196"/>
                    <a:pt x="336" y="232"/>
                  </a:cubicBezTo>
                  <a:cubicBezTo>
                    <a:pt x="315" y="268"/>
                    <a:pt x="321" y="340"/>
                    <a:pt x="293" y="362"/>
                  </a:cubicBezTo>
                  <a:cubicBezTo>
                    <a:pt x="265" y="384"/>
                    <a:pt x="195" y="340"/>
                    <a:pt x="167" y="362"/>
                  </a:cubicBezTo>
                  <a:cubicBezTo>
                    <a:pt x="139" y="384"/>
                    <a:pt x="139" y="464"/>
                    <a:pt x="125" y="493"/>
                  </a:cubicBezTo>
                  <a:cubicBezTo>
                    <a:pt x="111" y="522"/>
                    <a:pt x="97" y="529"/>
                    <a:pt x="83" y="536"/>
                  </a:cubicBezTo>
                  <a:cubicBezTo>
                    <a:pt x="70" y="543"/>
                    <a:pt x="48" y="522"/>
                    <a:pt x="41" y="536"/>
                  </a:cubicBezTo>
                  <a:cubicBezTo>
                    <a:pt x="33" y="550"/>
                    <a:pt x="0" y="622"/>
                    <a:pt x="41" y="623"/>
                  </a:cubicBezTo>
                  <a:cubicBezTo>
                    <a:pt x="82" y="624"/>
                    <a:pt x="220" y="552"/>
                    <a:pt x="290" y="545"/>
                  </a:cubicBezTo>
                  <a:cubicBezTo>
                    <a:pt x="360" y="538"/>
                    <a:pt x="398" y="585"/>
                    <a:pt x="464" y="581"/>
                  </a:cubicBezTo>
                  <a:cubicBezTo>
                    <a:pt x="530" y="577"/>
                    <a:pt x="622" y="517"/>
                    <a:pt x="686" y="521"/>
                  </a:cubicBezTo>
                  <a:cubicBezTo>
                    <a:pt x="750" y="525"/>
                    <a:pt x="801" y="608"/>
                    <a:pt x="848" y="605"/>
                  </a:cubicBezTo>
                  <a:cubicBezTo>
                    <a:pt x="895" y="602"/>
                    <a:pt x="931" y="517"/>
                    <a:pt x="968" y="503"/>
                  </a:cubicBezTo>
                  <a:cubicBezTo>
                    <a:pt x="1005" y="489"/>
                    <a:pt x="1035" y="515"/>
                    <a:pt x="1070" y="521"/>
                  </a:cubicBezTo>
                  <a:cubicBezTo>
                    <a:pt x="1105" y="527"/>
                    <a:pt x="1167" y="548"/>
                    <a:pt x="1178" y="536"/>
                  </a:cubicBezTo>
                  <a:cubicBezTo>
                    <a:pt x="1189" y="524"/>
                    <a:pt x="1158" y="478"/>
                    <a:pt x="1136" y="450"/>
                  </a:cubicBezTo>
                  <a:cubicBezTo>
                    <a:pt x="1115" y="421"/>
                    <a:pt x="1066" y="391"/>
                    <a:pt x="1052" y="362"/>
                  </a:cubicBezTo>
                  <a:cubicBezTo>
                    <a:pt x="1038" y="334"/>
                    <a:pt x="1066" y="297"/>
                    <a:pt x="1052" y="275"/>
                  </a:cubicBezTo>
                  <a:cubicBezTo>
                    <a:pt x="1038" y="253"/>
                    <a:pt x="995" y="254"/>
                    <a:pt x="967" y="232"/>
                  </a:cubicBezTo>
                  <a:cubicBezTo>
                    <a:pt x="939" y="210"/>
                    <a:pt x="904" y="152"/>
                    <a:pt x="883" y="145"/>
                  </a:cubicBezTo>
                  <a:cubicBezTo>
                    <a:pt x="861" y="137"/>
                    <a:pt x="855" y="202"/>
                    <a:pt x="841" y="188"/>
                  </a:cubicBezTo>
                  <a:cubicBezTo>
                    <a:pt x="827" y="174"/>
                    <a:pt x="827" y="80"/>
                    <a:pt x="799" y="58"/>
                  </a:cubicBezTo>
                  <a:cubicBezTo>
                    <a:pt x="771" y="35"/>
                    <a:pt x="701" y="64"/>
                    <a:pt x="673" y="58"/>
                  </a:cubicBezTo>
                  <a:cubicBezTo>
                    <a:pt x="645" y="51"/>
                    <a:pt x="652" y="21"/>
                    <a:pt x="630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105600" y="4797360"/>
            <a:ext cx="1439640" cy="1440000"/>
          </a:xfrm>
          <a:prstGeom prst="donut">
            <a:avLst>
              <a:gd name="adj" fmla="val 10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6260400" y="5109120"/>
            <a:ext cx="1130040" cy="845280"/>
            <a:chOff x="6260400" y="5109120"/>
            <a:chExt cx="1130040" cy="845280"/>
          </a:xfrm>
        </p:grpSpPr>
        <p:sp>
          <p:nvSpPr>
            <p:cNvPr id="901" name=""/>
            <p:cNvSpPr/>
            <p:nvPr/>
          </p:nvSpPr>
          <p:spPr>
            <a:xfrm rot="20700000">
              <a:off x="6321240" y="5229360"/>
              <a:ext cx="1008000" cy="604800"/>
            </a:xfrm>
            <a:prstGeom prst="roundRect">
              <a:avLst>
                <a:gd name="adj" fmla="val 545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700000">
              <a:off x="6643800" y="5304600"/>
              <a:ext cx="363240" cy="454680"/>
            </a:xfrm>
            <a:custGeom>
              <a:avLst/>
              <a:gdLst/>
              <a:ahLst/>
              <a:rect l="l" t="t" r="r" b="b"/>
              <a:pathLst>
                <a:path w="726" h="907">
                  <a:moveTo>
                    <a:pt x="363" y="318"/>
                  </a:moveTo>
                  <a:lnTo>
                    <a:pt x="182" y="0"/>
                  </a:lnTo>
                  <a:lnTo>
                    <a:pt x="0" y="0"/>
                  </a:lnTo>
                  <a:lnTo>
                    <a:pt x="273" y="454"/>
                  </a:lnTo>
                  <a:lnTo>
                    <a:pt x="46" y="454"/>
                  </a:lnTo>
                  <a:lnTo>
                    <a:pt x="46" y="590"/>
                  </a:lnTo>
                  <a:lnTo>
                    <a:pt x="273" y="590"/>
                  </a:lnTo>
                  <a:lnTo>
                    <a:pt x="273" y="635"/>
                  </a:lnTo>
                  <a:lnTo>
                    <a:pt x="46" y="635"/>
                  </a:lnTo>
                  <a:lnTo>
                    <a:pt x="46" y="771"/>
                  </a:lnTo>
                  <a:lnTo>
                    <a:pt x="273" y="771"/>
                  </a:lnTo>
                  <a:lnTo>
                    <a:pt x="273" y="907"/>
                  </a:lnTo>
                  <a:lnTo>
                    <a:pt x="454" y="907"/>
                  </a:lnTo>
                  <a:lnTo>
                    <a:pt x="454" y="771"/>
                  </a:lnTo>
                  <a:lnTo>
                    <a:pt x="681" y="771"/>
                  </a:lnTo>
                  <a:lnTo>
                    <a:pt x="681" y="635"/>
                  </a:lnTo>
                  <a:lnTo>
                    <a:pt x="454" y="635"/>
                  </a:lnTo>
                  <a:lnTo>
                    <a:pt x="454" y="590"/>
                  </a:lnTo>
                  <a:lnTo>
                    <a:pt x="681" y="590"/>
                  </a:lnTo>
                  <a:lnTo>
                    <a:pt x="681" y="454"/>
                  </a:lnTo>
                  <a:lnTo>
                    <a:pt x="454" y="454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363" y="3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032520" y="6308640"/>
            <a:ext cx="15843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カード利用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/>
  <dcterms:modified xsi:type="dcterms:W3CDTF">2011-08-11T05:11:51Z</dcterms:modified>
  <cp:revision>27</cp:revision>
  <dc:subject>PPT071_マークいろいろ</dc:subject>
  <dc:title>PPT071_マークいろいろ</dc:title>
</cp:coreProperties>
</file>